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CB1D-DCEE-4AE1-9DBB-B8E372750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7D77-09D6-440E-B543-F261AF2F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D992-AA58-4F6B-9541-61E34A63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3468-DE52-4687-8020-D6F5F9705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0DCB-3C39-4387-B876-52046688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4CB1-B8E9-4D1E-A0B0-C25F2572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2E95-4151-42DE-AF21-97A8662D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7150-1943-421D-B7E2-515A58A1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EF02-3F94-4AF5-9D38-99C49D76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923A-8154-4722-9541-4359BE9C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87C5-AB56-4267-9D37-19A66D13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B36B-995B-4DF9-A05B-94C0718C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E655-4B22-400A-A168-2D6D0BC35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9960" y="1920960"/>
            <a:ext cx="3730680" cy="4629240"/>
          </a:xfrm>
          <a:custGeom>
            <a:avLst/>
            <a:gdLst/>
            <a:ahLst/>
            <a:rect l="l" t="t" r="r" b="b"/>
            <a:pathLst>
              <a:path w="2350" h="2916">
                <a:moveTo>
                  <a:pt x="1022" y="179"/>
                </a:moveTo>
                <a:cubicBezTo>
                  <a:pt x="1074" y="144"/>
                  <a:pt x="1118" y="96"/>
                  <a:pt x="1178" y="72"/>
                </a:cubicBezTo>
                <a:cubicBezTo>
                  <a:pt x="1195" y="65"/>
                  <a:pt x="1316" y="41"/>
                  <a:pt x="1326" y="39"/>
                </a:cubicBezTo>
                <a:cubicBezTo>
                  <a:pt x="1384" y="42"/>
                  <a:pt x="1465" y="0"/>
                  <a:pt x="1499" y="47"/>
                </a:cubicBezTo>
                <a:cubicBezTo>
                  <a:pt x="1542" y="107"/>
                  <a:pt x="1482" y="323"/>
                  <a:pt x="1458" y="409"/>
                </a:cubicBezTo>
                <a:cubicBezTo>
                  <a:pt x="1568" y="424"/>
                  <a:pt x="1472" y="419"/>
                  <a:pt x="1638" y="384"/>
                </a:cubicBezTo>
                <a:cubicBezTo>
                  <a:pt x="1964" y="316"/>
                  <a:pt x="1888" y="326"/>
                  <a:pt x="2107" y="310"/>
                </a:cubicBezTo>
                <a:cubicBezTo>
                  <a:pt x="2126" y="305"/>
                  <a:pt x="2159" y="275"/>
                  <a:pt x="2164" y="294"/>
                </a:cubicBezTo>
                <a:cubicBezTo>
                  <a:pt x="2176" y="342"/>
                  <a:pt x="2073" y="424"/>
                  <a:pt x="2049" y="442"/>
                </a:cubicBezTo>
                <a:cubicBezTo>
                  <a:pt x="1996" y="482"/>
                  <a:pt x="1940" y="519"/>
                  <a:pt x="1885" y="557"/>
                </a:cubicBezTo>
                <a:cubicBezTo>
                  <a:pt x="1875" y="564"/>
                  <a:pt x="1840" y="573"/>
                  <a:pt x="1852" y="573"/>
                </a:cubicBezTo>
                <a:cubicBezTo>
                  <a:pt x="1885" y="573"/>
                  <a:pt x="1918" y="562"/>
                  <a:pt x="1951" y="557"/>
                </a:cubicBezTo>
                <a:cubicBezTo>
                  <a:pt x="2105" y="565"/>
                  <a:pt x="2135" y="544"/>
                  <a:pt x="2230" y="656"/>
                </a:cubicBezTo>
                <a:cubicBezTo>
                  <a:pt x="2350" y="969"/>
                  <a:pt x="2004" y="1051"/>
                  <a:pt x="1803" y="1190"/>
                </a:cubicBezTo>
                <a:cubicBezTo>
                  <a:pt x="1797" y="1199"/>
                  <a:pt x="1731" y="1281"/>
                  <a:pt x="1737" y="1313"/>
                </a:cubicBezTo>
                <a:cubicBezTo>
                  <a:pt x="1766" y="1475"/>
                  <a:pt x="2062" y="1621"/>
                  <a:pt x="2148" y="1683"/>
                </a:cubicBezTo>
                <a:cubicBezTo>
                  <a:pt x="2173" y="1701"/>
                  <a:pt x="2222" y="1740"/>
                  <a:pt x="2222" y="1740"/>
                </a:cubicBezTo>
                <a:cubicBezTo>
                  <a:pt x="2233" y="1806"/>
                  <a:pt x="2242" y="1845"/>
                  <a:pt x="2222" y="1921"/>
                </a:cubicBezTo>
                <a:cubicBezTo>
                  <a:pt x="2191" y="2036"/>
                  <a:pt x="2054" y="2100"/>
                  <a:pt x="1951" y="2127"/>
                </a:cubicBezTo>
                <a:cubicBezTo>
                  <a:pt x="1761" y="2176"/>
                  <a:pt x="1579" y="2164"/>
                  <a:pt x="1425" y="2299"/>
                </a:cubicBezTo>
                <a:cubicBezTo>
                  <a:pt x="1386" y="2514"/>
                  <a:pt x="1633" y="2573"/>
                  <a:pt x="1778" y="2653"/>
                </a:cubicBezTo>
                <a:cubicBezTo>
                  <a:pt x="1829" y="2681"/>
                  <a:pt x="1882" y="2707"/>
                  <a:pt x="1934" y="2735"/>
                </a:cubicBezTo>
                <a:cubicBezTo>
                  <a:pt x="1959" y="2748"/>
                  <a:pt x="2008" y="2776"/>
                  <a:pt x="2008" y="2776"/>
                </a:cubicBezTo>
                <a:cubicBezTo>
                  <a:pt x="1945" y="2822"/>
                  <a:pt x="1852" y="2816"/>
                  <a:pt x="1778" y="2825"/>
                </a:cubicBezTo>
                <a:cubicBezTo>
                  <a:pt x="1501" y="2794"/>
                  <a:pt x="1226" y="2753"/>
                  <a:pt x="948" y="2735"/>
                </a:cubicBezTo>
                <a:cubicBezTo>
                  <a:pt x="901" y="2743"/>
                  <a:pt x="853" y="2746"/>
                  <a:pt x="808" y="2759"/>
                </a:cubicBezTo>
                <a:cubicBezTo>
                  <a:pt x="722" y="2784"/>
                  <a:pt x="645" y="2842"/>
                  <a:pt x="562" y="2874"/>
                </a:cubicBezTo>
                <a:cubicBezTo>
                  <a:pt x="463" y="2912"/>
                  <a:pt x="425" y="2908"/>
                  <a:pt x="323" y="2916"/>
                </a:cubicBezTo>
                <a:cubicBezTo>
                  <a:pt x="282" y="2888"/>
                  <a:pt x="235" y="2868"/>
                  <a:pt x="200" y="2833"/>
                </a:cubicBezTo>
                <a:cubicBezTo>
                  <a:pt x="88" y="2720"/>
                  <a:pt x="270" y="2593"/>
                  <a:pt x="356" y="2554"/>
                </a:cubicBezTo>
                <a:cubicBezTo>
                  <a:pt x="460" y="2507"/>
                  <a:pt x="778" y="2408"/>
                  <a:pt x="874" y="2340"/>
                </a:cubicBezTo>
                <a:cubicBezTo>
                  <a:pt x="942" y="2292"/>
                  <a:pt x="957" y="2256"/>
                  <a:pt x="997" y="2192"/>
                </a:cubicBezTo>
                <a:cubicBezTo>
                  <a:pt x="1012" y="2098"/>
                  <a:pt x="1001" y="2091"/>
                  <a:pt x="899" y="2085"/>
                </a:cubicBezTo>
                <a:cubicBezTo>
                  <a:pt x="699" y="2073"/>
                  <a:pt x="499" y="2065"/>
                  <a:pt x="299" y="2053"/>
                </a:cubicBezTo>
                <a:cubicBezTo>
                  <a:pt x="194" y="2023"/>
                  <a:pt x="118" y="2001"/>
                  <a:pt x="36" y="1929"/>
                </a:cubicBezTo>
                <a:cubicBezTo>
                  <a:pt x="19" y="1896"/>
                  <a:pt x="0" y="1870"/>
                  <a:pt x="3" y="1831"/>
                </a:cubicBezTo>
                <a:cubicBezTo>
                  <a:pt x="7" y="1784"/>
                  <a:pt x="13" y="1736"/>
                  <a:pt x="27" y="1691"/>
                </a:cubicBezTo>
                <a:cubicBezTo>
                  <a:pt x="76" y="1528"/>
                  <a:pt x="368" y="1517"/>
                  <a:pt x="496" y="1510"/>
                </a:cubicBezTo>
                <a:cubicBezTo>
                  <a:pt x="541" y="1488"/>
                  <a:pt x="543" y="1477"/>
                  <a:pt x="553" y="1428"/>
                </a:cubicBezTo>
                <a:cubicBezTo>
                  <a:pt x="522" y="1349"/>
                  <a:pt x="456" y="1306"/>
                  <a:pt x="397" y="1247"/>
                </a:cubicBezTo>
                <a:cubicBezTo>
                  <a:pt x="394" y="1240"/>
                  <a:pt x="371" y="1186"/>
                  <a:pt x="373" y="1173"/>
                </a:cubicBezTo>
                <a:cubicBezTo>
                  <a:pt x="382" y="1115"/>
                  <a:pt x="384" y="1052"/>
                  <a:pt x="414" y="1001"/>
                </a:cubicBezTo>
                <a:cubicBezTo>
                  <a:pt x="427" y="979"/>
                  <a:pt x="462" y="980"/>
                  <a:pt x="488" y="976"/>
                </a:cubicBezTo>
                <a:cubicBezTo>
                  <a:pt x="542" y="968"/>
                  <a:pt x="597" y="971"/>
                  <a:pt x="652" y="968"/>
                </a:cubicBezTo>
                <a:cubicBezTo>
                  <a:pt x="706" y="945"/>
                  <a:pt x="732" y="937"/>
                  <a:pt x="759" y="886"/>
                </a:cubicBezTo>
                <a:cubicBezTo>
                  <a:pt x="781" y="796"/>
                  <a:pt x="749" y="764"/>
                  <a:pt x="677" y="713"/>
                </a:cubicBezTo>
                <a:cubicBezTo>
                  <a:pt x="620" y="673"/>
                  <a:pt x="504" y="598"/>
                  <a:pt x="504" y="598"/>
                </a:cubicBezTo>
                <a:cubicBezTo>
                  <a:pt x="467" y="521"/>
                  <a:pt x="468" y="538"/>
                  <a:pt x="504" y="393"/>
                </a:cubicBezTo>
                <a:cubicBezTo>
                  <a:pt x="548" y="217"/>
                  <a:pt x="881" y="240"/>
                  <a:pt x="981" y="236"/>
                </a:cubicBezTo>
                <a:cubicBezTo>
                  <a:pt x="1059" y="217"/>
                  <a:pt x="1027" y="230"/>
                  <a:pt x="1079" y="204"/>
                </a:cubicBezTo>
                <a:cubicBezTo>
                  <a:pt x="1082" y="196"/>
                  <a:pt x="1090" y="188"/>
                  <a:pt x="1088" y="179"/>
                </a:cubicBezTo>
                <a:cubicBezTo>
                  <a:pt x="1086" y="169"/>
                  <a:pt x="1056" y="151"/>
                  <a:pt x="1047" y="154"/>
                </a:cubicBezTo>
                <a:cubicBezTo>
                  <a:pt x="1036" y="158"/>
                  <a:pt x="1030" y="171"/>
                  <a:pt x="1022" y="179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553080" y="2209680"/>
          <a:ext cx="1968480" cy="23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2209680"/>
                    <a:ext cx="1968480" cy="2355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ff3300"/>
                    </a:outerShdw>
                  </a:effectLst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2590920" y="3276720"/>
            <a:ext cx="38862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dy"/>
              </a:rPr>
              <a:t>FRA MARTI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dy"/>
              </a:rPr>
              <a:t>CAMPANAR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04920" y="2362320"/>
            <a:ext cx="2417400" cy="2779200"/>
            <a:chOff x="304920" y="2362320"/>
            <a:chExt cx="2417400" cy="2779200"/>
          </a:xfrm>
        </p:grpSpPr>
        <p:sp>
          <p:nvSpPr>
            <p:cNvPr id="46" name=""/>
            <p:cNvSpPr/>
            <p:nvPr/>
          </p:nvSpPr>
          <p:spPr>
            <a:xfrm>
              <a:off x="645840" y="2362320"/>
              <a:ext cx="2076480" cy="1964520"/>
            </a:xfrm>
            <a:custGeom>
              <a:avLst/>
              <a:gdLst/>
              <a:ahLst/>
              <a:rect l="l" t="t" r="r" b="b"/>
              <a:pathLst>
                <a:path w="1096" h="933">
                  <a:moveTo>
                    <a:pt x="707" y="240"/>
                  </a:moveTo>
                  <a:cubicBezTo>
                    <a:pt x="717" y="208"/>
                    <a:pt x="727" y="200"/>
                    <a:pt x="756" y="182"/>
                  </a:cubicBezTo>
                  <a:cubicBezTo>
                    <a:pt x="775" y="185"/>
                    <a:pt x="795" y="184"/>
                    <a:pt x="813" y="190"/>
                  </a:cubicBezTo>
                  <a:cubicBezTo>
                    <a:pt x="845" y="201"/>
                    <a:pt x="830" y="245"/>
                    <a:pt x="846" y="264"/>
                  </a:cubicBezTo>
                  <a:cubicBezTo>
                    <a:pt x="851" y="271"/>
                    <a:pt x="862" y="271"/>
                    <a:pt x="871" y="272"/>
                  </a:cubicBezTo>
                  <a:cubicBezTo>
                    <a:pt x="906" y="277"/>
                    <a:pt x="942" y="278"/>
                    <a:pt x="978" y="281"/>
                  </a:cubicBezTo>
                  <a:cubicBezTo>
                    <a:pt x="1021" y="295"/>
                    <a:pt x="1020" y="320"/>
                    <a:pt x="1044" y="355"/>
                  </a:cubicBezTo>
                  <a:cubicBezTo>
                    <a:pt x="1062" y="429"/>
                    <a:pt x="1096" y="505"/>
                    <a:pt x="1002" y="535"/>
                  </a:cubicBezTo>
                  <a:cubicBezTo>
                    <a:pt x="920" y="529"/>
                    <a:pt x="870" y="540"/>
                    <a:pt x="813" y="486"/>
                  </a:cubicBezTo>
                  <a:cubicBezTo>
                    <a:pt x="810" y="544"/>
                    <a:pt x="809" y="601"/>
                    <a:pt x="805" y="659"/>
                  </a:cubicBezTo>
                  <a:cubicBezTo>
                    <a:pt x="802" y="701"/>
                    <a:pt x="779" y="731"/>
                    <a:pt x="756" y="765"/>
                  </a:cubicBezTo>
                  <a:cubicBezTo>
                    <a:pt x="678" y="881"/>
                    <a:pt x="585" y="900"/>
                    <a:pt x="452" y="913"/>
                  </a:cubicBezTo>
                  <a:cubicBezTo>
                    <a:pt x="346" y="905"/>
                    <a:pt x="240" y="933"/>
                    <a:pt x="172" y="848"/>
                  </a:cubicBezTo>
                  <a:cubicBezTo>
                    <a:pt x="136" y="803"/>
                    <a:pt x="98" y="765"/>
                    <a:pt x="66" y="716"/>
                  </a:cubicBezTo>
                  <a:cubicBezTo>
                    <a:pt x="55" y="700"/>
                    <a:pt x="33" y="667"/>
                    <a:pt x="33" y="667"/>
                  </a:cubicBezTo>
                  <a:cubicBezTo>
                    <a:pt x="28" y="648"/>
                    <a:pt x="21" y="628"/>
                    <a:pt x="16" y="609"/>
                  </a:cubicBezTo>
                  <a:cubicBezTo>
                    <a:pt x="10" y="587"/>
                    <a:pt x="0" y="544"/>
                    <a:pt x="0" y="544"/>
                  </a:cubicBezTo>
                  <a:cubicBezTo>
                    <a:pt x="3" y="453"/>
                    <a:pt x="3" y="363"/>
                    <a:pt x="8" y="272"/>
                  </a:cubicBezTo>
                  <a:cubicBezTo>
                    <a:pt x="14" y="144"/>
                    <a:pt x="69" y="105"/>
                    <a:pt x="181" y="75"/>
                  </a:cubicBezTo>
                  <a:cubicBezTo>
                    <a:pt x="245" y="58"/>
                    <a:pt x="306" y="34"/>
                    <a:pt x="370" y="18"/>
                  </a:cubicBezTo>
                  <a:cubicBezTo>
                    <a:pt x="425" y="21"/>
                    <a:pt x="490" y="0"/>
                    <a:pt x="534" y="34"/>
                  </a:cubicBezTo>
                  <a:cubicBezTo>
                    <a:pt x="569" y="61"/>
                    <a:pt x="601" y="101"/>
                    <a:pt x="633" y="133"/>
                  </a:cubicBezTo>
                  <a:cubicBezTo>
                    <a:pt x="652" y="152"/>
                    <a:pt x="668" y="153"/>
                    <a:pt x="682" y="174"/>
                  </a:cubicBezTo>
                  <a:cubicBezTo>
                    <a:pt x="698" y="199"/>
                    <a:pt x="699" y="212"/>
                    <a:pt x="707" y="240"/>
                  </a:cubicBez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2240" y="2728440"/>
              <a:ext cx="640080" cy="726120"/>
            </a:xfrm>
            <a:custGeom>
              <a:avLst/>
              <a:gdLst/>
              <a:ahLst/>
              <a:rect l="l" t="t" r="r" b="b"/>
              <a:pathLst>
                <a:path w="338" h="345">
                  <a:moveTo>
                    <a:pt x="271" y="0"/>
                  </a:moveTo>
                  <a:cubicBezTo>
                    <a:pt x="233" y="3"/>
                    <a:pt x="194" y="2"/>
                    <a:pt x="156" y="8"/>
                  </a:cubicBezTo>
                  <a:cubicBezTo>
                    <a:pt x="130" y="13"/>
                    <a:pt x="129" y="33"/>
                    <a:pt x="115" y="49"/>
                  </a:cubicBezTo>
                  <a:cubicBezTo>
                    <a:pt x="83" y="86"/>
                    <a:pt x="82" y="85"/>
                    <a:pt x="49" y="107"/>
                  </a:cubicBezTo>
                  <a:cubicBezTo>
                    <a:pt x="28" y="142"/>
                    <a:pt x="10" y="166"/>
                    <a:pt x="0" y="205"/>
                  </a:cubicBezTo>
                  <a:cubicBezTo>
                    <a:pt x="3" y="232"/>
                    <a:pt x="1" y="260"/>
                    <a:pt x="8" y="287"/>
                  </a:cubicBezTo>
                  <a:cubicBezTo>
                    <a:pt x="16" y="321"/>
                    <a:pt x="92" y="324"/>
                    <a:pt x="115" y="328"/>
                  </a:cubicBezTo>
                  <a:cubicBezTo>
                    <a:pt x="129" y="334"/>
                    <a:pt x="141" y="345"/>
                    <a:pt x="156" y="345"/>
                  </a:cubicBezTo>
                  <a:cubicBezTo>
                    <a:pt x="237" y="345"/>
                    <a:pt x="303" y="257"/>
                    <a:pt x="329" y="189"/>
                  </a:cubicBezTo>
                  <a:cubicBezTo>
                    <a:pt x="325" y="142"/>
                    <a:pt x="338" y="88"/>
                    <a:pt x="312" y="49"/>
                  </a:cubicBezTo>
                  <a:cubicBezTo>
                    <a:pt x="296" y="25"/>
                    <a:pt x="271" y="34"/>
                    <a:pt x="271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12000" y="2728440"/>
              <a:ext cx="780480" cy="345240"/>
            </a:xfrm>
            <a:custGeom>
              <a:avLst/>
              <a:gdLst/>
              <a:ahLst/>
              <a:rect l="l" t="t" r="r" b="b"/>
              <a:pathLst>
                <a:path w="412" h="164">
                  <a:moveTo>
                    <a:pt x="412" y="164"/>
                  </a:moveTo>
                  <a:cubicBezTo>
                    <a:pt x="364" y="152"/>
                    <a:pt x="321" y="132"/>
                    <a:pt x="273" y="123"/>
                  </a:cubicBezTo>
                  <a:cubicBezTo>
                    <a:pt x="227" y="95"/>
                    <a:pt x="199" y="55"/>
                    <a:pt x="149" y="33"/>
                  </a:cubicBezTo>
                  <a:cubicBezTo>
                    <a:pt x="110" y="16"/>
                    <a:pt x="66" y="13"/>
                    <a:pt x="26" y="0"/>
                  </a:cubicBezTo>
                  <a:cubicBezTo>
                    <a:pt x="19" y="10"/>
                    <a:pt x="0" y="35"/>
                    <a:pt x="1" y="49"/>
                  </a:cubicBezTo>
                  <a:cubicBezTo>
                    <a:pt x="3" y="82"/>
                    <a:pt x="18" y="148"/>
                    <a:pt x="18" y="148"/>
                  </a:cubicBezTo>
                  <a:cubicBezTo>
                    <a:pt x="21" y="118"/>
                    <a:pt x="22" y="87"/>
                    <a:pt x="26" y="57"/>
                  </a:cubicBezTo>
                  <a:cubicBezTo>
                    <a:pt x="27" y="49"/>
                    <a:pt x="34" y="33"/>
                    <a:pt x="34" y="3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35560" y="3663360"/>
              <a:ext cx="420480" cy="155520"/>
            </a:xfrm>
            <a:custGeom>
              <a:avLst/>
              <a:gdLst/>
              <a:ahLst/>
              <a:rect l="l" t="t" r="r" b="b"/>
              <a:pathLst>
                <a:path w="222" h="74">
                  <a:moveTo>
                    <a:pt x="0" y="0"/>
                  </a:moveTo>
                  <a:cubicBezTo>
                    <a:pt x="30" y="42"/>
                    <a:pt x="19" y="55"/>
                    <a:pt x="74" y="73"/>
                  </a:cubicBezTo>
                  <a:cubicBezTo>
                    <a:pt x="118" y="70"/>
                    <a:pt x="163" y="74"/>
                    <a:pt x="206" y="65"/>
                  </a:cubicBezTo>
                  <a:cubicBezTo>
                    <a:pt x="215" y="63"/>
                    <a:pt x="222" y="41"/>
                    <a:pt x="222" y="4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45000" y="2562120"/>
              <a:ext cx="284400" cy="216720"/>
            </a:xfrm>
            <a:custGeom>
              <a:avLst/>
              <a:gdLst/>
              <a:ahLst/>
              <a:rect l="l" t="t" r="r" b="b"/>
              <a:pathLst>
                <a:path w="150" h="103">
                  <a:moveTo>
                    <a:pt x="0" y="38"/>
                  </a:moveTo>
                  <a:cubicBezTo>
                    <a:pt x="36" y="0"/>
                    <a:pt x="87" y="22"/>
                    <a:pt x="131" y="38"/>
                  </a:cubicBezTo>
                  <a:cubicBezTo>
                    <a:pt x="150" y="92"/>
                    <a:pt x="148" y="70"/>
                    <a:pt x="148" y="10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81840" y="2970720"/>
              <a:ext cx="267120" cy="271440"/>
            </a:xfrm>
            <a:custGeom>
              <a:avLst/>
              <a:gdLst/>
              <a:ahLst/>
              <a:rect l="l" t="t" r="r" b="b"/>
              <a:pathLst>
                <a:path w="141" h="129">
                  <a:moveTo>
                    <a:pt x="130" y="74"/>
                  </a:moveTo>
                  <a:cubicBezTo>
                    <a:pt x="121" y="28"/>
                    <a:pt x="119" y="24"/>
                    <a:pt x="81" y="0"/>
                  </a:cubicBezTo>
                  <a:cubicBezTo>
                    <a:pt x="36" y="22"/>
                    <a:pt x="0" y="27"/>
                    <a:pt x="56" y="115"/>
                  </a:cubicBezTo>
                  <a:cubicBezTo>
                    <a:pt x="65" y="129"/>
                    <a:pt x="89" y="110"/>
                    <a:pt x="106" y="107"/>
                  </a:cubicBezTo>
                  <a:cubicBezTo>
                    <a:pt x="112" y="101"/>
                    <a:pt x="141" y="79"/>
                    <a:pt x="114" y="66"/>
                  </a:cubicBezTo>
                  <a:cubicBezTo>
                    <a:pt x="106" y="62"/>
                    <a:pt x="97" y="71"/>
                    <a:pt x="89" y="74"/>
                  </a:cubicBezTo>
                  <a:cubicBezTo>
                    <a:pt x="92" y="85"/>
                    <a:pt x="88" y="101"/>
                    <a:pt x="98" y="107"/>
                  </a:cubicBezTo>
                  <a:cubicBezTo>
                    <a:pt x="128" y="124"/>
                    <a:pt x="134" y="86"/>
                    <a:pt x="139" y="74"/>
                  </a:cubicBezTo>
                  <a:cubicBezTo>
                    <a:pt x="138" y="73"/>
                    <a:pt x="106" y="36"/>
                    <a:pt x="98" y="49"/>
                  </a:cubicBezTo>
                  <a:cubicBezTo>
                    <a:pt x="92" y="59"/>
                    <a:pt x="103" y="71"/>
                    <a:pt x="106" y="82"/>
                  </a:cubicBezTo>
                  <a:cubicBezTo>
                    <a:pt x="77" y="109"/>
                    <a:pt x="82" y="102"/>
                    <a:pt x="130" y="74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69320" y="2486160"/>
              <a:ext cx="966240" cy="380880"/>
            </a:xfrm>
            <a:custGeom>
              <a:avLst/>
              <a:gdLst/>
              <a:ahLst/>
              <a:rect l="l" t="t" r="r" b="b"/>
              <a:pathLst>
                <a:path w="505" h="181">
                  <a:moveTo>
                    <a:pt x="107" y="0"/>
                  </a:moveTo>
                  <a:cubicBezTo>
                    <a:pt x="147" y="38"/>
                    <a:pt x="186" y="65"/>
                    <a:pt x="239" y="82"/>
                  </a:cubicBezTo>
                  <a:cubicBezTo>
                    <a:pt x="385" y="75"/>
                    <a:pt x="395" y="93"/>
                    <a:pt x="485" y="33"/>
                  </a:cubicBezTo>
                  <a:cubicBezTo>
                    <a:pt x="491" y="54"/>
                    <a:pt x="505" y="87"/>
                    <a:pt x="485" y="107"/>
                  </a:cubicBezTo>
                  <a:cubicBezTo>
                    <a:pt x="479" y="113"/>
                    <a:pt x="481" y="90"/>
                    <a:pt x="477" y="82"/>
                  </a:cubicBezTo>
                  <a:cubicBezTo>
                    <a:pt x="473" y="75"/>
                    <a:pt x="466" y="71"/>
                    <a:pt x="461" y="65"/>
                  </a:cubicBezTo>
                  <a:cubicBezTo>
                    <a:pt x="451" y="95"/>
                    <a:pt x="443" y="125"/>
                    <a:pt x="436" y="156"/>
                  </a:cubicBezTo>
                  <a:cubicBezTo>
                    <a:pt x="431" y="140"/>
                    <a:pt x="425" y="123"/>
                    <a:pt x="420" y="107"/>
                  </a:cubicBezTo>
                  <a:cubicBezTo>
                    <a:pt x="417" y="99"/>
                    <a:pt x="411" y="82"/>
                    <a:pt x="411" y="82"/>
                  </a:cubicBezTo>
                  <a:cubicBezTo>
                    <a:pt x="400" y="117"/>
                    <a:pt x="379" y="154"/>
                    <a:pt x="354" y="181"/>
                  </a:cubicBezTo>
                  <a:cubicBezTo>
                    <a:pt x="351" y="164"/>
                    <a:pt x="349" y="148"/>
                    <a:pt x="346" y="131"/>
                  </a:cubicBezTo>
                  <a:cubicBezTo>
                    <a:pt x="344" y="120"/>
                    <a:pt x="348" y="103"/>
                    <a:pt x="338" y="98"/>
                  </a:cubicBezTo>
                  <a:cubicBezTo>
                    <a:pt x="329" y="94"/>
                    <a:pt x="321" y="109"/>
                    <a:pt x="313" y="115"/>
                  </a:cubicBezTo>
                  <a:cubicBezTo>
                    <a:pt x="293" y="144"/>
                    <a:pt x="293" y="170"/>
                    <a:pt x="264" y="139"/>
                  </a:cubicBezTo>
                  <a:cubicBezTo>
                    <a:pt x="245" y="70"/>
                    <a:pt x="272" y="132"/>
                    <a:pt x="214" y="148"/>
                  </a:cubicBezTo>
                  <a:cubicBezTo>
                    <a:pt x="204" y="151"/>
                    <a:pt x="203" y="131"/>
                    <a:pt x="198" y="123"/>
                  </a:cubicBezTo>
                  <a:cubicBezTo>
                    <a:pt x="138" y="162"/>
                    <a:pt x="162" y="170"/>
                    <a:pt x="124" y="131"/>
                  </a:cubicBezTo>
                  <a:cubicBezTo>
                    <a:pt x="121" y="123"/>
                    <a:pt x="114" y="115"/>
                    <a:pt x="116" y="107"/>
                  </a:cubicBezTo>
                  <a:cubicBezTo>
                    <a:pt x="117" y="99"/>
                    <a:pt x="126" y="95"/>
                    <a:pt x="132" y="90"/>
                  </a:cubicBezTo>
                  <a:cubicBezTo>
                    <a:pt x="152" y="74"/>
                    <a:pt x="204" y="51"/>
                    <a:pt x="107" y="98"/>
                  </a:cubicBezTo>
                  <a:cubicBezTo>
                    <a:pt x="102" y="104"/>
                    <a:pt x="99" y="113"/>
                    <a:pt x="91" y="115"/>
                  </a:cubicBezTo>
                  <a:cubicBezTo>
                    <a:pt x="82" y="117"/>
                    <a:pt x="68" y="116"/>
                    <a:pt x="66" y="107"/>
                  </a:cubicBezTo>
                  <a:cubicBezTo>
                    <a:pt x="64" y="95"/>
                    <a:pt x="94" y="80"/>
                    <a:pt x="83" y="74"/>
                  </a:cubicBezTo>
                  <a:cubicBezTo>
                    <a:pt x="67" y="66"/>
                    <a:pt x="33" y="90"/>
                    <a:pt x="33" y="90"/>
                  </a:cubicBezTo>
                  <a:cubicBezTo>
                    <a:pt x="25" y="87"/>
                    <a:pt x="11" y="90"/>
                    <a:pt x="9" y="82"/>
                  </a:cubicBezTo>
                  <a:cubicBezTo>
                    <a:pt x="0" y="36"/>
                    <a:pt x="79" y="36"/>
                    <a:pt x="99" y="33"/>
                  </a:cubicBezTo>
                  <a:cubicBezTo>
                    <a:pt x="118" y="5"/>
                    <a:pt x="124" y="15"/>
                    <a:pt x="107" y="0"/>
                  </a:cubicBezTo>
                  <a:close/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329840" y="4028040"/>
              <a:ext cx="967680" cy="707040"/>
            </a:xfrm>
            <a:custGeom>
              <a:avLst/>
              <a:gdLst/>
              <a:ahLst/>
              <a:rect l="l" t="t" r="r" b="b"/>
              <a:pathLst>
                <a:path w="511" h="294">
                  <a:moveTo>
                    <a:pt x="0" y="72"/>
                  </a:moveTo>
                  <a:cubicBezTo>
                    <a:pt x="2" y="78"/>
                    <a:pt x="26" y="138"/>
                    <a:pt x="33" y="146"/>
                  </a:cubicBezTo>
                  <a:cubicBezTo>
                    <a:pt x="43" y="159"/>
                    <a:pt x="79" y="172"/>
                    <a:pt x="91" y="179"/>
                  </a:cubicBezTo>
                  <a:cubicBezTo>
                    <a:pt x="136" y="204"/>
                    <a:pt x="197" y="261"/>
                    <a:pt x="239" y="278"/>
                  </a:cubicBezTo>
                  <a:cubicBezTo>
                    <a:pt x="260" y="287"/>
                    <a:pt x="283" y="289"/>
                    <a:pt x="305" y="294"/>
                  </a:cubicBezTo>
                  <a:cubicBezTo>
                    <a:pt x="362" y="291"/>
                    <a:pt x="420" y="291"/>
                    <a:pt x="477" y="286"/>
                  </a:cubicBezTo>
                  <a:cubicBezTo>
                    <a:pt x="508" y="283"/>
                    <a:pt x="511" y="275"/>
                    <a:pt x="485" y="253"/>
                  </a:cubicBezTo>
                  <a:cubicBezTo>
                    <a:pt x="455" y="227"/>
                    <a:pt x="422" y="215"/>
                    <a:pt x="395" y="187"/>
                  </a:cubicBezTo>
                  <a:cubicBezTo>
                    <a:pt x="446" y="181"/>
                    <a:pt x="475" y="183"/>
                    <a:pt x="510" y="146"/>
                  </a:cubicBezTo>
                  <a:cubicBezTo>
                    <a:pt x="485" y="143"/>
                    <a:pt x="457" y="151"/>
                    <a:pt x="436" y="138"/>
                  </a:cubicBezTo>
                  <a:cubicBezTo>
                    <a:pt x="412" y="123"/>
                    <a:pt x="479" y="79"/>
                    <a:pt x="485" y="72"/>
                  </a:cubicBezTo>
                  <a:cubicBezTo>
                    <a:pt x="430" y="62"/>
                    <a:pt x="394" y="57"/>
                    <a:pt x="346" y="39"/>
                  </a:cubicBezTo>
                  <a:cubicBezTo>
                    <a:pt x="304" y="0"/>
                    <a:pt x="321" y="60"/>
                    <a:pt x="296" y="72"/>
                  </a:cubicBezTo>
                  <a:cubicBezTo>
                    <a:pt x="279" y="80"/>
                    <a:pt x="258" y="78"/>
                    <a:pt x="239" y="80"/>
                  </a:cubicBezTo>
                  <a:cubicBezTo>
                    <a:pt x="96" y="94"/>
                    <a:pt x="147" y="92"/>
                    <a:pt x="0" y="72"/>
                  </a:cubicBez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8080" y="3680280"/>
              <a:ext cx="814320" cy="1459440"/>
            </a:xfrm>
            <a:custGeom>
              <a:avLst/>
              <a:gdLst/>
              <a:ahLst/>
              <a:rect l="l" t="t" r="r" b="b"/>
              <a:pathLst>
                <a:path w="430" h="693">
                  <a:moveTo>
                    <a:pt x="49" y="0"/>
                  </a:moveTo>
                  <a:cubicBezTo>
                    <a:pt x="43" y="154"/>
                    <a:pt x="29" y="294"/>
                    <a:pt x="0" y="444"/>
                  </a:cubicBezTo>
                  <a:cubicBezTo>
                    <a:pt x="6" y="520"/>
                    <a:pt x="3" y="608"/>
                    <a:pt x="90" y="641"/>
                  </a:cubicBezTo>
                  <a:cubicBezTo>
                    <a:pt x="123" y="653"/>
                    <a:pt x="156" y="661"/>
                    <a:pt x="189" y="674"/>
                  </a:cubicBezTo>
                  <a:cubicBezTo>
                    <a:pt x="205" y="680"/>
                    <a:pt x="238" y="690"/>
                    <a:pt x="238" y="690"/>
                  </a:cubicBezTo>
                  <a:cubicBezTo>
                    <a:pt x="285" y="685"/>
                    <a:pt x="335" y="693"/>
                    <a:pt x="378" y="674"/>
                  </a:cubicBezTo>
                  <a:cubicBezTo>
                    <a:pt x="430" y="652"/>
                    <a:pt x="329" y="608"/>
                    <a:pt x="328" y="608"/>
                  </a:cubicBezTo>
                  <a:cubicBezTo>
                    <a:pt x="291" y="582"/>
                    <a:pt x="255" y="556"/>
                    <a:pt x="230" y="517"/>
                  </a:cubicBezTo>
                  <a:cubicBezTo>
                    <a:pt x="212" y="426"/>
                    <a:pt x="238" y="336"/>
                    <a:pt x="238" y="246"/>
                  </a:cubicBezTo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89800" y="4230000"/>
              <a:ext cx="962280" cy="911520"/>
            </a:xfrm>
            <a:custGeom>
              <a:avLst/>
              <a:gdLst/>
              <a:ahLst/>
              <a:rect l="l" t="t" r="r" b="b"/>
              <a:pathLst>
                <a:path w="508" h="433">
                  <a:moveTo>
                    <a:pt x="220" y="164"/>
                  </a:moveTo>
                  <a:cubicBezTo>
                    <a:pt x="227" y="203"/>
                    <a:pt x="225" y="246"/>
                    <a:pt x="245" y="279"/>
                  </a:cubicBezTo>
                  <a:cubicBezTo>
                    <a:pt x="260" y="303"/>
                    <a:pt x="285" y="304"/>
                    <a:pt x="311" y="312"/>
                  </a:cubicBezTo>
                  <a:cubicBezTo>
                    <a:pt x="373" y="332"/>
                    <a:pt x="443" y="337"/>
                    <a:pt x="508" y="345"/>
                  </a:cubicBezTo>
                  <a:cubicBezTo>
                    <a:pt x="469" y="358"/>
                    <a:pt x="430" y="368"/>
                    <a:pt x="393" y="386"/>
                  </a:cubicBezTo>
                  <a:cubicBezTo>
                    <a:pt x="401" y="389"/>
                    <a:pt x="415" y="386"/>
                    <a:pt x="418" y="394"/>
                  </a:cubicBezTo>
                  <a:cubicBezTo>
                    <a:pt x="424" y="412"/>
                    <a:pt x="350" y="426"/>
                    <a:pt x="344" y="427"/>
                  </a:cubicBezTo>
                  <a:cubicBezTo>
                    <a:pt x="228" y="422"/>
                    <a:pt x="172" y="433"/>
                    <a:pt x="81" y="403"/>
                  </a:cubicBezTo>
                  <a:cubicBezTo>
                    <a:pt x="61" y="365"/>
                    <a:pt x="51" y="325"/>
                    <a:pt x="31" y="287"/>
                  </a:cubicBezTo>
                  <a:cubicBezTo>
                    <a:pt x="0" y="163"/>
                    <a:pt x="7" y="162"/>
                    <a:pt x="7" y="0"/>
                  </a:cubicBezTo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108520" y="3635640"/>
              <a:ext cx="560880" cy="406800"/>
            </a:xfrm>
            <a:custGeom>
              <a:avLst/>
              <a:gdLst/>
              <a:ahLst/>
              <a:rect l="l" t="t" r="r" b="b"/>
              <a:pathLst>
                <a:path w="296" h="193">
                  <a:moveTo>
                    <a:pt x="50" y="29"/>
                  </a:moveTo>
                  <a:cubicBezTo>
                    <a:pt x="112" y="14"/>
                    <a:pt x="176" y="15"/>
                    <a:pt x="239" y="4"/>
                  </a:cubicBezTo>
                  <a:cubicBezTo>
                    <a:pt x="247" y="7"/>
                    <a:pt x="269" y="7"/>
                    <a:pt x="263" y="13"/>
                  </a:cubicBezTo>
                  <a:cubicBezTo>
                    <a:pt x="251" y="25"/>
                    <a:pt x="214" y="29"/>
                    <a:pt x="214" y="29"/>
                  </a:cubicBezTo>
                  <a:cubicBezTo>
                    <a:pt x="193" y="114"/>
                    <a:pt x="210" y="0"/>
                    <a:pt x="280" y="70"/>
                  </a:cubicBezTo>
                  <a:cubicBezTo>
                    <a:pt x="292" y="82"/>
                    <a:pt x="247" y="81"/>
                    <a:pt x="230" y="86"/>
                  </a:cubicBezTo>
                  <a:cubicBezTo>
                    <a:pt x="222" y="89"/>
                    <a:pt x="214" y="92"/>
                    <a:pt x="206" y="95"/>
                  </a:cubicBezTo>
                  <a:cubicBezTo>
                    <a:pt x="211" y="103"/>
                    <a:pt x="213" y="115"/>
                    <a:pt x="222" y="119"/>
                  </a:cubicBezTo>
                  <a:cubicBezTo>
                    <a:pt x="296" y="152"/>
                    <a:pt x="271" y="100"/>
                    <a:pt x="288" y="152"/>
                  </a:cubicBezTo>
                  <a:cubicBezTo>
                    <a:pt x="268" y="173"/>
                    <a:pt x="277" y="169"/>
                    <a:pt x="247" y="177"/>
                  </a:cubicBezTo>
                  <a:cubicBezTo>
                    <a:pt x="225" y="183"/>
                    <a:pt x="181" y="193"/>
                    <a:pt x="181" y="193"/>
                  </a:cubicBezTo>
                  <a:cubicBezTo>
                    <a:pt x="156" y="190"/>
                    <a:pt x="131" y="191"/>
                    <a:pt x="107" y="185"/>
                  </a:cubicBezTo>
                  <a:cubicBezTo>
                    <a:pt x="98" y="183"/>
                    <a:pt x="92" y="173"/>
                    <a:pt x="83" y="169"/>
                  </a:cubicBezTo>
                  <a:cubicBezTo>
                    <a:pt x="56" y="155"/>
                    <a:pt x="30" y="152"/>
                    <a:pt x="0" y="152"/>
                  </a:cubicBezTo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4920" y="3418920"/>
              <a:ext cx="1633320" cy="954000"/>
            </a:xfrm>
            <a:custGeom>
              <a:avLst/>
              <a:gdLst/>
              <a:ahLst/>
              <a:rect l="l" t="t" r="r" b="b"/>
              <a:pathLst>
                <a:path w="862" h="453">
                  <a:moveTo>
                    <a:pt x="188" y="9"/>
                  </a:moveTo>
                  <a:cubicBezTo>
                    <a:pt x="175" y="36"/>
                    <a:pt x="168" y="65"/>
                    <a:pt x="155" y="91"/>
                  </a:cubicBezTo>
                  <a:cubicBezTo>
                    <a:pt x="141" y="119"/>
                    <a:pt x="118" y="141"/>
                    <a:pt x="98" y="165"/>
                  </a:cubicBezTo>
                  <a:cubicBezTo>
                    <a:pt x="89" y="176"/>
                    <a:pt x="81" y="187"/>
                    <a:pt x="73" y="198"/>
                  </a:cubicBezTo>
                  <a:cubicBezTo>
                    <a:pt x="62" y="214"/>
                    <a:pt x="40" y="247"/>
                    <a:pt x="40" y="247"/>
                  </a:cubicBezTo>
                  <a:cubicBezTo>
                    <a:pt x="0" y="372"/>
                    <a:pt x="109" y="318"/>
                    <a:pt x="221" y="313"/>
                  </a:cubicBezTo>
                  <a:cubicBezTo>
                    <a:pt x="246" y="316"/>
                    <a:pt x="271" y="314"/>
                    <a:pt x="295" y="321"/>
                  </a:cubicBezTo>
                  <a:cubicBezTo>
                    <a:pt x="308" y="325"/>
                    <a:pt x="316" y="339"/>
                    <a:pt x="328" y="346"/>
                  </a:cubicBezTo>
                  <a:cubicBezTo>
                    <a:pt x="376" y="372"/>
                    <a:pt x="431" y="406"/>
                    <a:pt x="484" y="420"/>
                  </a:cubicBezTo>
                  <a:cubicBezTo>
                    <a:pt x="577" y="414"/>
                    <a:pt x="645" y="403"/>
                    <a:pt x="730" y="436"/>
                  </a:cubicBezTo>
                  <a:cubicBezTo>
                    <a:pt x="839" y="427"/>
                    <a:pt x="848" y="453"/>
                    <a:pt x="862" y="354"/>
                  </a:cubicBezTo>
                  <a:cubicBezTo>
                    <a:pt x="800" y="288"/>
                    <a:pt x="860" y="344"/>
                    <a:pt x="648" y="329"/>
                  </a:cubicBezTo>
                  <a:cubicBezTo>
                    <a:pt x="572" y="324"/>
                    <a:pt x="497" y="278"/>
                    <a:pt x="426" y="255"/>
                  </a:cubicBezTo>
                  <a:cubicBezTo>
                    <a:pt x="401" y="230"/>
                    <a:pt x="380" y="225"/>
                    <a:pt x="352" y="206"/>
                  </a:cubicBezTo>
                  <a:cubicBezTo>
                    <a:pt x="327" y="189"/>
                    <a:pt x="308" y="170"/>
                    <a:pt x="287" y="148"/>
                  </a:cubicBezTo>
                  <a:cubicBezTo>
                    <a:pt x="276" y="118"/>
                    <a:pt x="260" y="98"/>
                    <a:pt x="254" y="66"/>
                  </a:cubicBezTo>
                  <a:cubicBezTo>
                    <a:pt x="251" y="50"/>
                    <a:pt x="254" y="31"/>
                    <a:pt x="246" y="17"/>
                  </a:cubicBezTo>
                  <a:cubicBezTo>
                    <a:pt x="237" y="2"/>
                    <a:pt x="213" y="6"/>
                    <a:pt x="196" y="0"/>
                  </a:cubicBezTo>
                  <a:cubicBezTo>
                    <a:pt x="185" y="3"/>
                    <a:pt x="170" y="0"/>
                    <a:pt x="163" y="9"/>
                  </a:cubicBezTo>
                  <a:cubicBezTo>
                    <a:pt x="158" y="16"/>
                    <a:pt x="169" y="25"/>
                    <a:pt x="172" y="33"/>
                  </a:cubicBezTo>
                  <a:cubicBezTo>
                    <a:pt x="175" y="41"/>
                    <a:pt x="180" y="58"/>
                    <a:pt x="180" y="58"/>
                  </a:cubicBezTo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52280" y="152280"/>
            <a:ext cx="8839440" cy="1911600"/>
            <a:chOff x="152280" y="152280"/>
            <a:chExt cx="8839440" cy="1911600"/>
          </a:xfrm>
        </p:grpSpPr>
        <p:sp>
          <p:nvSpPr>
            <p:cNvPr id="59" name=""/>
            <p:cNvSpPr/>
            <p:nvPr/>
          </p:nvSpPr>
          <p:spPr>
            <a:xfrm>
              <a:off x="152280" y="152280"/>
              <a:ext cx="8839440" cy="9144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380880" y="228600"/>
              <a:ext cx="58676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8440">
                    <a:solidFill>
                      <a:srgbClr val="ff3300"/>
                    </a:solidFill>
                    <a:miter/>
                  </a:ln>
                  <a:solidFill>
                    <a:srgbClr val="ffffff"/>
                  </a:solidFill>
                  <a:latin typeface="Broadway BT"/>
                </a:rPr>
                <a:t>FRA MARTINO</a:t>
              </a:r>
              <a:endParaRPr b="0" lang="en-US" sz="2400" spc="1" strike="noStrike">
                <a:ln w="28440">
                  <a:solidFill>
                    <a:srgbClr val="ff3300"/>
                  </a:solidFill>
                  <a:miter/>
                </a:ln>
                <a:solidFill>
                  <a:srgbClr val="ffffff"/>
                </a:solidFill>
                <a:latin typeface="Broadway BT"/>
                <a:ea typeface="Broadway BT"/>
              </a:endParaRPr>
            </a:p>
          </p:txBody>
        </p:sp>
        <p:graphicFrame>
          <p:nvGraphicFramePr>
            <p:cNvPr id="61" name=""/>
            <p:cNvGraphicFramePr/>
            <p:nvPr/>
          </p:nvGraphicFramePr>
          <p:xfrm>
            <a:off x="6781680" y="457200"/>
            <a:ext cx="1605240" cy="160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81680" y="457200"/>
                      <a:ext cx="1605240" cy="160668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</p:spTree>
  </p:cSld>
  <p:transition advTm="3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5440" y="2789280"/>
            <a:ext cx="4722840" cy="2676600"/>
          </a:xfrm>
          <a:custGeom>
            <a:avLst/>
            <a:gdLst/>
            <a:ahLst/>
            <a:rect l="l" t="t" r="r" b="b"/>
            <a:pathLst>
              <a:path w="2975" h="1686">
                <a:moveTo>
                  <a:pt x="1200" y="43"/>
                </a:moveTo>
                <a:cubicBezTo>
                  <a:pt x="1140" y="11"/>
                  <a:pt x="1070" y="10"/>
                  <a:pt x="1003" y="2"/>
                </a:cubicBezTo>
                <a:cubicBezTo>
                  <a:pt x="877" y="7"/>
                  <a:pt x="750" y="0"/>
                  <a:pt x="625" y="18"/>
                </a:cubicBezTo>
                <a:cubicBezTo>
                  <a:pt x="593" y="22"/>
                  <a:pt x="543" y="67"/>
                  <a:pt x="543" y="67"/>
                </a:cubicBezTo>
                <a:cubicBezTo>
                  <a:pt x="556" y="119"/>
                  <a:pt x="570" y="110"/>
                  <a:pt x="617" y="125"/>
                </a:cubicBezTo>
                <a:cubicBezTo>
                  <a:pt x="647" y="162"/>
                  <a:pt x="660" y="188"/>
                  <a:pt x="674" y="232"/>
                </a:cubicBezTo>
                <a:cubicBezTo>
                  <a:pt x="669" y="246"/>
                  <a:pt x="671" y="265"/>
                  <a:pt x="658" y="273"/>
                </a:cubicBezTo>
                <a:cubicBezTo>
                  <a:pt x="639" y="284"/>
                  <a:pt x="614" y="277"/>
                  <a:pt x="592" y="281"/>
                </a:cubicBezTo>
                <a:cubicBezTo>
                  <a:pt x="509" y="297"/>
                  <a:pt x="430" y="326"/>
                  <a:pt x="354" y="363"/>
                </a:cubicBezTo>
                <a:cubicBezTo>
                  <a:pt x="365" y="377"/>
                  <a:pt x="372" y="395"/>
                  <a:pt x="387" y="404"/>
                </a:cubicBezTo>
                <a:cubicBezTo>
                  <a:pt x="417" y="423"/>
                  <a:pt x="457" y="424"/>
                  <a:pt x="485" y="445"/>
                </a:cubicBezTo>
                <a:cubicBezTo>
                  <a:pt x="496" y="453"/>
                  <a:pt x="507" y="462"/>
                  <a:pt x="518" y="470"/>
                </a:cubicBezTo>
                <a:cubicBezTo>
                  <a:pt x="510" y="500"/>
                  <a:pt x="513" y="536"/>
                  <a:pt x="494" y="561"/>
                </a:cubicBezTo>
                <a:cubicBezTo>
                  <a:pt x="483" y="576"/>
                  <a:pt x="369" y="584"/>
                  <a:pt x="362" y="585"/>
                </a:cubicBezTo>
                <a:cubicBezTo>
                  <a:pt x="243" y="615"/>
                  <a:pt x="90" y="635"/>
                  <a:pt x="0" y="725"/>
                </a:cubicBezTo>
                <a:cubicBezTo>
                  <a:pt x="129" y="810"/>
                  <a:pt x="345" y="793"/>
                  <a:pt x="494" y="807"/>
                </a:cubicBezTo>
                <a:cubicBezTo>
                  <a:pt x="596" y="833"/>
                  <a:pt x="713" y="838"/>
                  <a:pt x="765" y="939"/>
                </a:cubicBezTo>
                <a:cubicBezTo>
                  <a:pt x="754" y="974"/>
                  <a:pt x="751" y="1013"/>
                  <a:pt x="732" y="1045"/>
                </a:cubicBezTo>
                <a:cubicBezTo>
                  <a:pt x="694" y="1111"/>
                  <a:pt x="571" y="1159"/>
                  <a:pt x="510" y="1234"/>
                </a:cubicBezTo>
                <a:cubicBezTo>
                  <a:pt x="459" y="1395"/>
                  <a:pt x="814" y="1344"/>
                  <a:pt x="888" y="1349"/>
                </a:cubicBezTo>
                <a:cubicBezTo>
                  <a:pt x="1085" y="1362"/>
                  <a:pt x="1283" y="1377"/>
                  <a:pt x="1480" y="1391"/>
                </a:cubicBezTo>
                <a:cubicBezTo>
                  <a:pt x="1566" y="1453"/>
                  <a:pt x="1623" y="1552"/>
                  <a:pt x="1718" y="1604"/>
                </a:cubicBezTo>
                <a:cubicBezTo>
                  <a:pt x="1854" y="1678"/>
                  <a:pt x="2004" y="1678"/>
                  <a:pt x="2154" y="1686"/>
                </a:cubicBezTo>
                <a:cubicBezTo>
                  <a:pt x="2329" y="1676"/>
                  <a:pt x="2390" y="1665"/>
                  <a:pt x="2499" y="1530"/>
                </a:cubicBezTo>
                <a:cubicBezTo>
                  <a:pt x="2496" y="1522"/>
                  <a:pt x="2499" y="1510"/>
                  <a:pt x="2491" y="1506"/>
                </a:cubicBezTo>
                <a:cubicBezTo>
                  <a:pt x="2434" y="1478"/>
                  <a:pt x="2365" y="1493"/>
                  <a:pt x="2302" y="1489"/>
                </a:cubicBezTo>
                <a:cubicBezTo>
                  <a:pt x="2134" y="1425"/>
                  <a:pt x="1971" y="1362"/>
                  <a:pt x="1817" y="1267"/>
                </a:cubicBezTo>
                <a:cubicBezTo>
                  <a:pt x="1781" y="1208"/>
                  <a:pt x="1775" y="1188"/>
                  <a:pt x="1833" y="1144"/>
                </a:cubicBezTo>
                <a:cubicBezTo>
                  <a:pt x="1979" y="1150"/>
                  <a:pt x="2108" y="1176"/>
                  <a:pt x="2252" y="1185"/>
                </a:cubicBezTo>
                <a:cubicBezTo>
                  <a:pt x="2477" y="1230"/>
                  <a:pt x="2489" y="1224"/>
                  <a:pt x="2754" y="1193"/>
                </a:cubicBezTo>
                <a:cubicBezTo>
                  <a:pt x="2835" y="1163"/>
                  <a:pt x="2890" y="1139"/>
                  <a:pt x="2951" y="1078"/>
                </a:cubicBezTo>
                <a:cubicBezTo>
                  <a:pt x="2956" y="1067"/>
                  <a:pt x="2975" y="1054"/>
                  <a:pt x="2967" y="1045"/>
                </a:cubicBezTo>
                <a:cubicBezTo>
                  <a:pt x="2949" y="1025"/>
                  <a:pt x="2919" y="1020"/>
                  <a:pt x="2893" y="1013"/>
                </a:cubicBezTo>
                <a:cubicBezTo>
                  <a:pt x="2818" y="992"/>
                  <a:pt x="2739" y="982"/>
                  <a:pt x="2663" y="963"/>
                </a:cubicBezTo>
                <a:cubicBezTo>
                  <a:pt x="2567" y="909"/>
                  <a:pt x="2455" y="862"/>
                  <a:pt x="2384" y="774"/>
                </a:cubicBezTo>
                <a:cubicBezTo>
                  <a:pt x="2398" y="752"/>
                  <a:pt x="2401" y="718"/>
                  <a:pt x="2425" y="708"/>
                </a:cubicBezTo>
                <a:cubicBezTo>
                  <a:pt x="2489" y="682"/>
                  <a:pt x="2564" y="705"/>
                  <a:pt x="2630" y="684"/>
                </a:cubicBezTo>
                <a:cubicBezTo>
                  <a:pt x="2719" y="656"/>
                  <a:pt x="2804" y="599"/>
                  <a:pt x="2885" y="552"/>
                </a:cubicBezTo>
                <a:cubicBezTo>
                  <a:pt x="2920" y="508"/>
                  <a:pt x="2934" y="474"/>
                  <a:pt x="2951" y="421"/>
                </a:cubicBezTo>
                <a:cubicBezTo>
                  <a:pt x="2946" y="377"/>
                  <a:pt x="2948" y="331"/>
                  <a:pt x="2935" y="289"/>
                </a:cubicBezTo>
                <a:cubicBezTo>
                  <a:pt x="2931" y="276"/>
                  <a:pt x="2913" y="273"/>
                  <a:pt x="2902" y="265"/>
                </a:cubicBezTo>
                <a:cubicBezTo>
                  <a:pt x="2857" y="235"/>
                  <a:pt x="2822" y="232"/>
                  <a:pt x="2770" y="224"/>
                </a:cubicBezTo>
                <a:cubicBezTo>
                  <a:pt x="2647" y="231"/>
                  <a:pt x="2657" y="222"/>
                  <a:pt x="2565" y="248"/>
                </a:cubicBezTo>
                <a:cubicBezTo>
                  <a:pt x="2529" y="258"/>
                  <a:pt x="2495" y="276"/>
                  <a:pt x="2458" y="281"/>
                </a:cubicBezTo>
                <a:cubicBezTo>
                  <a:pt x="2396" y="290"/>
                  <a:pt x="2332" y="286"/>
                  <a:pt x="2269" y="289"/>
                </a:cubicBezTo>
                <a:cubicBezTo>
                  <a:pt x="2250" y="286"/>
                  <a:pt x="2221" y="298"/>
                  <a:pt x="2211" y="281"/>
                </a:cubicBezTo>
                <a:cubicBezTo>
                  <a:pt x="2198" y="260"/>
                  <a:pt x="2217" y="232"/>
                  <a:pt x="2220" y="207"/>
                </a:cubicBezTo>
                <a:cubicBezTo>
                  <a:pt x="2227" y="159"/>
                  <a:pt x="2237" y="113"/>
                  <a:pt x="2252" y="67"/>
                </a:cubicBezTo>
                <a:cubicBezTo>
                  <a:pt x="2185" y="54"/>
                  <a:pt x="2127" y="68"/>
                  <a:pt x="2063" y="84"/>
                </a:cubicBezTo>
                <a:cubicBezTo>
                  <a:pt x="2020" y="113"/>
                  <a:pt x="1972" y="101"/>
                  <a:pt x="1924" y="117"/>
                </a:cubicBezTo>
                <a:cubicBezTo>
                  <a:pt x="1880" y="158"/>
                  <a:pt x="1816" y="167"/>
                  <a:pt x="1759" y="174"/>
                </a:cubicBezTo>
                <a:cubicBezTo>
                  <a:pt x="1588" y="165"/>
                  <a:pt x="1634" y="161"/>
                  <a:pt x="1505" y="125"/>
                </a:cubicBezTo>
                <a:cubicBezTo>
                  <a:pt x="1480" y="111"/>
                  <a:pt x="1429" y="70"/>
                  <a:pt x="1398" y="59"/>
                </a:cubicBezTo>
                <a:cubicBezTo>
                  <a:pt x="1334" y="35"/>
                  <a:pt x="1267" y="34"/>
                  <a:pt x="1200" y="43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2590920"/>
            <a:ext cx="38862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dy"/>
              </a:rPr>
              <a:t>DORMI T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dy"/>
              </a:rPr>
              <a:t>DORMI T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914400" y="2590920"/>
            <a:ext cx="2795760" cy="2057400"/>
            <a:chOff x="914400" y="2590920"/>
            <a:chExt cx="2795760" cy="2057400"/>
          </a:xfrm>
        </p:grpSpPr>
        <p:sp>
          <p:nvSpPr>
            <p:cNvPr id="66" name=""/>
            <p:cNvSpPr/>
            <p:nvPr/>
          </p:nvSpPr>
          <p:spPr>
            <a:xfrm>
              <a:off x="1309680" y="3389400"/>
              <a:ext cx="2035080" cy="1014480"/>
            </a:xfrm>
            <a:custGeom>
              <a:avLst/>
              <a:gdLst/>
              <a:ahLst/>
              <a:rect l="l" t="t" r="r" b="b"/>
              <a:pathLst>
                <a:path w="1282" h="639">
                  <a:moveTo>
                    <a:pt x="349" y="0"/>
                  </a:moveTo>
                  <a:cubicBezTo>
                    <a:pt x="335" y="3"/>
                    <a:pt x="320" y="1"/>
                    <a:pt x="308" y="8"/>
                  </a:cubicBezTo>
                  <a:cubicBezTo>
                    <a:pt x="299" y="13"/>
                    <a:pt x="299" y="26"/>
                    <a:pt x="292" y="33"/>
                  </a:cubicBezTo>
                  <a:cubicBezTo>
                    <a:pt x="272" y="54"/>
                    <a:pt x="249" y="73"/>
                    <a:pt x="226" y="91"/>
                  </a:cubicBezTo>
                  <a:cubicBezTo>
                    <a:pt x="201" y="110"/>
                    <a:pt x="163" y="124"/>
                    <a:pt x="136" y="140"/>
                  </a:cubicBezTo>
                  <a:cubicBezTo>
                    <a:pt x="99" y="161"/>
                    <a:pt x="64" y="189"/>
                    <a:pt x="29" y="214"/>
                  </a:cubicBezTo>
                  <a:cubicBezTo>
                    <a:pt x="0" y="335"/>
                    <a:pt x="203" y="316"/>
                    <a:pt x="267" y="321"/>
                  </a:cubicBezTo>
                  <a:cubicBezTo>
                    <a:pt x="330" y="341"/>
                    <a:pt x="389" y="375"/>
                    <a:pt x="448" y="403"/>
                  </a:cubicBezTo>
                  <a:cubicBezTo>
                    <a:pt x="500" y="428"/>
                    <a:pt x="443" y="411"/>
                    <a:pt x="505" y="436"/>
                  </a:cubicBezTo>
                  <a:cubicBezTo>
                    <a:pt x="559" y="458"/>
                    <a:pt x="542" y="446"/>
                    <a:pt x="588" y="460"/>
                  </a:cubicBezTo>
                  <a:cubicBezTo>
                    <a:pt x="615" y="468"/>
                    <a:pt x="635" y="484"/>
                    <a:pt x="662" y="493"/>
                  </a:cubicBezTo>
                  <a:cubicBezTo>
                    <a:pt x="706" y="538"/>
                    <a:pt x="782" y="548"/>
                    <a:pt x="842" y="567"/>
                  </a:cubicBezTo>
                  <a:cubicBezTo>
                    <a:pt x="892" y="583"/>
                    <a:pt x="933" y="617"/>
                    <a:pt x="982" y="633"/>
                  </a:cubicBezTo>
                  <a:cubicBezTo>
                    <a:pt x="1059" y="630"/>
                    <a:pt x="1137" y="639"/>
                    <a:pt x="1212" y="625"/>
                  </a:cubicBezTo>
                  <a:cubicBezTo>
                    <a:pt x="1231" y="622"/>
                    <a:pt x="1253" y="584"/>
                    <a:pt x="1253" y="584"/>
                  </a:cubicBezTo>
                  <a:cubicBezTo>
                    <a:pt x="1282" y="505"/>
                    <a:pt x="1226" y="503"/>
                    <a:pt x="1171" y="477"/>
                  </a:cubicBezTo>
                  <a:cubicBezTo>
                    <a:pt x="1153" y="458"/>
                    <a:pt x="1154" y="439"/>
                    <a:pt x="1130" y="428"/>
                  </a:cubicBezTo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52560" y="2594160"/>
              <a:ext cx="1719360" cy="1695600"/>
            </a:xfrm>
            <a:custGeom>
              <a:avLst/>
              <a:gdLst/>
              <a:ahLst/>
              <a:rect l="l" t="t" r="r" b="b"/>
              <a:pathLst>
                <a:path w="1083" h="1068">
                  <a:moveTo>
                    <a:pt x="328" y="99"/>
                  </a:moveTo>
                  <a:cubicBezTo>
                    <a:pt x="341" y="57"/>
                    <a:pt x="378" y="46"/>
                    <a:pt x="418" y="33"/>
                  </a:cubicBezTo>
                  <a:cubicBezTo>
                    <a:pt x="449" y="12"/>
                    <a:pt x="525" y="0"/>
                    <a:pt x="525" y="0"/>
                  </a:cubicBezTo>
                  <a:cubicBezTo>
                    <a:pt x="569" y="3"/>
                    <a:pt x="613" y="2"/>
                    <a:pt x="657" y="8"/>
                  </a:cubicBezTo>
                  <a:cubicBezTo>
                    <a:pt x="696" y="14"/>
                    <a:pt x="692" y="27"/>
                    <a:pt x="722" y="41"/>
                  </a:cubicBezTo>
                  <a:cubicBezTo>
                    <a:pt x="754" y="56"/>
                    <a:pt x="789" y="66"/>
                    <a:pt x="821" y="82"/>
                  </a:cubicBezTo>
                  <a:cubicBezTo>
                    <a:pt x="858" y="121"/>
                    <a:pt x="812" y="76"/>
                    <a:pt x="887" y="131"/>
                  </a:cubicBezTo>
                  <a:cubicBezTo>
                    <a:pt x="910" y="148"/>
                    <a:pt x="920" y="172"/>
                    <a:pt x="944" y="189"/>
                  </a:cubicBezTo>
                  <a:cubicBezTo>
                    <a:pt x="985" y="271"/>
                    <a:pt x="958" y="235"/>
                    <a:pt x="994" y="271"/>
                  </a:cubicBezTo>
                  <a:cubicBezTo>
                    <a:pt x="1008" y="285"/>
                    <a:pt x="1035" y="312"/>
                    <a:pt x="1035" y="312"/>
                  </a:cubicBezTo>
                  <a:cubicBezTo>
                    <a:pt x="1047" y="350"/>
                    <a:pt x="1054" y="389"/>
                    <a:pt x="1068" y="427"/>
                  </a:cubicBezTo>
                  <a:cubicBezTo>
                    <a:pt x="1075" y="485"/>
                    <a:pt x="1083" y="514"/>
                    <a:pt x="1068" y="575"/>
                  </a:cubicBezTo>
                  <a:cubicBezTo>
                    <a:pt x="1064" y="589"/>
                    <a:pt x="1021" y="624"/>
                    <a:pt x="1010" y="633"/>
                  </a:cubicBezTo>
                  <a:cubicBezTo>
                    <a:pt x="955" y="678"/>
                    <a:pt x="903" y="729"/>
                    <a:pt x="854" y="781"/>
                  </a:cubicBezTo>
                  <a:cubicBezTo>
                    <a:pt x="829" y="882"/>
                    <a:pt x="767" y="954"/>
                    <a:pt x="689" y="1019"/>
                  </a:cubicBezTo>
                  <a:cubicBezTo>
                    <a:pt x="657" y="1046"/>
                    <a:pt x="649" y="1058"/>
                    <a:pt x="607" y="1068"/>
                  </a:cubicBezTo>
                  <a:cubicBezTo>
                    <a:pt x="508" y="1062"/>
                    <a:pt x="486" y="1062"/>
                    <a:pt x="410" y="1044"/>
                  </a:cubicBezTo>
                  <a:cubicBezTo>
                    <a:pt x="378" y="1022"/>
                    <a:pt x="345" y="1004"/>
                    <a:pt x="311" y="986"/>
                  </a:cubicBezTo>
                  <a:cubicBezTo>
                    <a:pt x="278" y="952"/>
                    <a:pt x="237" y="911"/>
                    <a:pt x="196" y="887"/>
                  </a:cubicBezTo>
                  <a:cubicBezTo>
                    <a:pt x="151" y="860"/>
                    <a:pt x="142" y="870"/>
                    <a:pt x="106" y="830"/>
                  </a:cubicBezTo>
                  <a:cubicBezTo>
                    <a:pt x="56" y="775"/>
                    <a:pt x="53" y="747"/>
                    <a:pt x="32" y="682"/>
                  </a:cubicBezTo>
                  <a:cubicBezTo>
                    <a:pt x="36" y="535"/>
                    <a:pt x="0" y="479"/>
                    <a:pt x="57" y="386"/>
                  </a:cubicBezTo>
                  <a:cubicBezTo>
                    <a:pt x="80" y="348"/>
                    <a:pt x="112" y="298"/>
                    <a:pt x="155" y="279"/>
                  </a:cubicBezTo>
                  <a:cubicBezTo>
                    <a:pt x="181" y="268"/>
                    <a:pt x="237" y="255"/>
                    <a:pt x="237" y="255"/>
                  </a:cubicBezTo>
                  <a:cubicBezTo>
                    <a:pt x="289" y="203"/>
                    <a:pt x="205" y="294"/>
                    <a:pt x="262" y="189"/>
                  </a:cubicBezTo>
                  <a:cubicBezTo>
                    <a:pt x="271" y="172"/>
                    <a:pt x="289" y="162"/>
                    <a:pt x="303" y="148"/>
                  </a:cubicBezTo>
                  <a:cubicBezTo>
                    <a:pt x="309" y="142"/>
                    <a:pt x="320" y="131"/>
                    <a:pt x="320" y="131"/>
                  </a:cubicBezTo>
                  <a:cubicBezTo>
                    <a:pt x="323" y="123"/>
                    <a:pt x="324" y="114"/>
                    <a:pt x="328" y="107"/>
                  </a:cubicBezTo>
                  <a:cubicBezTo>
                    <a:pt x="337" y="92"/>
                    <a:pt x="360" y="81"/>
                    <a:pt x="328" y="99"/>
                  </a:cubicBez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255760" y="2735280"/>
              <a:ext cx="857520" cy="882720"/>
            </a:xfrm>
            <a:custGeom>
              <a:avLst/>
              <a:gdLst/>
              <a:ahLst/>
              <a:rect l="l" t="t" r="r" b="b"/>
              <a:pathLst>
                <a:path w="540" h="556">
                  <a:moveTo>
                    <a:pt x="246" y="223"/>
                  </a:moveTo>
                  <a:cubicBezTo>
                    <a:pt x="238" y="229"/>
                    <a:pt x="228" y="232"/>
                    <a:pt x="222" y="240"/>
                  </a:cubicBezTo>
                  <a:cubicBezTo>
                    <a:pt x="208" y="260"/>
                    <a:pt x="189" y="305"/>
                    <a:pt x="189" y="305"/>
                  </a:cubicBezTo>
                  <a:cubicBezTo>
                    <a:pt x="186" y="319"/>
                    <a:pt x="181" y="332"/>
                    <a:pt x="181" y="346"/>
                  </a:cubicBezTo>
                  <a:cubicBezTo>
                    <a:pt x="181" y="390"/>
                    <a:pt x="176" y="436"/>
                    <a:pt x="189" y="478"/>
                  </a:cubicBezTo>
                  <a:cubicBezTo>
                    <a:pt x="201" y="520"/>
                    <a:pt x="315" y="535"/>
                    <a:pt x="345" y="544"/>
                  </a:cubicBezTo>
                  <a:cubicBezTo>
                    <a:pt x="461" y="535"/>
                    <a:pt x="450" y="556"/>
                    <a:pt x="501" y="486"/>
                  </a:cubicBezTo>
                  <a:cubicBezTo>
                    <a:pt x="517" y="419"/>
                    <a:pt x="540" y="261"/>
                    <a:pt x="452" y="223"/>
                  </a:cubicBezTo>
                  <a:cubicBezTo>
                    <a:pt x="435" y="215"/>
                    <a:pt x="339" y="207"/>
                    <a:pt x="337" y="207"/>
                  </a:cubicBezTo>
                  <a:cubicBezTo>
                    <a:pt x="307" y="210"/>
                    <a:pt x="275" y="206"/>
                    <a:pt x="246" y="215"/>
                  </a:cubicBezTo>
                  <a:cubicBezTo>
                    <a:pt x="237" y="218"/>
                    <a:pt x="240" y="240"/>
                    <a:pt x="230" y="240"/>
                  </a:cubicBezTo>
                  <a:cubicBezTo>
                    <a:pt x="221" y="240"/>
                    <a:pt x="225" y="223"/>
                    <a:pt x="222" y="215"/>
                  </a:cubicBezTo>
                  <a:cubicBezTo>
                    <a:pt x="219" y="179"/>
                    <a:pt x="219" y="143"/>
                    <a:pt x="214" y="108"/>
                  </a:cubicBezTo>
                  <a:cubicBezTo>
                    <a:pt x="205" y="40"/>
                    <a:pt x="144" y="21"/>
                    <a:pt x="90" y="1"/>
                  </a:cubicBezTo>
                  <a:cubicBezTo>
                    <a:pt x="74" y="4"/>
                    <a:pt x="54" y="0"/>
                    <a:pt x="41" y="10"/>
                  </a:cubicBezTo>
                  <a:cubicBezTo>
                    <a:pt x="15" y="30"/>
                    <a:pt x="0" y="92"/>
                    <a:pt x="0" y="12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37000" y="3206880"/>
              <a:ext cx="288720" cy="378000"/>
            </a:xfrm>
            <a:custGeom>
              <a:avLst/>
              <a:gdLst/>
              <a:ahLst/>
              <a:rect l="l" t="t" r="r" b="b"/>
              <a:pathLst>
                <a:path w="182" h="238">
                  <a:moveTo>
                    <a:pt x="39" y="0"/>
                  </a:moveTo>
                  <a:cubicBezTo>
                    <a:pt x="63" y="24"/>
                    <a:pt x="56" y="47"/>
                    <a:pt x="72" y="74"/>
                  </a:cubicBezTo>
                  <a:cubicBezTo>
                    <a:pt x="86" y="97"/>
                    <a:pt x="114" y="107"/>
                    <a:pt x="138" y="115"/>
                  </a:cubicBezTo>
                  <a:cubicBezTo>
                    <a:pt x="182" y="145"/>
                    <a:pt x="158" y="117"/>
                    <a:pt x="146" y="156"/>
                  </a:cubicBezTo>
                  <a:cubicBezTo>
                    <a:pt x="138" y="183"/>
                    <a:pt x="130" y="238"/>
                    <a:pt x="130" y="238"/>
                  </a:cubicBezTo>
                  <a:cubicBezTo>
                    <a:pt x="127" y="216"/>
                    <a:pt x="130" y="193"/>
                    <a:pt x="122" y="173"/>
                  </a:cubicBezTo>
                  <a:cubicBezTo>
                    <a:pt x="119" y="165"/>
                    <a:pt x="122" y="197"/>
                    <a:pt x="113" y="197"/>
                  </a:cubicBezTo>
                  <a:cubicBezTo>
                    <a:pt x="103" y="197"/>
                    <a:pt x="102" y="181"/>
                    <a:pt x="97" y="173"/>
                  </a:cubicBezTo>
                  <a:cubicBezTo>
                    <a:pt x="100" y="165"/>
                    <a:pt x="113" y="152"/>
                    <a:pt x="105" y="148"/>
                  </a:cubicBezTo>
                  <a:cubicBezTo>
                    <a:pt x="91" y="142"/>
                    <a:pt x="67" y="184"/>
                    <a:pt x="64" y="189"/>
                  </a:cubicBezTo>
                  <a:cubicBezTo>
                    <a:pt x="52" y="59"/>
                    <a:pt x="68" y="92"/>
                    <a:pt x="23" y="140"/>
                  </a:cubicBezTo>
                  <a:cubicBezTo>
                    <a:pt x="26" y="126"/>
                    <a:pt x="37" y="111"/>
                    <a:pt x="31" y="99"/>
                  </a:cubicBezTo>
                  <a:cubicBezTo>
                    <a:pt x="27" y="91"/>
                    <a:pt x="12" y="113"/>
                    <a:pt x="6" y="107"/>
                  </a:cubicBezTo>
                  <a:cubicBezTo>
                    <a:pt x="0" y="101"/>
                    <a:pt x="30" y="59"/>
                    <a:pt x="31" y="58"/>
                  </a:cubicBezTo>
                  <a:cubicBezTo>
                    <a:pt x="42" y="23"/>
                    <a:pt x="39" y="42"/>
                    <a:pt x="39" y="0"/>
                  </a:cubicBez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38520" y="3519720"/>
              <a:ext cx="468360" cy="392040"/>
            </a:xfrm>
            <a:custGeom>
              <a:avLst/>
              <a:gdLst/>
              <a:ahLst/>
              <a:rect l="l" t="t" r="r" b="b"/>
              <a:pathLst>
                <a:path w="295" h="247">
                  <a:moveTo>
                    <a:pt x="0" y="148"/>
                  </a:moveTo>
                  <a:cubicBezTo>
                    <a:pt x="47" y="219"/>
                    <a:pt x="68" y="228"/>
                    <a:pt x="148" y="247"/>
                  </a:cubicBezTo>
                  <a:cubicBezTo>
                    <a:pt x="178" y="244"/>
                    <a:pt x="209" y="245"/>
                    <a:pt x="238" y="239"/>
                  </a:cubicBezTo>
                  <a:cubicBezTo>
                    <a:pt x="277" y="231"/>
                    <a:pt x="277" y="169"/>
                    <a:pt x="288" y="140"/>
                  </a:cubicBezTo>
                  <a:cubicBezTo>
                    <a:pt x="285" y="102"/>
                    <a:pt x="295" y="60"/>
                    <a:pt x="279" y="25"/>
                  </a:cubicBezTo>
                  <a:cubicBezTo>
                    <a:pt x="272" y="9"/>
                    <a:pt x="247" y="14"/>
                    <a:pt x="230" y="9"/>
                  </a:cubicBezTo>
                  <a:cubicBezTo>
                    <a:pt x="219" y="6"/>
                    <a:pt x="197" y="0"/>
                    <a:pt x="197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08320" y="3584880"/>
              <a:ext cx="743040" cy="469800"/>
            </a:xfrm>
            <a:custGeom>
              <a:avLst/>
              <a:gdLst/>
              <a:ahLst/>
              <a:rect l="l" t="t" r="r" b="b"/>
              <a:pathLst>
                <a:path w="468" h="296">
                  <a:moveTo>
                    <a:pt x="0" y="0"/>
                  </a:moveTo>
                  <a:cubicBezTo>
                    <a:pt x="20" y="83"/>
                    <a:pt x="57" y="132"/>
                    <a:pt x="131" y="173"/>
                  </a:cubicBezTo>
                  <a:cubicBezTo>
                    <a:pt x="140" y="178"/>
                    <a:pt x="148" y="183"/>
                    <a:pt x="156" y="189"/>
                  </a:cubicBezTo>
                  <a:cubicBezTo>
                    <a:pt x="162" y="194"/>
                    <a:pt x="165" y="202"/>
                    <a:pt x="172" y="206"/>
                  </a:cubicBezTo>
                  <a:cubicBezTo>
                    <a:pt x="180" y="211"/>
                    <a:pt x="225" y="221"/>
                    <a:pt x="230" y="222"/>
                  </a:cubicBezTo>
                  <a:cubicBezTo>
                    <a:pt x="294" y="270"/>
                    <a:pt x="387" y="296"/>
                    <a:pt x="468" y="29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43160" y="3457800"/>
              <a:ext cx="300240" cy="349200"/>
            </a:xfrm>
            <a:custGeom>
              <a:avLst/>
              <a:gdLst/>
              <a:ahLst/>
              <a:rect l="l" t="t" r="r" b="b"/>
              <a:pathLst>
                <a:path w="189" h="220">
                  <a:moveTo>
                    <a:pt x="0" y="56"/>
                  </a:moveTo>
                  <a:cubicBezTo>
                    <a:pt x="18" y="37"/>
                    <a:pt x="35" y="22"/>
                    <a:pt x="57" y="7"/>
                  </a:cubicBezTo>
                  <a:cubicBezTo>
                    <a:pt x="88" y="11"/>
                    <a:pt x="127" y="0"/>
                    <a:pt x="148" y="23"/>
                  </a:cubicBezTo>
                  <a:cubicBezTo>
                    <a:pt x="165" y="42"/>
                    <a:pt x="189" y="89"/>
                    <a:pt x="189" y="89"/>
                  </a:cubicBezTo>
                  <a:cubicBezTo>
                    <a:pt x="186" y="119"/>
                    <a:pt x="185" y="149"/>
                    <a:pt x="181" y="179"/>
                  </a:cubicBezTo>
                  <a:cubicBezTo>
                    <a:pt x="180" y="188"/>
                    <a:pt x="179" y="199"/>
                    <a:pt x="172" y="204"/>
                  </a:cubicBezTo>
                  <a:cubicBezTo>
                    <a:pt x="158" y="214"/>
                    <a:pt x="123" y="220"/>
                    <a:pt x="123" y="220"/>
                  </a:cubicBezTo>
                  <a:cubicBezTo>
                    <a:pt x="93" y="217"/>
                    <a:pt x="33" y="212"/>
                    <a:pt x="33" y="21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106800" y="3522960"/>
              <a:ext cx="289080" cy="377640"/>
            </a:xfrm>
            <a:custGeom>
              <a:avLst/>
              <a:gdLst/>
              <a:ahLst/>
              <a:rect l="l" t="t" r="r" b="b"/>
              <a:pathLst>
                <a:path w="182" h="238">
                  <a:moveTo>
                    <a:pt x="39" y="0"/>
                  </a:moveTo>
                  <a:cubicBezTo>
                    <a:pt x="63" y="24"/>
                    <a:pt x="56" y="47"/>
                    <a:pt x="72" y="74"/>
                  </a:cubicBezTo>
                  <a:cubicBezTo>
                    <a:pt x="86" y="97"/>
                    <a:pt x="114" y="107"/>
                    <a:pt x="138" y="115"/>
                  </a:cubicBezTo>
                  <a:cubicBezTo>
                    <a:pt x="182" y="145"/>
                    <a:pt x="158" y="117"/>
                    <a:pt x="146" y="156"/>
                  </a:cubicBezTo>
                  <a:cubicBezTo>
                    <a:pt x="138" y="183"/>
                    <a:pt x="130" y="238"/>
                    <a:pt x="130" y="238"/>
                  </a:cubicBezTo>
                  <a:cubicBezTo>
                    <a:pt x="127" y="216"/>
                    <a:pt x="130" y="193"/>
                    <a:pt x="122" y="173"/>
                  </a:cubicBezTo>
                  <a:cubicBezTo>
                    <a:pt x="119" y="165"/>
                    <a:pt x="122" y="197"/>
                    <a:pt x="113" y="197"/>
                  </a:cubicBezTo>
                  <a:cubicBezTo>
                    <a:pt x="103" y="197"/>
                    <a:pt x="102" y="181"/>
                    <a:pt x="97" y="173"/>
                  </a:cubicBezTo>
                  <a:cubicBezTo>
                    <a:pt x="100" y="165"/>
                    <a:pt x="113" y="152"/>
                    <a:pt x="105" y="148"/>
                  </a:cubicBezTo>
                  <a:cubicBezTo>
                    <a:pt x="91" y="142"/>
                    <a:pt x="67" y="184"/>
                    <a:pt x="64" y="189"/>
                  </a:cubicBezTo>
                  <a:cubicBezTo>
                    <a:pt x="52" y="59"/>
                    <a:pt x="68" y="92"/>
                    <a:pt x="23" y="140"/>
                  </a:cubicBezTo>
                  <a:cubicBezTo>
                    <a:pt x="26" y="126"/>
                    <a:pt x="37" y="111"/>
                    <a:pt x="31" y="99"/>
                  </a:cubicBezTo>
                  <a:cubicBezTo>
                    <a:pt x="27" y="91"/>
                    <a:pt x="12" y="113"/>
                    <a:pt x="6" y="107"/>
                  </a:cubicBezTo>
                  <a:cubicBezTo>
                    <a:pt x="0" y="101"/>
                    <a:pt x="30" y="59"/>
                    <a:pt x="31" y="58"/>
                  </a:cubicBezTo>
                  <a:cubicBezTo>
                    <a:pt x="42" y="23"/>
                    <a:pt x="39" y="42"/>
                    <a:pt x="39" y="0"/>
                  </a:cubicBez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95680" y="2590920"/>
              <a:ext cx="879480" cy="838080"/>
            </a:xfrm>
            <a:custGeom>
              <a:avLst/>
              <a:gdLst/>
              <a:ahLst/>
              <a:rect l="l" t="t" r="r" b="b"/>
              <a:pathLst>
                <a:path w="554" h="528">
                  <a:moveTo>
                    <a:pt x="167" y="43"/>
                  </a:moveTo>
                  <a:cubicBezTo>
                    <a:pt x="182" y="120"/>
                    <a:pt x="214" y="220"/>
                    <a:pt x="298" y="248"/>
                  </a:cubicBezTo>
                  <a:cubicBezTo>
                    <a:pt x="361" y="311"/>
                    <a:pt x="329" y="285"/>
                    <a:pt x="397" y="331"/>
                  </a:cubicBezTo>
                  <a:cubicBezTo>
                    <a:pt x="419" y="346"/>
                    <a:pt x="471" y="363"/>
                    <a:pt x="471" y="363"/>
                  </a:cubicBezTo>
                  <a:cubicBezTo>
                    <a:pt x="485" y="360"/>
                    <a:pt x="501" y="347"/>
                    <a:pt x="512" y="355"/>
                  </a:cubicBezTo>
                  <a:cubicBezTo>
                    <a:pt x="533" y="370"/>
                    <a:pt x="529" y="404"/>
                    <a:pt x="537" y="429"/>
                  </a:cubicBezTo>
                  <a:cubicBezTo>
                    <a:pt x="543" y="446"/>
                    <a:pt x="553" y="479"/>
                    <a:pt x="553" y="479"/>
                  </a:cubicBezTo>
                  <a:cubicBezTo>
                    <a:pt x="550" y="490"/>
                    <a:pt x="554" y="505"/>
                    <a:pt x="545" y="511"/>
                  </a:cubicBezTo>
                  <a:cubicBezTo>
                    <a:pt x="538" y="515"/>
                    <a:pt x="533" y="501"/>
                    <a:pt x="528" y="495"/>
                  </a:cubicBezTo>
                  <a:cubicBezTo>
                    <a:pt x="486" y="436"/>
                    <a:pt x="525" y="469"/>
                    <a:pt x="479" y="437"/>
                  </a:cubicBezTo>
                  <a:cubicBezTo>
                    <a:pt x="456" y="368"/>
                    <a:pt x="487" y="450"/>
                    <a:pt x="463" y="520"/>
                  </a:cubicBezTo>
                  <a:cubicBezTo>
                    <a:pt x="460" y="528"/>
                    <a:pt x="446" y="514"/>
                    <a:pt x="438" y="511"/>
                  </a:cubicBezTo>
                  <a:cubicBezTo>
                    <a:pt x="435" y="470"/>
                    <a:pt x="442" y="427"/>
                    <a:pt x="430" y="388"/>
                  </a:cubicBezTo>
                  <a:cubicBezTo>
                    <a:pt x="427" y="378"/>
                    <a:pt x="411" y="397"/>
                    <a:pt x="405" y="405"/>
                  </a:cubicBezTo>
                  <a:cubicBezTo>
                    <a:pt x="343" y="496"/>
                    <a:pt x="442" y="392"/>
                    <a:pt x="380" y="454"/>
                  </a:cubicBezTo>
                  <a:cubicBezTo>
                    <a:pt x="369" y="328"/>
                    <a:pt x="389" y="359"/>
                    <a:pt x="331" y="396"/>
                  </a:cubicBezTo>
                  <a:cubicBezTo>
                    <a:pt x="313" y="425"/>
                    <a:pt x="307" y="464"/>
                    <a:pt x="274" y="429"/>
                  </a:cubicBezTo>
                  <a:cubicBezTo>
                    <a:pt x="288" y="385"/>
                    <a:pt x="307" y="381"/>
                    <a:pt x="265" y="363"/>
                  </a:cubicBezTo>
                  <a:cubicBezTo>
                    <a:pt x="255" y="359"/>
                    <a:pt x="243" y="358"/>
                    <a:pt x="232" y="355"/>
                  </a:cubicBezTo>
                  <a:cubicBezTo>
                    <a:pt x="248" y="332"/>
                    <a:pt x="266" y="313"/>
                    <a:pt x="282" y="290"/>
                  </a:cubicBezTo>
                  <a:cubicBezTo>
                    <a:pt x="88" y="276"/>
                    <a:pt x="156" y="300"/>
                    <a:pt x="216" y="240"/>
                  </a:cubicBezTo>
                  <a:cubicBezTo>
                    <a:pt x="174" y="230"/>
                    <a:pt x="41" y="247"/>
                    <a:pt x="134" y="199"/>
                  </a:cubicBezTo>
                  <a:cubicBezTo>
                    <a:pt x="139" y="191"/>
                    <a:pt x="158" y="179"/>
                    <a:pt x="150" y="174"/>
                  </a:cubicBezTo>
                  <a:cubicBezTo>
                    <a:pt x="126" y="159"/>
                    <a:pt x="68" y="158"/>
                    <a:pt x="68" y="158"/>
                  </a:cubicBezTo>
                  <a:cubicBezTo>
                    <a:pt x="72" y="157"/>
                    <a:pt x="126" y="148"/>
                    <a:pt x="126" y="133"/>
                  </a:cubicBezTo>
                  <a:cubicBezTo>
                    <a:pt x="126" y="123"/>
                    <a:pt x="110" y="120"/>
                    <a:pt x="101" y="117"/>
                  </a:cubicBezTo>
                  <a:cubicBezTo>
                    <a:pt x="85" y="112"/>
                    <a:pt x="68" y="112"/>
                    <a:pt x="52" y="109"/>
                  </a:cubicBezTo>
                  <a:cubicBezTo>
                    <a:pt x="73" y="104"/>
                    <a:pt x="137" y="96"/>
                    <a:pt x="76" y="76"/>
                  </a:cubicBezTo>
                  <a:cubicBezTo>
                    <a:pt x="0" y="0"/>
                    <a:pt x="42" y="48"/>
                    <a:pt x="76" y="59"/>
                  </a:cubicBezTo>
                  <a:cubicBezTo>
                    <a:pt x="90" y="54"/>
                    <a:pt x="110" y="56"/>
                    <a:pt x="117" y="43"/>
                  </a:cubicBezTo>
                  <a:cubicBezTo>
                    <a:pt x="122" y="35"/>
                    <a:pt x="102" y="31"/>
                    <a:pt x="93" y="27"/>
                  </a:cubicBezTo>
                  <a:cubicBezTo>
                    <a:pt x="85" y="23"/>
                    <a:pt x="59" y="16"/>
                    <a:pt x="68" y="18"/>
                  </a:cubicBezTo>
                  <a:cubicBezTo>
                    <a:pt x="101" y="25"/>
                    <a:pt x="134" y="35"/>
                    <a:pt x="167" y="43"/>
                  </a:cubicBezTo>
                  <a:close/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914400" y="3899160"/>
              <a:ext cx="1295640" cy="573120"/>
            </a:xfrm>
            <a:custGeom>
              <a:avLst/>
              <a:gdLst/>
              <a:ahLst/>
              <a:rect l="l" t="t" r="r" b="b"/>
              <a:pathLst>
                <a:path w="816" h="361">
                  <a:moveTo>
                    <a:pt x="508" y="0"/>
                  </a:moveTo>
                  <a:cubicBezTo>
                    <a:pt x="491" y="3"/>
                    <a:pt x="460" y="2"/>
                    <a:pt x="450" y="24"/>
                  </a:cubicBezTo>
                  <a:cubicBezTo>
                    <a:pt x="427" y="77"/>
                    <a:pt x="433" y="160"/>
                    <a:pt x="352" y="164"/>
                  </a:cubicBezTo>
                  <a:cubicBezTo>
                    <a:pt x="253" y="169"/>
                    <a:pt x="155" y="169"/>
                    <a:pt x="56" y="172"/>
                  </a:cubicBezTo>
                  <a:cubicBezTo>
                    <a:pt x="9" y="204"/>
                    <a:pt x="0" y="244"/>
                    <a:pt x="23" y="304"/>
                  </a:cubicBezTo>
                  <a:cubicBezTo>
                    <a:pt x="28" y="317"/>
                    <a:pt x="46" y="319"/>
                    <a:pt x="56" y="328"/>
                  </a:cubicBezTo>
                  <a:cubicBezTo>
                    <a:pt x="62" y="333"/>
                    <a:pt x="65" y="342"/>
                    <a:pt x="72" y="345"/>
                  </a:cubicBezTo>
                  <a:cubicBezTo>
                    <a:pt x="88" y="353"/>
                    <a:pt x="122" y="361"/>
                    <a:pt x="122" y="361"/>
                  </a:cubicBezTo>
                  <a:cubicBezTo>
                    <a:pt x="188" y="356"/>
                    <a:pt x="253" y="352"/>
                    <a:pt x="319" y="345"/>
                  </a:cubicBezTo>
                  <a:cubicBezTo>
                    <a:pt x="358" y="341"/>
                    <a:pt x="406" y="311"/>
                    <a:pt x="442" y="304"/>
                  </a:cubicBezTo>
                  <a:cubicBezTo>
                    <a:pt x="489" y="295"/>
                    <a:pt x="535" y="280"/>
                    <a:pt x="582" y="271"/>
                  </a:cubicBezTo>
                  <a:cubicBezTo>
                    <a:pt x="620" y="274"/>
                    <a:pt x="659" y="279"/>
                    <a:pt x="697" y="279"/>
                  </a:cubicBezTo>
                  <a:cubicBezTo>
                    <a:pt x="816" y="279"/>
                    <a:pt x="779" y="236"/>
                    <a:pt x="779" y="123"/>
                  </a:cubicBezTo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08320" y="4159440"/>
              <a:ext cx="1096920" cy="488880"/>
            </a:xfrm>
            <a:custGeom>
              <a:avLst/>
              <a:gdLst/>
              <a:ahLst/>
              <a:rect l="l" t="t" r="r" b="b"/>
              <a:pathLst>
                <a:path w="691" h="308">
                  <a:moveTo>
                    <a:pt x="0" y="0"/>
                  </a:moveTo>
                  <a:cubicBezTo>
                    <a:pt x="3" y="63"/>
                    <a:pt x="1" y="126"/>
                    <a:pt x="8" y="189"/>
                  </a:cubicBezTo>
                  <a:cubicBezTo>
                    <a:pt x="13" y="229"/>
                    <a:pt x="72" y="235"/>
                    <a:pt x="98" y="238"/>
                  </a:cubicBezTo>
                  <a:cubicBezTo>
                    <a:pt x="216" y="252"/>
                    <a:pt x="333" y="264"/>
                    <a:pt x="452" y="271"/>
                  </a:cubicBezTo>
                  <a:cubicBezTo>
                    <a:pt x="525" y="281"/>
                    <a:pt x="627" y="308"/>
                    <a:pt x="674" y="238"/>
                  </a:cubicBezTo>
                  <a:cubicBezTo>
                    <a:pt x="685" y="204"/>
                    <a:pt x="691" y="162"/>
                    <a:pt x="657" y="140"/>
                  </a:cubicBezTo>
                  <a:cubicBezTo>
                    <a:pt x="647" y="133"/>
                    <a:pt x="636" y="127"/>
                    <a:pt x="624" y="123"/>
                  </a:cubicBezTo>
                  <a:cubicBezTo>
                    <a:pt x="603" y="116"/>
                    <a:pt x="559" y="107"/>
                    <a:pt x="559" y="107"/>
                  </a:cubicBezTo>
                  <a:cubicBezTo>
                    <a:pt x="529" y="110"/>
                    <a:pt x="498" y="110"/>
                    <a:pt x="468" y="115"/>
                  </a:cubicBezTo>
                  <a:cubicBezTo>
                    <a:pt x="443" y="119"/>
                    <a:pt x="394" y="132"/>
                    <a:pt x="394" y="132"/>
                  </a:cubicBezTo>
                  <a:cubicBezTo>
                    <a:pt x="378" y="129"/>
                    <a:pt x="360" y="131"/>
                    <a:pt x="345" y="123"/>
                  </a:cubicBezTo>
                  <a:cubicBezTo>
                    <a:pt x="329" y="115"/>
                    <a:pt x="320" y="74"/>
                    <a:pt x="320" y="74"/>
                  </a:cubicBezTo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93920" y="3254400"/>
              <a:ext cx="509400" cy="592200"/>
            </a:xfrm>
            <a:custGeom>
              <a:avLst/>
              <a:gdLst/>
              <a:ahLst/>
              <a:rect l="l" t="t" r="r" b="b"/>
              <a:pathLst>
                <a:path w="321" h="373">
                  <a:moveTo>
                    <a:pt x="321" y="36"/>
                  </a:moveTo>
                  <a:cubicBezTo>
                    <a:pt x="266" y="8"/>
                    <a:pt x="280" y="0"/>
                    <a:pt x="214" y="11"/>
                  </a:cubicBezTo>
                  <a:cubicBezTo>
                    <a:pt x="184" y="43"/>
                    <a:pt x="150" y="66"/>
                    <a:pt x="116" y="93"/>
                  </a:cubicBezTo>
                  <a:cubicBezTo>
                    <a:pt x="110" y="98"/>
                    <a:pt x="106" y="106"/>
                    <a:pt x="99" y="110"/>
                  </a:cubicBezTo>
                  <a:cubicBezTo>
                    <a:pt x="84" y="118"/>
                    <a:pt x="66" y="121"/>
                    <a:pt x="50" y="126"/>
                  </a:cubicBezTo>
                  <a:cubicBezTo>
                    <a:pt x="42" y="129"/>
                    <a:pt x="25" y="135"/>
                    <a:pt x="25" y="135"/>
                  </a:cubicBezTo>
                  <a:cubicBezTo>
                    <a:pt x="20" y="143"/>
                    <a:pt x="10" y="149"/>
                    <a:pt x="9" y="159"/>
                  </a:cubicBezTo>
                  <a:cubicBezTo>
                    <a:pt x="0" y="252"/>
                    <a:pt x="34" y="215"/>
                    <a:pt x="116" y="208"/>
                  </a:cubicBezTo>
                  <a:cubicBezTo>
                    <a:pt x="86" y="238"/>
                    <a:pt x="102" y="216"/>
                    <a:pt x="83" y="274"/>
                  </a:cubicBezTo>
                  <a:cubicBezTo>
                    <a:pt x="80" y="282"/>
                    <a:pt x="74" y="299"/>
                    <a:pt x="74" y="299"/>
                  </a:cubicBezTo>
                  <a:cubicBezTo>
                    <a:pt x="110" y="311"/>
                    <a:pt x="123" y="299"/>
                    <a:pt x="157" y="282"/>
                  </a:cubicBezTo>
                  <a:cubicBezTo>
                    <a:pt x="184" y="311"/>
                    <a:pt x="170" y="345"/>
                    <a:pt x="198" y="373"/>
                  </a:cubicBezTo>
                  <a:cubicBezTo>
                    <a:pt x="214" y="370"/>
                    <a:pt x="232" y="371"/>
                    <a:pt x="247" y="365"/>
                  </a:cubicBezTo>
                  <a:cubicBezTo>
                    <a:pt x="274" y="355"/>
                    <a:pt x="271" y="311"/>
                    <a:pt x="280" y="291"/>
                  </a:cubicBezTo>
                  <a:cubicBezTo>
                    <a:pt x="287" y="276"/>
                    <a:pt x="309" y="262"/>
                    <a:pt x="321" y="250"/>
                  </a:cubicBezTo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25800" y="3937320"/>
              <a:ext cx="684360" cy="482400"/>
            </a:xfrm>
            <a:custGeom>
              <a:avLst/>
              <a:gdLst/>
              <a:ahLst/>
              <a:rect l="l" t="t" r="r" b="b"/>
              <a:pathLst>
                <a:path w="431" h="304">
                  <a:moveTo>
                    <a:pt x="98" y="0"/>
                  </a:moveTo>
                  <a:cubicBezTo>
                    <a:pt x="146" y="48"/>
                    <a:pt x="163" y="76"/>
                    <a:pt x="238" y="91"/>
                  </a:cubicBezTo>
                  <a:cubicBezTo>
                    <a:pt x="292" y="117"/>
                    <a:pt x="352" y="113"/>
                    <a:pt x="411" y="124"/>
                  </a:cubicBezTo>
                  <a:cubicBezTo>
                    <a:pt x="423" y="174"/>
                    <a:pt x="431" y="184"/>
                    <a:pt x="378" y="198"/>
                  </a:cubicBezTo>
                  <a:cubicBezTo>
                    <a:pt x="218" y="187"/>
                    <a:pt x="240" y="158"/>
                    <a:pt x="263" y="255"/>
                  </a:cubicBezTo>
                  <a:cubicBezTo>
                    <a:pt x="252" y="301"/>
                    <a:pt x="250" y="302"/>
                    <a:pt x="205" y="288"/>
                  </a:cubicBezTo>
                  <a:cubicBezTo>
                    <a:pt x="197" y="277"/>
                    <a:pt x="187" y="267"/>
                    <a:pt x="181" y="255"/>
                  </a:cubicBezTo>
                  <a:cubicBezTo>
                    <a:pt x="173" y="240"/>
                    <a:pt x="164" y="206"/>
                    <a:pt x="164" y="206"/>
                  </a:cubicBezTo>
                  <a:cubicBezTo>
                    <a:pt x="156" y="209"/>
                    <a:pt x="145" y="207"/>
                    <a:pt x="140" y="214"/>
                  </a:cubicBezTo>
                  <a:cubicBezTo>
                    <a:pt x="127" y="230"/>
                    <a:pt x="133" y="255"/>
                    <a:pt x="123" y="272"/>
                  </a:cubicBezTo>
                  <a:cubicBezTo>
                    <a:pt x="116" y="284"/>
                    <a:pt x="106" y="293"/>
                    <a:pt x="98" y="304"/>
                  </a:cubicBezTo>
                  <a:cubicBezTo>
                    <a:pt x="60" y="291"/>
                    <a:pt x="76" y="282"/>
                    <a:pt x="49" y="255"/>
                  </a:cubicBezTo>
                  <a:cubicBezTo>
                    <a:pt x="39" y="224"/>
                    <a:pt x="25" y="197"/>
                    <a:pt x="16" y="165"/>
                  </a:cubicBezTo>
                  <a:cubicBezTo>
                    <a:pt x="11" y="148"/>
                    <a:pt x="0" y="115"/>
                    <a:pt x="0" y="115"/>
                  </a:cubicBezTo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785960" y="3345120"/>
              <a:ext cx="1284480" cy="990360"/>
            </a:xfrm>
            <a:custGeom>
              <a:avLst/>
              <a:gdLst/>
              <a:ahLst/>
              <a:rect l="l" t="t" r="r" b="b"/>
              <a:pathLst>
                <a:path w="809" h="624">
                  <a:moveTo>
                    <a:pt x="66" y="36"/>
                  </a:moveTo>
                  <a:cubicBezTo>
                    <a:pt x="49" y="39"/>
                    <a:pt x="29" y="34"/>
                    <a:pt x="16" y="45"/>
                  </a:cubicBezTo>
                  <a:cubicBezTo>
                    <a:pt x="3" y="56"/>
                    <a:pt x="0" y="94"/>
                    <a:pt x="0" y="94"/>
                  </a:cubicBezTo>
                  <a:cubicBezTo>
                    <a:pt x="15" y="172"/>
                    <a:pt x="49" y="236"/>
                    <a:pt x="107" y="291"/>
                  </a:cubicBezTo>
                  <a:cubicBezTo>
                    <a:pt x="118" y="320"/>
                    <a:pt x="120" y="353"/>
                    <a:pt x="132" y="382"/>
                  </a:cubicBezTo>
                  <a:cubicBezTo>
                    <a:pt x="163" y="459"/>
                    <a:pt x="276" y="498"/>
                    <a:pt x="345" y="521"/>
                  </a:cubicBezTo>
                  <a:cubicBezTo>
                    <a:pt x="412" y="588"/>
                    <a:pt x="503" y="598"/>
                    <a:pt x="592" y="620"/>
                  </a:cubicBezTo>
                  <a:cubicBezTo>
                    <a:pt x="668" y="615"/>
                    <a:pt x="714" y="624"/>
                    <a:pt x="773" y="587"/>
                  </a:cubicBezTo>
                  <a:cubicBezTo>
                    <a:pt x="787" y="544"/>
                    <a:pt x="809" y="522"/>
                    <a:pt x="756" y="505"/>
                  </a:cubicBezTo>
                  <a:cubicBezTo>
                    <a:pt x="732" y="520"/>
                    <a:pt x="714" y="539"/>
                    <a:pt x="690" y="554"/>
                  </a:cubicBezTo>
                  <a:cubicBezTo>
                    <a:pt x="597" y="551"/>
                    <a:pt x="504" y="553"/>
                    <a:pt x="411" y="546"/>
                  </a:cubicBezTo>
                  <a:cubicBezTo>
                    <a:pt x="390" y="544"/>
                    <a:pt x="361" y="510"/>
                    <a:pt x="345" y="497"/>
                  </a:cubicBezTo>
                  <a:cubicBezTo>
                    <a:pt x="297" y="458"/>
                    <a:pt x="252" y="432"/>
                    <a:pt x="214" y="382"/>
                  </a:cubicBezTo>
                  <a:cubicBezTo>
                    <a:pt x="203" y="329"/>
                    <a:pt x="194" y="261"/>
                    <a:pt x="164" y="217"/>
                  </a:cubicBezTo>
                  <a:cubicBezTo>
                    <a:pt x="145" y="159"/>
                    <a:pt x="117" y="112"/>
                    <a:pt x="66" y="78"/>
                  </a:cubicBezTo>
                  <a:cubicBezTo>
                    <a:pt x="63" y="64"/>
                    <a:pt x="64" y="49"/>
                    <a:pt x="58" y="36"/>
                  </a:cubicBezTo>
                  <a:cubicBezTo>
                    <a:pt x="54" y="26"/>
                    <a:pt x="9" y="0"/>
                    <a:pt x="66" y="36"/>
                  </a:cubicBezTo>
                  <a:close/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51360" y="3964320"/>
              <a:ext cx="104760" cy="195120"/>
            </a:xfrm>
            <a:custGeom>
              <a:avLst/>
              <a:gdLst/>
              <a:ahLst/>
              <a:rect l="l" t="t" r="r" b="b"/>
              <a:pathLst>
                <a:path w="66" h="123">
                  <a:moveTo>
                    <a:pt x="0" y="123"/>
                  </a:moveTo>
                  <a:cubicBezTo>
                    <a:pt x="8" y="89"/>
                    <a:pt x="18" y="74"/>
                    <a:pt x="41" y="49"/>
                  </a:cubicBezTo>
                  <a:cubicBezTo>
                    <a:pt x="44" y="41"/>
                    <a:pt x="46" y="32"/>
                    <a:pt x="50" y="24"/>
                  </a:cubicBezTo>
                  <a:cubicBezTo>
                    <a:pt x="54" y="15"/>
                    <a:pt x="66" y="0"/>
                    <a:pt x="66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3657600" y="1523880"/>
            <a:ext cx="2666880" cy="990720"/>
          </a:xfrm>
          <a:prstGeom prst="cloudCallout">
            <a:avLst>
              <a:gd name="adj1" fmla="val -58393"/>
              <a:gd name="adj2" fmla="val 81888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ZZZZ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52280"/>
            <a:ext cx="8839440" cy="1911600"/>
            <a:chOff x="152280" y="152280"/>
            <a:chExt cx="8839440" cy="1911600"/>
          </a:xfrm>
        </p:grpSpPr>
        <p:sp>
          <p:nvSpPr>
            <p:cNvPr id="83" name=""/>
            <p:cNvSpPr/>
            <p:nvPr/>
          </p:nvSpPr>
          <p:spPr>
            <a:xfrm>
              <a:off x="152280" y="152280"/>
              <a:ext cx="8839440" cy="9144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380880" y="228600"/>
              <a:ext cx="58676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8440">
                    <a:solidFill>
                      <a:srgbClr val="ff3300"/>
                    </a:solidFill>
                    <a:miter/>
                  </a:ln>
                  <a:solidFill>
                    <a:srgbClr val="ffffff"/>
                  </a:solidFill>
                  <a:latin typeface="Broadway BT"/>
                </a:rPr>
                <a:t>FRA MARTINO</a:t>
              </a:r>
              <a:endParaRPr b="0" lang="en-US" sz="2400" spc="1" strike="noStrike">
                <a:ln w="28440">
                  <a:solidFill>
                    <a:srgbClr val="ff3300"/>
                  </a:solidFill>
                  <a:miter/>
                </a:ln>
                <a:solidFill>
                  <a:srgbClr val="ffffff"/>
                </a:solidFill>
                <a:latin typeface="Broadway BT"/>
                <a:ea typeface="Broadway BT"/>
              </a:endParaRPr>
            </a:p>
          </p:txBody>
        </p:sp>
        <p:graphicFrame>
          <p:nvGraphicFramePr>
            <p:cNvPr id="85" name=""/>
            <p:cNvGraphicFramePr/>
            <p:nvPr/>
          </p:nvGraphicFramePr>
          <p:xfrm>
            <a:off x="6781680" y="457200"/>
            <a:ext cx="1605240" cy="1606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81680" y="457200"/>
                      <a:ext cx="1605240" cy="160668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</p:spTree>
  </p:cSld>
  <p:transition advTm="3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66720" y="2438280"/>
            <a:ext cx="7093080" cy="2898720"/>
          </a:xfrm>
          <a:custGeom>
            <a:avLst/>
            <a:gdLst/>
            <a:ahLst/>
            <a:rect l="l" t="t" r="r" b="b"/>
            <a:pathLst>
              <a:path w="4468" h="1826">
                <a:moveTo>
                  <a:pt x="1963" y="42"/>
                </a:moveTo>
                <a:cubicBezTo>
                  <a:pt x="1944" y="39"/>
                  <a:pt x="1925" y="38"/>
                  <a:pt x="1906" y="34"/>
                </a:cubicBezTo>
                <a:cubicBezTo>
                  <a:pt x="1884" y="29"/>
                  <a:pt x="1862" y="20"/>
                  <a:pt x="1840" y="17"/>
                </a:cubicBezTo>
                <a:cubicBezTo>
                  <a:pt x="1786" y="9"/>
                  <a:pt x="1676" y="1"/>
                  <a:pt x="1676" y="1"/>
                </a:cubicBezTo>
                <a:cubicBezTo>
                  <a:pt x="1607" y="6"/>
                  <a:pt x="1537" y="0"/>
                  <a:pt x="1470" y="17"/>
                </a:cubicBezTo>
                <a:cubicBezTo>
                  <a:pt x="1434" y="26"/>
                  <a:pt x="1432" y="81"/>
                  <a:pt x="1421" y="116"/>
                </a:cubicBezTo>
                <a:cubicBezTo>
                  <a:pt x="1395" y="198"/>
                  <a:pt x="1398" y="381"/>
                  <a:pt x="1298" y="412"/>
                </a:cubicBezTo>
                <a:cubicBezTo>
                  <a:pt x="1195" y="444"/>
                  <a:pt x="1067" y="434"/>
                  <a:pt x="969" y="436"/>
                </a:cubicBezTo>
                <a:cubicBezTo>
                  <a:pt x="695" y="440"/>
                  <a:pt x="421" y="442"/>
                  <a:pt x="147" y="445"/>
                </a:cubicBezTo>
                <a:cubicBezTo>
                  <a:pt x="122" y="456"/>
                  <a:pt x="95" y="462"/>
                  <a:pt x="73" y="477"/>
                </a:cubicBezTo>
                <a:cubicBezTo>
                  <a:pt x="0" y="525"/>
                  <a:pt x="68" y="686"/>
                  <a:pt x="114" y="732"/>
                </a:cubicBezTo>
                <a:cubicBezTo>
                  <a:pt x="202" y="820"/>
                  <a:pt x="265" y="802"/>
                  <a:pt x="385" y="814"/>
                </a:cubicBezTo>
                <a:cubicBezTo>
                  <a:pt x="671" y="805"/>
                  <a:pt x="942" y="759"/>
                  <a:pt x="1224" y="716"/>
                </a:cubicBezTo>
                <a:cubicBezTo>
                  <a:pt x="1298" y="721"/>
                  <a:pt x="1373" y="720"/>
                  <a:pt x="1446" y="732"/>
                </a:cubicBezTo>
                <a:cubicBezTo>
                  <a:pt x="1518" y="744"/>
                  <a:pt x="1445" y="847"/>
                  <a:pt x="1421" y="864"/>
                </a:cubicBezTo>
                <a:cubicBezTo>
                  <a:pt x="1299" y="954"/>
                  <a:pt x="1147" y="950"/>
                  <a:pt x="1002" y="962"/>
                </a:cubicBezTo>
                <a:cubicBezTo>
                  <a:pt x="867" y="995"/>
                  <a:pt x="765" y="1029"/>
                  <a:pt x="648" y="1102"/>
                </a:cubicBezTo>
                <a:cubicBezTo>
                  <a:pt x="591" y="1220"/>
                  <a:pt x="636" y="1106"/>
                  <a:pt x="887" y="1053"/>
                </a:cubicBezTo>
                <a:cubicBezTo>
                  <a:pt x="1004" y="1028"/>
                  <a:pt x="1239" y="1024"/>
                  <a:pt x="1363" y="1020"/>
                </a:cubicBezTo>
                <a:cubicBezTo>
                  <a:pt x="1480" y="1025"/>
                  <a:pt x="1582" y="1008"/>
                  <a:pt x="1668" y="1094"/>
                </a:cubicBezTo>
                <a:cubicBezTo>
                  <a:pt x="1675" y="1245"/>
                  <a:pt x="1673" y="1428"/>
                  <a:pt x="1758" y="1562"/>
                </a:cubicBezTo>
                <a:cubicBezTo>
                  <a:pt x="1778" y="1593"/>
                  <a:pt x="1843" y="1706"/>
                  <a:pt x="1881" y="1727"/>
                </a:cubicBezTo>
                <a:cubicBezTo>
                  <a:pt x="2018" y="1804"/>
                  <a:pt x="2249" y="1811"/>
                  <a:pt x="2399" y="1817"/>
                </a:cubicBezTo>
                <a:cubicBezTo>
                  <a:pt x="2524" y="1804"/>
                  <a:pt x="2608" y="1826"/>
                  <a:pt x="2654" y="1694"/>
                </a:cubicBezTo>
                <a:cubicBezTo>
                  <a:pt x="2648" y="1653"/>
                  <a:pt x="2650" y="1610"/>
                  <a:pt x="2637" y="1570"/>
                </a:cubicBezTo>
                <a:cubicBezTo>
                  <a:pt x="2632" y="1556"/>
                  <a:pt x="2617" y="1547"/>
                  <a:pt x="2605" y="1538"/>
                </a:cubicBezTo>
                <a:cubicBezTo>
                  <a:pt x="2520" y="1470"/>
                  <a:pt x="2460" y="1445"/>
                  <a:pt x="2407" y="1357"/>
                </a:cubicBezTo>
                <a:cubicBezTo>
                  <a:pt x="2497" y="1297"/>
                  <a:pt x="2535" y="1339"/>
                  <a:pt x="2637" y="1349"/>
                </a:cubicBezTo>
                <a:cubicBezTo>
                  <a:pt x="2722" y="1357"/>
                  <a:pt x="2892" y="1365"/>
                  <a:pt x="2892" y="1365"/>
                </a:cubicBezTo>
                <a:cubicBezTo>
                  <a:pt x="3146" y="1335"/>
                  <a:pt x="3250" y="1336"/>
                  <a:pt x="3426" y="1160"/>
                </a:cubicBezTo>
                <a:cubicBezTo>
                  <a:pt x="3412" y="1130"/>
                  <a:pt x="3408" y="1093"/>
                  <a:pt x="3385" y="1069"/>
                </a:cubicBezTo>
                <a:cubicBezTo>
                  <a:pt x="3367" y="1049"/>
                  <a:pt x="3335" y="1048"/>
                  <a:pt x="3311" y="1036"/>
                </a:cubicBezTo>
                <a:cubicBezTo>
                  <a:pt x="3278" y="1020"/>
                  <a:pt x="3245" y="1004"/>
                  <a:pt x="3213" y="987"/>
                </a:cubicBezTo>
                <a:cubicBezTo>
                  <a:pt x="3125" y="939"/>
                  <a:pt x="3045" y="885"/>
                  <a:pt x="2974" y="814"/>
                </a:cubicBezTo>
                <a:cubicBezTo>
                  <a:pt x="2952" y="726"/>
                  <a:pt x="3048" y="788"/>
                  <a:pt x="3089" y="798"/>
                </a:cubicBezTo>
                <a:cubicBezTo>
                  <a:pt x="3138" y="810"/>
                  <a:pt x="3188" y="811"/>
                  <a:pt x="3237" y="823"/>
                </a:cubicBezTo>
                <a:cubicBezTo>
                  <a:pt x="3298" y="838"/>
                  <a:pt x="3357" y="865"/>
                  <a:pt x="3418" y="880"/>
                </a:cubicBezTo>
                <a:cubicBezTo>
                  <a:pt x="3552" y="913"/>
                  <a:pt x="3645" y="916"/>
                  <a:pt x="3780" y="929"/>
                </a:cubicBezTo>
                <a:cubicBezTo>
                  <a:pt x="3879" y="921"/>
                  <a:pt x="3979" y="927"/>
                  <a:pt x="4076" y="905"/>
                </a:cubicBezTo>
                <a:cubicBezTo>
                  <a:pt x="4206" y="876"/>
                  <a:pt x="4372" y="658"/>
                  <a:pt x="4429" y="551"/>
                </a:cubicBezTo>
                <a:cubicBezTo>
                  <a:pt x="4438" y="500"/>
                  <a:pt x="4468" y="386"/>
                  <a:pt x="4429" y="338"/>
                </a:cubicBezTo>
                <a:cubicBezTo>
                  <a:pt x="4410" y="314"/>
                  <a:pt x="4369" y="324"/>
                  <a:pt x="4339" y="321"/>
                </a:cubicBezTo>
                <a:cubicBezTo>
                  <a:pt x="4287" y="316"/>
                  <a:pt x="4235" y="316"/>
                  <a:pt x="4183" y="313"/>
                </a:cubicBezTo>
                <a:cubicBezTo>
                  <a:pt x="4065" y="319"/>
                  <a:pt x="3947" y="318"/>
                  <a:pt x="3829" y="330"/>
                </a:cubicBezTo>
                <a:cubicBezTo>
                  <a:pt x="3752" y="338"/>
                  <a:pt x="3691" y="399"/>
                  <a:pt x="3624" y="436"/>
                </a:cubicBezTo>
                <a:cubicBezTo>
                  <a:pt x="3529" y="489"/>
                  <a:pt x="3409" y="501"/>
                  <a:pt x="3303" y="510"/>
                </a:cubicBezTo>
                <a:cubicBezTo>
                  <a:pt x="3259" y="499"/>
                  <a:pt x="3213" y="496"/>
                  <a:pt x="3172" y="477"/>
                </a:cubicBezTo>
                <a:cubicBezTo>
                  <a:pt x="3162" y="472"/>
                  <a:pt x="3167" y="455"/>
                  <a:pt x="3163" y="445"/>
                </a:cubicBezTo>
                <a:cubicBezTo>
                  <a:pt x="3155" y="425"/>
                  <a:pt x="3136" y="357"/>
                  <a:pt x="3131" y="354"/>
                </a:cubicBezTo>
                <a:cubicBezTo>
                  <a:pt x="3114" y="345"/>
                  <a:pt x="3092" y="349"/>
                  <a:pt x="3073" y="346"/>
                </a:cubicBezTo>
                <a:cubicBezTo>
                  <a:pt x="2984" y="363"/>
                  <a:pt x="2919" y="442"/>
                  <a:pt x="2835" y="477"/>
                </a:cubicBezTo>
                <a:cubicBezTo>
                  <a:pt x="2725" y="523"/>
                  <a:pt x="2598" y="536"/>
                  <a:pt x="2481" y="543"/>
                </a:cubicBezTo>
                <a:cubicBezTo>
                  <a:pt x="2359" y="513"/>
                  <a:pt x="2396" y="525"/>
                  <a:pt x="2317" y="461"/>
                </a:cubicBezTo>
                <a:cubicBezTo>
                  <a:pt x="2302" y="449"/>
                  <a:pt x="2283" y="441"/>
                  <a:pt x="2268" y="428"/>
                </a:cubicBezTo>
                <a:cubicBezTo>
                  <a:pt x="2242" y="405"/>
                  <a:pt x="2215" y="382"/>
                  <a:pt x="2194" y="354"/>
                </a:cubicBezTo>
                <a:cubicBezTo>
                  <a:pt x="2165" y="315"/>
                  <a:pt x="2155" y="286"/>
                  <a:pt x="2111" y="272"/>
                </a:cubicBezTo>
                <a:cubicBezTo>
                  <a:pt x="2070" y="167"/>
                  <a:pt x="2124" y="297"/>
                  <a:pt x="2070" y="190"/>
                </a:cubicBezTo>
                <a:cubicBezTo>
                  <a:pt x="2040" y="131"/>
                  <a:pt x="2032" y="59"/>
                  <a:pt x="1963" y="42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4724280"/>
            <a:ext cx="56386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dy"/>
              </a:rPr>
              <a:t>SUONA LE CAMPA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dy"/>
              </a:rPr>
              <a:t>SUONA LE CAMPA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858000" y="2057400"/>
          <a:ext cx="1806480" cy="166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057400"/>
                    <a:ext cx="1806480" cy="16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57200" y="1676520"/>
          <a:ext cx="1806480" cy="166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676520"/>
                    <a:ext cx="1806480" cy="16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 rot="484800">
            <a:off x="5257800" y="1828440"/>
            <a:ext cx="2666880" cy="2178000"/>
          </a:xfrm>
          <a:custGeom>
            <a:avLst/>
            <a:gdLst/>
            <a:ahLst/>
            <a:rect l="l" t="t" r="r" b="b"/>
            <a:pathLst>
              <a:path w="1680" h="1372">
                <a:moveTo>
                  <a:pt x="1578" y="82"/>
                </a:moveTo>
                <a:cubicBezTo>
                  <a:pt x="1586" y="87"/>
                  <a:pt x="1593" y="94"/>
                  <a:pt x="1602" y="98"/>
                </a:cubicBezTo>
                <a:cubicBezTo>
                  <a:pt x="1610" y="102"/>
                  <a:pt x="1624" y="115"/>
                  <a:pt x="1627" y="107"/>
                </a:cubicBezTo>
                <a:cubicBezTo>
                  <a:pt x="1631" y="96"/>
                  <a:pt x="1620" y="82"/>
                  <a:pt x="1611" y="74"/>
                </a:cubicBezTo>
                <a:cubicBezTo>
                  <a:pt x="1596" y="61"/>
                  <a:pt x="1572" y="64"/>
                  <a:pt x="1553" y="57"/>
                </a:cubicBezTo>
                <a:cubicBezTo>
                  <a:pt x="1530" y="92"/>
                  <a:pt x="1531" y="124"/>
                  <a:pt x="1561" y="156"/>
                </a:cubicBezTo>
                <a:cubicBezTo>
                  <a:pt x="1591" y="153"/>
                  <a:pt x="1622" y="155"/>
                  <a:pt x="1652" y="148"/>
                </a:cubicBezTo>
                <a:cubicBezTo>
                  <a:pt x="1680" y="141"/>
                  <a:pt x="1665" y="102"/>
                  <a:pt x="1660" y="90"/>
                </a:cubicBezTo>
                <a:cubicBezTo>
                  <a:pt x="1652" y="71"/>
                  <a:pt x="1617" y="55"/>
                  <a:pt x="1602" y="41"/>
                </a:cubicBezTo>
                <a:cubicBezTo>
                  <a:pt x="1569" y="44"/>
                  <a:pt x="1532" y="32"/>
                  <a:pt x="1504" y="49"/>
                </a:cubicBezTo>
                <a:cubicBezTo>
                  <a:pt x="1491" y="57"/>
                  <a:pt x="1513" y="77"/>
                  <a:pt x="1520" y="90"/>
                </a:cubicBezTo>
                <a:cubicBezTo>
                  <a:pt x="1532" y="111"/>
                  <a:pt x="1586" y="123"/>
                  <a:pt x="1586" y="123"/>
                </a:cubicBezTo>
                <a:cubicBezTo>
                  <a:pt x="1600" y="120"/>
                  <a:pt x="1616" y="124"/>
                  <a:pt x="1627" y="115"/>
                </a:cubicBezTo>
                <a:cubicBezTo>
                  <a:pt x="1635" y="108"/>
                  <a:pt x="1640" y="66"/>
                  <a:pt x="1627" y="57"/>
                </a:cubicBezTo>
                <a:cubicBezTo>
                  <a:pt x="1613" y="47"/>
                  <a:pt x="1594" y="46"/>
                  <a:pt x="1578" y="41"/>
                </a:cubicBezTo>
                <a:cubicBezTo>
                  <a:pt x="1570" y="38"/>
                  <a:pt x="1553" y="33"/>
                  <a:pt x="1553" y="33"/>
                </a:cubicBezTo>
                <a:cubicBezTo>
                  <a:pt x="1526" y="15"/>
                  <a:pt x="1502" y="10"/>
                  <a:pt x="1471" y="0"/>
                </a:cubicBezTo>
                <a:cubicBezTo>
                  <a:pt x="1364" y="3"/>
                  <a:pt x="1257" y="3"/>
                  <a:pt x="1150" y="8"/>
                </a:cubicBezTo>
                <a:cubicBezTo>
                  <a:pt x="1124" y="9"/>
                  <a:pt x="1124" y="23"/>
                  <a:pt x="1101" y="33"/>
                </a:cubicBezTo>
                <a:cubicBezTo>
                  <a:pt x="1091" y="37"/>
                  <a:pt x="1078" y="37"/>
                  <a:pt x="1068" y="41"/>
                </a:cubicBezTo>
                <a:cubicBezTo>
                  <a:pt x="1040" y="53"/>
                  <a:pt x="1013" y="68"/>
                  <a:pt x="986" y="82"/>
                </a:cubicBezTo>
                <a:cubicBezTo>
                  <a:pt x="977" y="86"/>
                  <a:pt x="922" y="145"/>
                  <a:pt x="904" y="164"/>
                </a:cubicBezTo>
                <a:cubicBezTo>
                  <a:pt x="817" y="253"/>
                  <a:pt x="774" y="378"/>
                  <a:pt x="698" y="476"/>
                </a:cubicBezTo>
                <a:cubicBezTo>
                  <a:pt x="683" y="538"/>
                  <a:pt x="643" y="584"/>
                  <a:pt x="616" y="641"/>
                </a:cubicBezTo>
                <a:cubicBezTo>
                  <a:pt x="611" y="652"/>
                  <a:pt x="609" y="665"/>
                  <a:pt x="600" y="674"/>
                </a:cubicBezTo>
                <a:cubicBezTo>
                  <a:pt x="591" y="683"/>
                  <a:pt x="578" y="685"/>
                  <a:pt x="567" y="690"/>
                </a:cubicBezTo>
                <a:cubicBezTo>
                  <a:pt x="523" y="734"/>
                  <a:pt x="463" y="794"/>
                  <a:pt x="402" y="813"/>
                </a:cubicBezTo>
                <a:cubicBezTo>
                  <a:pt x="346" y="856"/>
                  <a:pt x="285" y="888"/>
                  <a:pt x="222" y="920"/>
                </a:cubicBezTo>
                <a:cubicBezTo>
                  <a:pt x="204" y="929"/>
                  <a:pt x="182" y="928"/>
                  <a:pt x="164" y="937"/>
                </a:cubicBezTo>
                <a:cubicBezTo>
                  <a:pt x="153" y="942"/>
                  <a:pt x="125" y="963"/>
                  <a:pt x="115" y="970"/>
                </a:cubicBezTo>
                <a:cubicBezTo>
                  <a:pt x="94" y="1034"/>
                  <a:pt x="121" y="962"/>
                  <a:pt x="98" y="904"/>
                </a:cubicBezTo>
                <a:cubicBezTo>
                  <a:pt x="95" y="896"/>
                  <a:pt x="82" y="909"/>
                  <a:pt x="74" y="912"/>
                </a:cubicBezTo>
                <a:cubicBezTo>
                  <a:pt x="30" y="953"/>
                  <a:pt x="14" y="1018"/>
                  <a:pt x="0" y="1076"/>
                </a:cubicBezTo>
                <a:cubicBezTo>
                  <a:pt x="16" y="1142"/>
                  <a:pt x="27" y="1223"/>
                  <a:pt x="49" y="1290"/>
                </a:cubicBezTo>
                <a:cubicBezTo>
                  <a:pt x="102" y="1273"/>
                  <a:pt x="110" y="1276"/>
                  <a:pt x="123" y="1224"/>
                </a:cubicBezTo>
                <a:cubicBezTo>
                  <a:pt x="57" y="1203"/>
                  <a:pt x="65" y="1254"/>
                  <a:pt x="82" y="1315"/>
                </a:cubicBezTo>
                <a:cubicBezTo>
                  <a:pt x="86" y="1328"/>
                  <a:pt x="99" y="1337"/>
                  <a:pt x="107" y="1348"/>
                </a:cubicBezTo>
                <a:cubicBezTo>
                  <a:pt x="113" y="1356"/>
                  <a:pt x="123" y="1372"/>
                  <a:pt x="123" y="1372"/>
                </a:cubicBezTo>
              </a:path>
            </a:pathLst>
          </a:custGeom>
          <a:noFill/>
          <a:ln w="284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895480" y="1905120"/>
            <a:ext cx="2811600" cy="2779200"/>
            <a:chOff x="2895480" y="1905120"/>
            <a:chExt cx="2811600" cy="2779200"/>
          </a:xfrm>
        </p:grpSpPr>
        <p:sp>
          <p:nvSpPr>
            <p:cNvPr id="95" name=""/>
            <p:cNvSpPr/>
            <p:nvPr/>
          </p:nvSpPr>
          <p:spPr>
            <a:xfrm>
              <a:off x="3630600" y="1905120"/>
              <a:ext cx="2076480" cy="1965240"/>
            </a:xfrm>
            <a:custGeom>
              <a:avLst/>
              <a:gdLst/>
              <a:ahLst/>
              <a:rect l="l" t="t" r="r" b="b"/>
              <a:pathLst>
                <a:path w="1096" h="933">
                  <a:moveTo>
                    <a:pt x="707" y="240"/>
                  </a:moveTo>
                  <a:cubicBezTo>
                    <a:pt x="717" y="208"/>
                    <a:pt x="727" y="200"/>
                    <a:pt x="756" y="182"/>
                  </a:cubicBezTo>
                  <a:cubicBezTo>
                    <a:pt x="775" y="185"/>
                    <a:pt x="795" y="184"/>
                    <a:pt x="813" y="190"/>
                  </a:cubicBezTo>
                  <a:cubicBezTo>
                    <a:pt x="845" y="201"/>
                    <a:pt x="830" y="245"/>
                    <a:pt x="846" y="264"/>
                  </a:cubicBezTo>
                  <a:cubicBezTo>
                    <a:pt x="851" y="271"/>
                    <a:pt x="862" y="271"/>
                    <a:pt x="871" y="272"/>
                  </a:cubicBezTo>
                  <a:cubicBezTo>
                    <a:pt x="906" y="277"/>
                    <a:pt x="942" y="278"/>
                    <a:pt x="978" y="281"/>
                  </a:cubicBezTo>
                  <a:cubicBezTo>
                    <a:pt x="1021" y="295"/>
                    <a:pt x="1020" y="320"/>
                    <a:pt x="1044" y="355"/>
                  </a:cubicBezTo>
                  <a:cubicBezTo>
                    <a:pt x="1062" y="429"/>
                    <a:pt x="1096" y="505"/>
                    <a:pt x="1002" y="535"/>
                  </a:cubicBezTo>
                  <a:cubicBezTo>
                    <a:pt x="920" y="529"/>
                    <a:pt x="870" y="540"/>
                    <a:pt x="813" y="486"/>
                  </a:cubicBezTo>
                  <a:cubicBezTo>
                    <a:pt x="810" y="544"/>
                    <a:pt x="809" y="601"/>
                    <a:pt x="805" y="659"/>
                  </a:cubicBezTo>
                  <a:cubicBezTo>
                    <a:pt x="802" y="701"/>
                    <a:pt x="779" y="731"/>
                    <a:pt x="756" y="765"/>
                  </a:cubicBezTo>
                  <a:cubicBezTo>
                    <a:pt x="678" y="881"/>
                    <a:pt x="585" y="900"/>
                    <a:pt x="452" y="913"/>
                  </a:cubicBezTo>
                  <a:cubicBezTo>
                    <a:pt x="346" y="905"/>
                    <a:pt x="240" y="933"/>
                    <a:pt x="172" y="848"/>
                  </a:cubicBezTo>
                  <a:cubicBezTo>
                    <a:pt x="136" y="803"/>
                    <a:pt x="98" y="765"/>
                    <a:pt x="66" y="716"/>
                  </a:cubicBezTo>
                  <a:cubicBezTo>
                    <a:pt x="55" y="700"/>
                    <a:pt x="33" y="667"/>
                    <a:pt x="33" y="667"/>
                  </a:cubicBezTo>
                  <a:cubicBezTo>
                    <a:pt x="28" y="648"/>
                    <a:pt x="21" y="628"/>
                    <a:pt x="16" y="609"/>
                  </a:cubicBezTo>
                  <a:cubicBezTo>
                    <a:pt x="10" y="587"/>
                    <a:pt x="0" y="544"/>
                    <a:pt x="0" y="544"/>
                  </a:cubicBezTo>
                  <a:cubicBezTo>
                    <a:pt x="3" y="453"/>
                    <a:pt x="3" y="363"/>
                    <a:pt x="8" y="272"/>
                  </a:cubicBezTo>
                  <a:cubicBezTo>
                    <a:pt x="14" y="144"/>
                    <a:pt x="69" y="105"/>
                    <a:pt x="181" y="75"/>
                  </a:cubicBezTo>
                  <a:cubicBezTo>
                    <a:pt x="245" y="58"/>
                    <a:pt x="306" y="34"/>
                    <a:pt x="370" y="18"/>
                  </a:cubicBezTo>
                  <a:cubicBezTo>
                    <a:pt x="425" y="21"/>
                    <a:pt x="490" y="0"/>
                    <a:pt x="534" y="34"/>
                  </a:cubicBezTo>
                  <a:cubicBezTo>
                    <a:pt x="569" y="61"/>
                    <a:pt x="601" y="101"/>
                    <a:pt x="633" y="133"/>
                  </a:cubicBezTo>
                  <a:cubicBezTo>
                    <a:pt x="652" y="152"/>
                    <a:pt x="668" y="153"/>
                    <a:pt x="682" y="174"/>
                  </a:cubicBezTo>
                  <a:cubicBezTo>
                    <a:pt x="698" y="199"/>
                    <a:pt x="699" y="212"/>
                    <a:pt x="707" y="240"/>
                  </a:cubicBez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46640" y="2271600"/>
              <a:ext cx="639720" cy="725040"/>
            </a:xfrm>
            <a:custGeom>
              <a:avLst/>
              <a:gdLst/>
              <a:ahLst/>
              <a:rect l="l" t="t" r="r" b="b"/>
              <a:pathLst>
                <a:path w="338" h="345">
                  <a:moveTo>
                    <a:pt x="271" y="0"/>
                  </a:moveTo>
                  <a:cubicBezTo>
                    <a:pt x="233" y="3"/>
                    <a:pt x="194" y="2"/>
                    <a:pt x="156" y="8"/>
                  </a:cubicBezTo>
                  <a:cubicBezTo>
                    <a:pt x="130" y="13"/>
                    <a:pt x="129" y="33"/>
                    <a:pt x="115" y="49"/>
                  </a:cubicBezTo>
                  <a:cubicBezTo>
                    <a:pt x="83" y="86"/>
                    <a:pt x="82" y="85"/>
                    <a:pt x="49" y="107"/>
                  </a:cubicBezTo>
                  <a:cubicBezTo>
                    <a:pt x="28" y="142"/>
                    <a:pt x="10" y="166"/>
                    <a:pt x="0" y="205"/>
                  </a:cubicBezTo>
                  <a:cubicBezTo>
                    <a:pt x="3" y="232"/>
                    <a:pt x="1" y="260"/>
                    <a:pt x="8" y="287"/>
                  </a:cubicBezTo>
                  <a:cubicBezTo>
                    <a:pt x="16" y="321"/>
                    <a:pt x="92" y="324"/>
                    <a:pt x="115" y="328"/>
                  </a:cubicBezTo>
                  <a:cubicBezTo>
                    <a:pt x="129" y="334"/>
                    <a:pt x="141" y="345"/>
                    <a:pt x="156" y="345"/>
                  </a:cubicBezTo>
                  <a:cubicBezTo>
                    <a:pt x="237" y="345"/>
                    <a:pt x="303" y="257"/>
                    <a:pt x="329" y="189"/>
                  </a:cubicBezTo>
                  <a:cubicBezTo>
                    <a:pt x="325" y="142"/>
                    <a:pt x="338" y="88"/>
                    <a:pt x="312" y="49"/>
                  </a:cubicBezTo>
                  <a:cubicBezTo>
                    <a:pt x="296" y="25"/>
                    <a:pt x="271" y="34"/>
                    <a:pt x="271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95680" y="2271600"/>
              <a:ext cx="780840" cy="344160"/>
            </a:xfrm>
            <a:custGeom>
              <a:avLst/>
              <a:gdLst/>
              <a:ahLst/>
              <a:rect l="l" t="t" r="r" b="b"/>
              <a:pathLst>
                <a:path w="412" h="164">
                  <a:moveTo>
                    <a:pt x="412" y="164"/>
                  </a:moveTo>
                  <a:cubicBezTo>
                    <a:pt x="364" y="152"/>
                    <a:pt x="321" y="132"/>
                    <a:pt x="273" y="123"/>
                  </a:cubicBezTo>
                  <a:cubicBezTo>
                    <a:pt x="227" y="95"/>
                    <a:pt x="199" y="55"/>
                    <a:pt x="149" y="33"/>
                  </a:cubicBezTo>
                  <a:cubicBezTo>
                    <a:pt x="110" y="16"/>
                    <a:pt x="66" y="13"/>
                    <a:pt x="26" y="0"/>
                  </a:cubicBezTo>
                  <a:cubicBezTo>
                    <a:pt x="19" y="10"/>
                    <a:pt x="0" y="35"/>
                    <a:pt x="1" y="49"/>
                  </a:cubicBezTo>
                  <a:cubicBezTo>
                    <a:pt x="3" y="82"/>
                    <a:pt x="18" y="148"/>
                    <a:pt x="18" y="148"/>
                  </a:cubicBezTo>
                  <a:cubicBezTo>
                    <a:pt x="21" y="118"/>
                    <a:pt x="22" y="87"/>
                    <a:pt x="26" y="57"/>
                  </a:cubicBezTo>
                  <a:cubicBezTo>
                    <a:pt x="27" y="49"/>
                    <a:pt x="34" y="33"/>
                    <a:pt x="34" y="3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19600" y="3206520"/>
              <a:ext cx="420480" cy="155160"/>
            </a:xfrm>
            <a:custGeom>
              <a:avLst/>
              <a:gdLst/>
              <a:ahLst/>
              <a:rect l="l" t="t" r="r" b="b"/>
              <a:pathLst>
                <a:path w="222" h="74">
                  <a:moveTo>
                    <a:pt x="0" y="0"/>
                  </a:moveTo>
                  <a:cubicBezTo>
                    <a:pt x="30" y="42"/>
                    <a:pt x="19" y="55"/>
                    <a:pt x="74" y="73"/>
                  </a:cubicBezTo>
                  <a:cubicBezTo>
                    <a:pt x="118" y="70"/>
                    <a:pt x="163" y="74"/>
                    <a:pt x="206" y="65"/>
                  </a:cubicBezTo>
                  <a:cubicBezTo>
                    <a:pt x="215" y="63"/>
                    <a:pt x="222" y="41"/>
                    <a:pt x="222" y="4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829040" y="2104920"/>
              <a:ext cx="284040" cy="217080"/>
            </a:xfrm>
            <a:custGeom>
              <a:avLst/>
              <a:gdLst/>
              <a:ahLst/>
              <a:rect l="l" t="t" r="r" b="b"/>
              <a:pathLst>
                <a:path w="150" h="103">
                  <a:moveTo>
                    <a:pt x="0" y="38"/>
                  </a:moveTo>
                  <a:cubicBezTo>
                    <a:pt x="36" y="0"/>
                    <a:pt x="87" y="22"/>
                    <a:pt x="131" y="38"/>
                  </a:cubicBezTo>
                  <a:cubicBezTo>
                    <a:pt x="150" y="92"/>
                    <a:pt x="148" y="70"/>
                    <a:pt x="148" y="10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65520" y="2512800"/>
              <a:ext cx="268200" cy="271080"/>
            </a:xfrm>
            <a:custGeom>
              <a:avLst/>
              <a:gdLst/>
              <a:ahLst/>
              <a:rect l="l" t="t" r="r" b="b"/>
              <a:pathLst>
                <a:path w="141" h="129">
                  <a:moveTo>
                    <a:pt x="130" y="74"/>
                  </a:moveTo>
                  <a:cubicBezTo>
                    <a:pt x="121" y="28"/>
                    <a:pt x="119" y="24"/>
                    <a:pt x="81" y="0"/>
                  </a:cubicBezTo>
                  <a:cubicBezTo>
                    <a:pt x="36" y="22"/>
                    <a:pt x="0" y="27"/>
                    <a:pt x="56" y="115"/>
                  </a:cubicBezTo>
                  <a:cubicBezTo>
                    <a:pt x="65" y="129"/>
                    <a:pt x="89" y="110"/>
                    <a:pt x="106" y="107"/>
                  </a:cubicBezTo>
                  <a:cubicBezTo>
                    <a:pt x="112" y="101"/>
                    <a:pt x="141" y="79"/>
                    <a:pt x="114" y="66"/>
                  </a:cubicBezTo>
                  <a:cubicBezTo>
                    <a:pt x="106" y="62"/>
                    <a:pt x="97" y="71"/>
                    <a:pt x="89" y="74"/>
                  </a:cubicBezTo>
                  <a:cubicBezTo>
                    <a:pt x="92" y="85"/>
                    <a:pt x="88" y="101"/>
                    <a:pt x="98" y="107"/>
                  </a:cubicBezTo>
                  <a:cubicBezTo>
                    <a:pt x="128" y="124"/>
                    <a:pt x="134" y="86"/>
                    <a:pt x="139" y="74"/>
                  </a:cubicBezTo>
                  <a:cubicBezTo>
                    <a:pt x="138" y="73"/>
                    <a:pt x="106" y="36"/>
                    <a:pt x="98" y="49"/>
                  </a:cubicBezTo>
                  <a:cubicBezTo>
                    <a:pt x="92" y="59"/>
                    <a:pt x="103" y="71"/>
                    <a:pt x="106" y="82"/>
                  </a:cubicBezTo>
                  <a:cubicBezTo>
                    <a:pt x="77" y="109"/>
                    <a:pt x="82" y="102"/>
                    <a:pt x="130" y="74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52640" y="2028600"/>
              <a:ext cx="966960" cy="380880"/>
            </a:xfrm>
            <a:custGeom>
              <a:avLst/>
              <a:gdLst/>
              <a:ahLst/>
              <a:rect l="l" t="t" r="r" b="b"/>
              <a:pathLst>
                <a:path w="505" h="181">
                  <a:moveTo>
                    <a:pt x="107" y="0"/>
                  </a:moveTo>
                  <a:cubicBezTo>
                    <a:pt x="147" y="38"/>
                    <a:pt x="186" y="65"/>
                    <a:pt x="239" y="82"/>
                  </a:cubicBezTo>
                  <a:cubicBezTo>
                    <a:pt x="385" y="75"/>
                    <a:pt x="395" y="93"/>
                    <a:pt x="485" y="33"/>
                  </a:cubicBezTo>
                  <a:cubicBezTo>
                    <a:pt x="491" y="54"/>
                    <a:pt x="505" y="87"/>
                    <a:pt x="485" y="107"/>
                  </a:cubicBezTo>
                  <a:cubicBezTo>
                    <a:pt x="479" y="113"/>
                    <a:pt x="481" y="90"/>
                    <a:pt x="477" y="82"/>
                  </a:cubicBezTo>
                  <a:cubicBezTo>
                    <a:pt x="473" y="75"/>
                    <a:pt x="466" y="71"/>
                    <a:pt x="461" y="65"/>
                  </a:cubicBezTo>
                  <a:cubicBezTo>
                    <a:pt x="451" y="95"/>
                    <a:pt x="443" y="125"/>
                    <a:pt x="436" y="156"/>
                  </a:cubicBezTo>
                  <a:cubicBezTo>
                    <a:pt x="431" y="140"/>
                    <a:pt x="425" y="123"/>
                    <a:pt x="420" y="107"/>
                  </a:cubicBezTo>
                  <a:cubicBezTo>
                    <a:pt x="417" y="99"/>
                    <a:pt x="411" y="82"/>
                    <a:pt x="411" y="82"/>
                  </a:cubicBezTo>
                  <a:cubicBezTo>
                    <a:pt x="400" y="117"/>
                    <a:pt x="379" y="154"/>
                    <a:pt x="354" y="181"/>
                  </a:cubicBezTo>
                  <a:cubicBezTo>
                    <a:pt x="351" y="164"/>
                    <a:pt x="349" y="148"/>
                    <a:pt x="346" y="131"/>
                  </a:cubicBezTo>
                  <a:cubicBezTo>
                    <a:pt x="344" y="120"/>
                    <a:pt x="348" y="103"/>
                    <a:pt x="338" y="98"/>
                  </a:cubicBezTo>
                  <a:cubicBezTo>
                    <a:pt x="329" y="94"/>
                    <a:pt x="321" y="109"/>
                    <a:pt x="313" y="115"/>
                  </a:cubicBezTo>
                  <a:cubicBezTo>
                    <a:pt x="293" y="144"/>
                    <a:pt x="293" y="170"/>
                    <a:pt x="264" y="139"/>
                  </a:cubicBezTo>
                  <a:cubicBezTo>
                    <a:pt x="245" y="70"/>
                    <a:pt x="272" y="132"/>
                    <a:pt x="214" y="148"/>
                  </a:cubicBezTo>
                  <a:cubicBezTo>
                    <a:pt x="204" y="151"/>
                    <a:pt x="203" y="131"/>
                    <a:pt x="198" y="123"/>
                  </a:cubicBezTo>
                  <a:cubicBezTo>
                    <a:pt x="138" y="162"/>
                    <a:pt x="162" y="170"/>
                    <a:pt x="124" y="131"/>
                  </a:cubicBezTo>
                  <a:cubicBezTo>
                    <a:pt x="121" y="123"/>
                    <a:pt x="114" y="115"/>
                    <a:pt x="116" y="107"/>
                  </a:cubicBezTo>
                  <a:cubicBezTo>
                    <a:pt x="117" y="99"/>
                    <a:pt x="126" y="95"/>
                    <a:pt x="132" y="90"/>
                  </a:cubicBezTo>
                  <a:cubicBezTo>
                    <a:pt x="152" y="74"/>
                    <a:pt x="204" y="51"/>
                    <a:pt x="107" y="98"/>
                  </a:cubicBezTo>
                  <a:cubicBezTo>
                    <a:pt x="102" y="104"/>
                    <a:pt x="99" y="113"/>
                    <a:pt x="91" y="115"/>
                  </a:cubicBezTo>
                  <a:cubicBezTo>
                    <a:pt x="82" y="117"/>
                    <a:pt x="68" y="116"/>
                    <a:pt x="66" y="107"/>
                  </a:cubicBezTo>
                  <a:cubicBezTo>
                    <a:pt x="64" y="95"/>
                    <a:pt x="94" y="80"/>
                    <a:pt x="83" y="74"/>
                  </a:cubicBezTo>
                  <a:cubicBezTo>
                    <a:pt x="67" y="66"/>
                    <a:pt x="33" y="90"/>
                    <a:pt x="33" y="90"/>
                  </a:cubicBezTo>
                  <a:cubicBezTo>
                    <a:pt x="25" y="87"/>
                    <a:pt x="11" y="90"/>
                    <a:pt x="9" y="82"/>
                  </a:cubicBezTo>
                  <a:cubicBezTo>
                    <a:pt x="0" y="36"/>
                    <a:pt x="79" y="36"/>
                    <a:pt x="99" y="33"/>
                  </a:cubicBezTo>
                  <a:cubicBezTo>
                    <a:pt x="118" y="5"/>
                    <a:pt x="124" y="15"/>
                    <a:pt x="107" y="0"/>
                  </a:cubicBezTo>
                  <a:close/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93880" y="3200400"/>
              <a:ext cx="814680" cy="1460160"/>
            </a:xfrm>
            <a:custGeom>
              <a:avLst/>
              <a:gdLst/>
              <a:ahLst/>
              <a:rect l="l" t="t" r="r" b="b"/>
              <a:pathLst>
                <a:path w="430" h="693">
                  <a:moveTo>
                    <a:pt x="49" y="0"/>
                  </a:moveTo>
                  <a:cubicBezTo>
                    <a:pt x="43" y="154"/>
                    <a:pt x="29" y="294"/>
                    <a:pt x="0" y="444"/>
                  </a:cubicBezTo>
                  <a:cubicBezTo>
                    <a:pt x="6" y="520"/>
                    <a:pt x="3" y="608"/>
                    <a:pt x="90" y="641"/>
                  </a:cubicBezTo>
                  <a:cubicBezTo>
                    <a:pt x="123" y="653"/>
                    <a:pt x="156" y="661"/>
                    <a:pt x="189" y="674"/>
                  </a:cubicBezTo>
                  <a:cubicBezTo>
                    <a:pt x="205" y="680"/>
                    <a:pt x="238" y="690"/>
                    <a:pt x="238" y="690"/>
                  </a:cubicBezTo>
                  <a:cubicBezTo>
                    <a:pt x="285" y="685"/>
                    <a:pt x="335" y="693"/>
                    <a:pt x="378" y="674"/>
                  </a:cubicBezTo>
                  <a:cubicBezTo>
                    <a:pt x="430" y="652"/>
                    <a:pt x="329" y="608"/>
                    <a:pt x="328" y="608"/>
                  </a:cubicBezTo>
                  <a:cubicBezTo>
                    <a:pt x="291" y="582"/>
                    <a:pt x="255" y="556"/>
                    <a:pt x="230" y="517"/>
                  </a:cubicBezTo>
                  <a:cubicBezTo>
                    <a:pt x="212" y="426"/>
                    <a:pt x="238" y="336"/>
                    <a:pt x="238" y="246"/>
                  </a:cubicBezTo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73480" y="3773520"/>
              <a:ext cx="963720" cy="910800"/>
            </a:xfrm>
            <a:custGeom>
              <a:avLst/>
              <a:gdLst/>
              <a:ahLst/>
              <a:rect l="l" t="t" r="r" b="b"/>
              <a:pathLst>
                <a:path w="508" h="433">
                  <a:moveTo>
                    <a:pt x="220" y="164"/>
                  </a:moveTo>
                  <a:cubicBezTo>
                    <a:pt x="227" y="203"/>
                    <a:pt x="225" y="246"/>
                    <a:pt x="245" y="279"/>
                  </a:cubicBezTo>
                  <a:cubicBezTo>
                    <a:pt x="260" y="303"/>
                    <a:pt x="285" y="304"/>
                    <a:pt x="311" y="312"/>
                  </a:cubicBezTo>
                  <a:cubicBezTo>
                    <a:pt x="373" y="332"/>
                    <a:pt x="443" y="337"/>
                    <a:pt x="508" y="345"/>
                  </a:cubicBezTo>
                  <a:cubicBezTo>
                    <a:pt x="469" y="358"/>
                    <a:pt x="430" y="368"/>
                    <a:pt x="393" y="386"/>
                  </a:cubicBezTo>
                  <a:cubicBezTo>
                    <a:pt x="401" y="389"/>
                    <a:pt x="415" y="386"/>
                    <a:pt x="418" y="394"/>
                  </a:cubicBezTo>
                  <a:cubicBezTo>
                    <a:pt x="424" y="412"/>
                    <a:pt x="350" y="426"/>
                    <a:pt x="344" y="427"/>
                  </a:cubicBezTo>
                  <a:cubicBezTo>
                    <a:pt x="228" y="422"/>
                    <a:pt x="172" y="433"/>
                    <a:pt x="81" y="403"/>
                  </a:cubicBezTo>
                  <a:cubicBezTo>
                    <a:pt x="61" y="365"/>
                    <a:pt x="51" y="325"/>
                    <a:pt x="31" y="287"/>
                  </a:cubicBezTo>
                  <a:cubicBezTo>
                    <a:pt x="0" y="163"/>
                    <a:pt x="7" y="162"/>
                    <a:pt x="7" y="0"/>
                  </a:cubicBezTo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92560" y="3179520"/>
              <a:ext cx="561960" cy="406080"/>
            </a:xfrm>
            <a:custGeom>
              <a:avLst/>
              <a:gdLst/>
              <a:ahLst/>
              <a:rect l="l" t="t" r="r" b="b"/>
              <a:pathLst>
                <a:path w="296" h="193">
                  <a:moveTo>
                    <a:pt x="50" y="29"/>
                  </a:moveTo>
                  <a:cubicBezTo>
                    <a:pt x="112" y="14"/>
                    <a:pt x="176" y="15"/>
                    <a:pt x="239" y="4"/>
                  </a:cubicBezTo>
                  <a:cubicBezTo>
                    <a:pt x="247" y="7"/>
                    <a:pt x="269" y="7"/>
                    <a:pt x="263" y="13"/>
                  </a:cubicBezTo>
                  <a:cubicBezTo>
                    <a:pt x="251" y="25"/>
                    <a:pt x="214" y="29"/>
                    <a:pt x="214" y="29"/>
                  </a:cubicBezTo>
                  <a:cubicBezTo>
                    <a:pt x="193" y="114"/>
                    <a:pt x="210" y="0"/>
                    <a:pt x="280" y="70"/>
                  </a:cubicBezTo>
                  <a:cubicBezTo>
                    <a:pt x="292" y="82"/>
                    <a:pt x="247" y="81"/>
                    <a:pt x="230" y="86"/>
                  </a:cubicBezTo>
                  <a:cubicBezTo>
                    <a:pt x="222" y="89"/>
                    <a:pt x="214" y="92"/>
                    <a:pt x="206" y="95"/>
                  </a:cubicBezTo>
                  <a:cubicBezTo>
                    <a:pt x="211" y="103"/>
                    <a:pt x="213" y="115"/>
                    <a:pt x="222" y="119"/>
                  </a:cubicBezTo>
                  <a:cubicBezTo>
                    <a:pt x="296" y="152"/>
                    <a:pt x="271" y="100"/>
                    <a:pt x="288" y="152"/>
                  </a:cubicBezTo>
                  <a:cubicBezTo>
                    <a:pt x="268" y="173"/>
                    <a:pt x="277" y="169"/>
                    <a:pt x="247" y="177"/>
                  </a:cubicBezTo>
                  <a:cubicBezTo>
                    <a:pt x="225" y="183"/>
                    <a:pt x="181" y="193"/>
                    <a:pt x="181" y="193"/>
                  </a:cubicBezTo>
                  <a:cubicBezTo>
                    <a:pt x="156" y="190"/>
                    <a:pt x="131" y="191"/>
                    <a:pt x="107" y="185"/>
                  </a:cubicBezTo>
                  <a:cubicBezTo>
                    <a:pt x="98" y="183"/>
                    <a:pt x="92" y="173"/>
                    <a:pt x="83" y="169"/>
                  </a:cubicBezTo>
                  <a:cubicBezTo>
                    <a:pt x="56" y="155"/>
                    <a:pt x="30" y="152"/>
                    <a:pt x="0" y="152"/>
                  </a:cubicBezTo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89320" y="2962080"/>
              <a:ext cx="1633320" cy="953640"/>
            </a:xfrm>
            <a:custGeom>
              <a:avLst/>
              <a:gdLst/>
              <a:ahLst/>
              <a:rect l="l" t="t" r="r" b="b"/>
              <a:pathLst>
                <a:path w="862" h="453">
                  <a:moveTo>
                    <a:pt x="188" y="9"/>
                  </a:moveTo>
                  <a:cubicBezTo>
                    <a:pt x="175" y="36"/>
                    <a:pt x="168" y="65"/>
                    <a:pt x="155" y="91"/>
                  </a:cubicBezTo>
                  <a:cubicBezTo>
                    <a:pt x="141" y="119"/>
                    <a:pt x="118" y="141"/>
                    <a:pt x="98" y="165"/>
                  </a:cubicBezTo>
                  <a:cubicBezTo>
                    <a:pt x="89" y="176"/>
                    <a:pt x="81" y="187"/>
                    <a:pt x="73" y="198"/>
                  </a:cubicBezTo>
                  <a:cubicBezTo>
                    <a:pt x="62" y="214"/>
                    <a:pt x="40" y="247"/>
                    <a:pt x="40" y="247"/>
                  </a:cubicBezTo>
                  <a:cubicBezTo>
                    <a:pt x="0" y="372"/>
                    <a:pt x="109" y="318"/>
                    <a:pt x="221" y="313"/>
                  </a:cubicBezTo>
                  <a:cubicBezTo>
                    <a:pt x="246" y="316"/>
                    <a:pt x="271" y="314"/>
                    <a:pt x="295" y="321"/>
                  </a:cubicBezTo>
                  <a:cubicBezTo>
                    <a:pt x="308" y="325"/>
                    <a:pt x="316" y="339"/>
                    <a:pt x="328" y="346"/>
                  </a:cubicBezTo>
                  <a:cubicBezTo>
                    <a:pt x="376" y="372"/>
                    <a:pt x="431" y="406"/>
                    <a:pt x="484" y="420"/>
                  </a:cubicBezTo>
                  <a:cubicBezTo>
                    <a:pt x="577" y="414"/>
                    <a:pt x="645" y="403"/>
                    <a:pt x="730" y="436"/>
                  </a:cubicBezTo>
                  <a:cubicBezTo>
                    <a:pt x="839" y="427"/>
                    <a:pt x="848" y="453"/>
                    <a:pt x="862" y="354"/>
                  </a:cubicBezTo>
                  <a:cubicBezTo>
                    <a:pt x="800" y="288"/>
                    <a:pt x="860" y="344"/>
                    <a:pt x="648" y="329"/>
                  </a:cubicBezTo>
                  <a:cubicBezTo>
                    <a:pt x="572" y="324"/>
                    <a:pt x="497" y="278"/>
                    <a:pt x="426" y="255"/>
                  </a:cubicBezTo>
                  <a:cubicBezTo>
                    <a:pt x="401" y="230"/>
                    <a:pt x="380" y="225"/>
                    <a:pt x="352" y="206"/>
                  </a:cubicBezTo>
                  <a:cubicBezTo>
                    <a:pt x="327" y="189"/>
                    <a:pt x="308" y="170"/>
                    <a:pt x="287" y="148"/>
                  </a:cubicBezTo>
                  <a:cubicBezTo>
                    <a:pt x="276" y="118"/>
                    <a:pt x="260" y="98"/>
                    <a:pt x="254" y="66"/>
                  </a:cubicBezTo>
                  <a:cubicBezTo>
                    <a:pt x="251" y="50"/>
                    <a:pt x="254" y="31"/>
                    <a:pt x="246" y="17"/>
                  </a:cubicBezTo>
                  <a:cubicBezTo>
                    <a:pt x="237" y="2"/>
                    <a:pt x="213" y="6"/>
                    <a:pt x="196" y="0"/>
                  </a:cubicBezTo>
                  <a:cubicBezTo>
                    <a:pt x="185" y="3"/>
                    <a:pt x="170" y="0"/>
                    <a:pt x="163" y="9"/>
                  </a:cubicBezTo>
                  <a:cubicBezTo>
                    <a:pt x="158" y="16"/>
                    <a:pt x="169" y="25"/>
                    <a:pt x="172" y="33"/>
                  </a:cubicBezTo>
                  <a:cubicBezTo>
                    <a:pt x="175" y="41"/>
                    <a:pt x="180" y="58"/>
                    <a:pt x="180" y="58"/>
                  </a:cubicBezTo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9920" y="3876480"/>
              <a:ext cx="25200" cy="326880"/>
            </a:xfrm>
            <a:custGeom>
              <a:avLst/>
              <a:gdLst/>
              <a:ahLst/>
              <a:rect l="l" t="t" r="r" b="b"/>
              <a:pathLst>
                <a:path w="16" h="206">
                  <a:moveTo>
                    <a:pt x="16" y="206"/>
                  </a:moveTo>
                  <a:cubicBezTo>
                    <a:pt x="8" y="138"/>
                    <a:pt x="0" y="69"/>
                    <a:pt x="0" y="0"/>
                  </a:cubicBezTo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68520" y="3814560"/>
              <a:ext cx="312840" cy="375840"/>
            </a:xfrm>
            <a:custGeom>
              <a:avLst/>
              <a:gdLst/>
              <a:ahLst/>
              <a:rect l="l" t="t" r="r" b="b"/>
              <a:pathLst>
                <a:path w="197" h="237">
                  <a:moveTo>
                    <a:pt x="15" y="23"/>
                  </a:moveTo>
                  <a:cubicBezTo>
                    <a:pt x="75" y="3"/>
                    <a:pt x="75" y="0"/>
                    <a:pt x="179" y="23"/>
                  </a:cubicBezTo>
                  <a:cubicBezTo>
                    <a:pt x="181" y="23"/>
                    <a:pt x="192" y="65"/>
                    <a:pt x="196" y="81"/>
                  </a:cubicBezTo>
                  <a:cubicBezTo>
                    <a:pt x="193" y="130"/>
                    <a:pt x="197" y="180"/>
                    <a:pt x="187" y="228"/>
                  </a:cubicBezTo>
                  <a:cubicBezTo>
                    <a:pt x="185" y="237"/>
                    <a:pt x="175" y="213"/>
                    <a:pt x="171" y="204"/>
                  </a:cubicBezTo>
                  <a:cubicBezTo>
                    <a:pt x="167" y="196"/>
                    <a:pt x="166" y="187"/>
                    <a:pt x="163" y="179"/>
                  </a:cubicBezTo>
                  <a:cubicBezTo>
                    <a:pt x="152" y="148"/>
                    <a:pt x="140" y="140"/>
                    <a:pt x="113" y="122"/>
                  </a:cubicBezTo>
                  <a:cubicBezTo>
                    <a:pt x="92" y="89"/>
                    <a:pt x="61" y="68"/>
                    <a:pt x="23" y="56"/>
                  </a:cubicBezTo>
                  <a:cubicBezTo>
                    <a:pt x="5" y="28"/>
                    <a:pt x="0" y="38"/>
                    <a:pt x="15" y="23"/>
                  </a:cubicBez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95480" y="2816280"/>
              <a:ext cx="782640" cy="772560"/>
            </a:xfrm>
            <a:custGeom>
              <a:avLst/>
              <a:gdLst/>
              <a:ahLst/>
              <a:rect l="l" t="t" r="r" b="b"/>
              <a:pathLst>
                <a:path w="493" h="487">
                  <a:moveTo>
                    <a:pt x="461" y="69"/>
                  </a:moveTo>
                  <a:cubicBezTo>
                    <a:pt x="435" y="43"/>
                    <a:pt x="403" y="39"/>
                    <a:pt x="370" y="27"/>
                  </a:cubicBezTo>
                  <a:cubicBezTo>
                    <a:pt x="318" y="46"/>
                    <a:pt x="269" y="103"/>
                    <a:pt x="222" y="126"/>
                  </a:cubicBezTo>
                  <a:cubicBezTo>
                    <a:pt x="168" y="152"/>
                    <a:pt x="99" y="161"/>
                    <a:pt x="41" y="167"/>
                  </a:cubicBezTo>
                  <a:cubicBezTo>
                    <a:pt x="21" y="188"/>
                    <a:pt x="10" y="206"/>
                    <a:pt x="0" y="233"/>
                  </a:cubicBezTo>
                  <a:cubicBezTo>
                    <a:pt x="8" y="238"/>
                    <a:pt x="15" y="248"/>
                    <a:pt x="25" y="249"/>
                  </a:cubicBezTo>
                  <a:cubicBezTo>
                    <a:pt x="123" y="254"/>
                    <a:pt x="207" y="225"/>
                    <a:pt x="132" y="249"/>
                  </a:cubicBezTo>
                  <a:cubicBezTo>
                    <a:pt x="116" y="266"/>
                    <a:pt x="100" y="282"/>
                    <a:pt x="83" y="299"/>
                  </a:cubicBezTo>
                  <a:cubicBezTo>
                    <a:pt x="77" y="305"/>
                    <a:pt x="66" y="315"/>
                    <a:pt x="66" y="315"/>
                  </a:cubicBezTo>
                  <a:cubicBezTo>
                    <a:pt x="114" y="386"/>
                    <a:pt x="195" y="326"/>
                    <a:pt x="239" y="282"/>
                  </a:cubicBezTo>
                  <a:cubicBezTo>
                    <a:pt x="225" y="324"/>
                    <a:pt x="212" y="366"/>
                    <a:pt x="189" y="405"/>
                  </a:cubicBezTo>
                  <a:cubicBezTo>
                    <a:pt x="184" y="414"/>
                    <a:pt x="177" y="421"/>
                    <a:pt x="173" y="430"/>
                  </a:cubicBezTo>
                  <a:cubicBezTo>
                    <a:pt x="169" y="438"/>
                    <a:pt x="169" y="447"/>
                    <a:pt x="165" y="455"/>
                  </a:cubicBezTo>
                  <a:cubicBezTo>
                    <a:pt x="161" y="464"/>
                    <a:pt x="141" y="472"/>
                    <a:pt x="148" y="479"/>
                  </a:cubicBezTo>
                  <a:cubicBezTo>
                    <a:pt x="156" y="487"/>
                    <a:pt x="170" y="474"/>
                    <a:pt x="181" y="471"/>
                  </a:cubicBezTo>
                  <a:cubicBezTo>
                    <a:pt x="197" y="466"/>
                    <a:pt x="214" y="460"/>
                    <a:pt x="230" y="455"/>
                  </a:cubicBezTo>
                  <a:cubicBezTo>
                    <a:pt x="287" y="436"/>
                    <a:pt x="315" y="387"/>
                    <a:pt x="354" y="348"/>
                  </a:cubicBezTo>
                  <a:cubicBezTo>
                    <a:pt x="381" y="321"/>
                    <a:pt x="412" y="295"/>
                    <a:pt x="444" y="274"/>
                  </a:cubicBezTo>
                  <a:cubicBezTo>
                    <a:pt x="459" y="226"/>
                    <a:pt x="481" y="183"/>
                    <a:pt x="493" y="134"/>
                  </a:cubicBezTo>
                  <a:cubicBezTo>
                    <a:pt x="490" y="117"/>
                    <a:pt x="486" y="86"/>
                    <a:pt x="477" y="69"/>
                  </a:cubicBezTo>
                  <a:cubicBezTo>
                    <a:pt x="466" y="46"/>
                    <a:pt x="409" y="0"/>
                    <a:pt x="461" y="69"/>
                  </a:cubicBez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371600" y="1676520"/>
            <a:ext cx="1849320" cy="2574720"/>
          </a:xfrm>
          <a:custGeom>
            <a:avLst/>
            <a:gdLst/>
            <a:ahLst/>
            <a:rect l="l" t="t" r="r" b="b"/>
            <a:pathLst>
              <a:path w="1165" h="1622">
                <a:moveTo>
                  <a:pt x="72" y="135"/>
                </a:moveTo>
                <a:cubicBezTo>
                  <a:pt x="75" y="97"/>
                  <a:pt x="69" y="57"/>
                  <a:pt x="80" y="20"/>
                </a:cubicBezTo>
                <a:cubicBezTo>
                  <a:pt x="83" y="12"/>
                  <a:pt x="103" y="19"/>
                  <a:pt x="105" y="28"/>
                </a:cubicBezTo>
                <a:cubicBezTo>
                  <a:pt x="118" y="97"/>
                  <a:pt x="111" y="97"/>
                  <a:pt x="80" y="126"/>
                </a:cubicBezTo>
                <a:cubicBezTo>
                  <a:pt x="66" y="123"/>
                  <a:pt x="50" y="126"/>
                  <a:pt x="39" y="118"/>
                </a:cubicBezTo>
                <a:cubicBezTo>
                  <a:pt x="0" y="90"/>
                  <a:pt x="31" y="52"/>
                  <a:pt x="56" y="36"/>
                </a:cubicBezTo>
                <a:cubicBezTo>
                  <a:pt x="78" y="39"/>
                  <a:pt x="107" y="27"/>
                  <a:pt x="121" y="44"/>
                </a:cubicBezTo>
                <a:cubicBezTo>
                  <a:pt x="134" y="59"/>
                  <a:pt x="126" y="87"/>
                  <a:pt x="113" y="102"/>
                </a:cubicBezTo>
                <a:cubicBezTo>
                  <a:pt x="106" y="111"/>
                  <a:pt x="91" y="96"/>
                  <a:pt x="80" y="93"/>
                </a:cubicBezTo>
                <a:cubicBezTo>
                  <a:pt x="71" y="67"/>
                  <a:pt x="58" y="40"/>
                  <a:pt x="80" y="11"/>
                </a:cubicBezTo>
                <a:cubicBezTo>
                  <a:pt x="88" y="0"/>
                  <a:pt x="107" y="6"/>
                  <a:pt x="121" y="3"/>
                </a:cubicBezTo>
                <a:cubicBezTo>
                  <a:pt x="191" y="13"/>
                  <a:pt x="240" y="30"/>
                  <a:pt x="277" y="93"/>
                </a:cubicBezTo>
                <a:cubicBezTo>
                  <a:pt x="283" y="104"/>
                  <a:pt x="286" y="116"/>
                  <a:pt x="294" y="126"/>
                </a:cubicBezTo>
                <a:cubicBezTo>
                  <a:pt x="309" y="144"/>
                  <a:pt x="343" y="176"/>
                  <a:pt x="343" y="176"/>
                </a:cubicBezTo>
                <a:cubicBezTo>
                  <a:pt x="362" y="234"/>
                  <a:pt x="374" y="289"/>
                  <a:pt x="409" y="340"/>
                </a:cubicBezTo>
                <a:cubicBezTo>
                  <a:pt x="438" y="429"/>
                  <a:pt x="472" y="496"/>
                  <a:pt x="549" y="554"/>
                </a:cubicBezTo>
                <a:cubicBezTo>
                  <a:pt x="566" y="552"/>
                  <a:pt x="698" y="558"/>
                  <a:pt x="639" y="496"/>
                </a:cubicBezTo>
                <a:cubicBezTo>
                  <a:pt x="588" y="550"/>
                  <a:pt x="609" y="615"/>
                  <a:pt x="623" y="693"/>
                </a:cubicBezTo>
                <a:cubicBezTo>
                  <a:pt x="627" y="717"/>
                  <a:pt x="644" y="737"/>
                  <a:pt x="655" y="759"/>
                </a:cubicBezTo>
                <a:cubicBezTo>
                  <a:pt x="719" y="889"/>
                  <a:pt x="903" y="931"/>
                  <a:pt x="1034" y="956"/>
                </a:cubicBezTo>
                <a:cubicBezTo>
                  <a:pt x="1059" y="953"/>
                  <a:pt x="1085" y="957"/>
                  <a:pt x="1108" y="948"/>
                </a:cubicBezTo>
                <a:cubicBezTo>
                  <a:pt x="1130" y="940"/>
                  <a:pt x="1165" y="907"/>
                  <a:pt x="1165" y="907"/>
                </a:cubicBezTo>
                <a:cubicBezTo>
                  <a:pt x="1160" y="1025"/>
                  <a:pt x="1162" y="1143"/>
                  <a:pt x="1149" y="1260"/>
                </a:cubicBezTo>
                <a:cubicBezTo>
                  <a:pt x="1147" y="1277"/>
                  <a:pt x="1113" y="1261"/>
                  <a:pt x="1099" y="1252"/>
                </a:cubicBezTo>
                <a:cubicBezTo>
                  <a:pt x="1109" y="1210"/>
                  <a:pt x="1110" y="1126"/>
                  <a:pt x="1157" y="1195"/>
                </a:cubicBezTo>
                <a:cubicBezTo>
                  <a:pt x="1140" y="1317"/>
                  <a:pt x="1139" y="1325"/>
                  <a:pt x="1083" y="1417"/>
                </a:cubicBezTo>
                <a:cubicBezTo>
                  <a:pt x="1061" y="1556"/>
                  <a:pt x="1066" y="1487"/>
                  <a:pt x="1066" y="1622"/>
                </a:cubicBezTo>
              </a:path>
            </a:pathLst>
          </a:custGeom>
          <a:noFill/>
          <a:ln w="284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52280" y="152280"/>
            <a:ext cx="8839440" cy="1911600"/>
            <a:chOff x="152280" y="152280"/>
            <a:chExt cx="8839440" cy="1911600"/>
          </a:xfrm>
        </p:grpSpPr>
        <p:sp>
          <p:nvSpPr>
            <p:cNvPr id="111" name=""/>
            <p:cNvSpPr/>
            <p:nvPr/>
          </p:nvSpPr>
          <p:spPr>
            <a:xfrm>
              <a:off x="152280" y="152280"/>
              <a:ext cx="8839440" cy="9144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380880" y="228600"/>
              <a:ext cx="58676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8440">
                    <a:solidFill>
                      <a:srgbClr val="ff3300"/>
                    </a:solidFill>
                    <a:miter/>
                  </a:ln>
                  <a:solidFill>
                    <a:srgbClr val="ffffff"/>
                  </a:solidFill>
                  <a:latin typeface="Broadway BT"/>
                </a:rPr>
                <a:t>FRA MARTINO</a:t>
              </a:r>
              <a:endParaRPr b="0" lang="en-US" sz="2400" spc="1" strike="noStrike">
                <a:ln w="28440">
                  <a:solidFill>
                    <a:srgbClr val="ff3300"/>
                  </a:solidFill>
                  <a:miter/>
                </a:ln>
                <a:solidFill>
                  <a:srgbClr val="ffffff"/>
                </a:solidFill>
                <a:latin typeface="Broadway BT"/>
                <a:ea typeface="Broadway BT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6781680" y="457200"/>
            <a:ext cx="1605240" cy="1606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781680" y="457200"/>
                      <a:ext cx="1605240" cy="160668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</p:spTree>
  </p:cSld>
  <p:transition advTm="3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4400" y="1676520"/>
            <a:ext cx="8167680" cy="4178160"/>
          </a:xfrm>
          <a:custGeom>
            <a:avLst/>
            <a:gdLst/>
            <a:ahLst/>
            <a:rect l="l" t="t" r="r" b="b"/>
            <a:pathLst>
              <a:path w="5145" h="2632">
                <a:moveTo>
                  <a:pt x="0" y="446"/>
                </a:moveTo>
                <a:cubicBezTo>
                  <a:pt x="14" y="251"/>
                  <a:pt x="32" y="111"/>
                  <a:pt x="239" y="35"/>
                </a:cubicBezTo>
                <a:cubicBezTo>
                  <a:pt x="286" y="18"/>
                  <a:pt x="337" y="13"/>
                  <a:pt x="386" y="2"/>
                </a:cubicBezTo>
                <a:cubicBezTo>
                  <a:pt x="753" y="23"/>
                  <a:pt x="1002" y="0"/>
                  <a:pt x="1233" y="306"/>
                </a:cubicBezTo>
                <a:cubicBezTo>
                  <a:pt x="1243" y="376"/>
                  <a:pt x="1261" y="449"/>
                  <a:pt x="1241" y="520"/>
                </a:cubicBezTo>
                <a:cubicBezTo>
                  <a:pt x="1204" y="649"/>
                  <a:pt x="1184" y="599"/>
                  <a:pt x="1110" y="709"/>
                </a:cubicBezTo>
                <a:cubicBezTo>
                  <a:pt x="1088" y="742"/>
                  <a:pt x="1077" y="780"/>
                  <a:pt x="1060" y="816"/>
                </a:cubicBezTo>
                <a:cubicBezTo>
                  <a:pt x="1045" y="889"/>
                  <a:pt x="1015" y="978"/>
                  <a:pt x="1044" y="1054"/>
                </a:cubicBezTo>
                <a:cubicBezTo>
                  <a:pt x="1101" y="1204"/>
                  <a:pt x="1400" y="1438"/>
                  <a:pt x="1537" y="1490"/>
                </a:cubicBezTo>
                <a:cubicBezTo>
                  <a:pt x="1615" y="1519"/>
                  <a:pt x="1702" y="1512"/>
                  <a:pt x="1784" y="1523"/>
                </a:cubicBezTo>
                <a:cubicBezTo>
                  <a:pt x="2041" y="1460"/>
                  <a:pt x="2101" y="1449"/>
                  <a:pt x="2277" y="1260"/>
                </a:cubicBezTo>
                <a:cubicBezTo>
                  <a:pt x="2330" y="1123"/>
                  <a:pt x="2405" y="869"/>
                  <a:pt x="2236" y="783"/>
                </a:cubicBezTo>
                <a:cubicBezTo>
                  <a:pt x="2148" y="802"/>
                  <a:pt x="2056" y="805"/>
                  <a:pt x="1973" y="840"/>
                </a:cubicBezTo>
                <a:cubicBezTo>
                  <a:pt x="1867" y="885"/>
                  <a:pt x="1794" y="994"/>
                  <a:pt x="1726" y="1079"/>
                </a:cubicBezTo>
                <a:cubicBezTo>
                  <a:pt x="1710" y="1143"/>
                  <a:pt x="1681" y="1196"/>
                  <a:pt x="1718" y="1260"/>
                </a:cubicBezTo>
                <a:cubicBezTo>
                  <a:pt x="1785" y="1377"/>
                  <a:pt x="1985" y="1527"/>
                  <a:pt x="2112" y="1564"/>
                </a:cubicBezTo>
                <a:cubicBezTo>
                  <a:pt x="2176" y="1583"/>
                  <a:pt x="2244" y="1580"/>
                  <a:pt x="2310" y="1588"/>
                </a:cubicBezTo>
                <a:cubicBezTo>
                  <a:pt x="2504" y="1565"/>
                  <a:pt x="2691" y="1524"/>
                  <a:pt x="2885" y="1498"/>
                </a:cubicBezTo>
                <a:cubicBezTo>
                  <a:pt x="3031" y="1506"/>
                  <a:pt x="3079" y="1481"/>
                  <a:pt x="3132" y="1621"/>
                </a:cubicBezTo>
                <a:cubicBezTo>
                  <a:pt x="3124" y="1690"/>
                  <a:pt x="3128" y="1761"/>
                  <a:pt x="3107" y="1827"/>
                </a:cubicBezTo>
                <a:cubicBezTo>
                  <a:pt x="3069" y="1944"/>
                  <a:pt x="2887" y="2059"/>
                  <a:pt x="2770" y="2073"/>
                </a:cubicBezTo>
                <a:cubicBezTo>
                  <a:pt x="2702" y="2029"/>
                  <a:pt x="2825" y="1876"/>
                  <a:pt x="2844" y="1851"/>
                </a:cubicBezTo>
                <a:cubicBezTo>
                  <a:pt x="2980" y="1671"/>
                  <a:pt x="3203" y="1547"/>
                  <a:pt x="3427" y="1514"/>
                </a:cubicBezTo>
                <a:cubicBezTo>
                  <a:pt x="3506" y="1502"/>
                  <a:pt x="3666" y="1498"/>
                  <a:pt x="3666" y="1498"/>
                </a:cubicBezTo>
                <a:cubicBezTo>
                  <a:pt x="3822" y="1518"/>
                  <a:pt x="3937" y="1524"/>
                  <a:pt x="4077" y="1588"/>
                </a:cubicBezTo>
                <a:cubicBezTo>
                  <a:pt x="4141" y="1653"/>
                  <a:pt x="4187" y="1691"/>
                  <a:pt x="4233" y="1769"/>
                </a:cubicBezTo>
                <a:cubicBezTo>
                  <a:pt x="4299" y="1882"/>
                  <a:pt x="4298" y="1927"/>
                  <a:pt x="4414" y="1999"/>
                </a:cubicBezTo>
                <a:cubicBezTo>
                  <a:pt x="4458" y="1991"/>
                  <a:pt x="4506" y="1995"/>
                  <a:pt x="4545" y="1975"/>
                </a:cubicBezTo>
                <a:cubicBezTo>
                  <a:pt x="4706" y="1891"/>
                  <a:pt x="4882" y="1741"/>
                  <a:pt x="5030" y="1629"/>
                </a:cubicBezTo>
                <a:cubicBezTo>
                  <a:pt x="5145" y="2101"/>
                  <a:pt x="4600" y="2301"/>
                  <a:pt x="4241" y="2361"/>
                </a:cubicBezTo>
                <a:cubicBezTo>
                  <a:pt x="4126" y="2350"/>
                  <a:pt x="4009" y="2351"/>
                  <a:pt x="3896" y="2328"/>
                </a:cubicBezTo>
                <a:cubicBezTo>
                  <a:pt x="3808" y="2310"/>
                  <a:pt x="3624" y="2154"/>
                  <a:pt x="3559" y="2147"/>
                </a:cubicBezTo>
                <a:cubicBezTo>
                  <a:pt x="3469" y="2137"/>
                  <a:pt x="3509" y="2143"/>
                  <a:pt x="3436" y="2131"/>
                </a:cubicBezTo>
                <a:cubicBezTo>
                  <a:pt x="3285" y="2180"/>
                  <a:pt x="3207" y="2310"/>
                  <a:pt x="3099" y="2427"/>
                </a:cubicBezTo>
                <a:cubicBezTo>
                  <a:pt x="2971" y="2566"/>
                  <a:pt x="2737" y="2603"/>
                  <a:pt x="2564" y="2632"/>
                </a:cubicBezTo>
                <a:cubicBezTo>
                  <a:pt x="2427" y="2599"/>
                  <a:pt x="2280" y="2593"/>
                  <a:pt x="2153" y="2533"/>
                </a:cubicBezTo>
                <a:cubicBezTo>
                  <a:pt x="2022" y="2471"/>
                  <a:pt x="1939" y="2336"/>
                  <a:pt x="1825" y="2246"/>
                </a:cubicBezTo>
                <a:cubicBezTo>
                  <a:pt x="1740" y="2097"/>
                  <a:pt x="1817" y="1989"/>
                  <a:pt x="1940" y="1884"/>
                </a:cubicBezTo>
                <a:cubicBezTo>
                  <a:pt x="2104" y="1743"/>
                  <a:pt x="2172" y="1733"/>
                  <a:pt x="2285" y="1555"/>
                </a:cubicBezTo>
                <a:cubicBezTo>
                  <a:pt x="2327" y="1389"/>
                  <a:pt x="2338" y="1181"/>
                  <a:pt x="2203" y="1054"/>
                </a:cubicBezTo>
                <a:cubicBezTo>
                  <a:pt x="2153" y="1007"/>
                  <a:pt x="2076" y="1001"/>
                  <a:pt x="2014" y="988"/>
                </a:cubicBezTo>
                <a:cubicBezTo>
                  <a:pt x="1784" y="1003"/>
                  <a:pt x="1578" y="1100"/>
                  <a:pt x="1381" y="1219"/>
                </a:cubicBezTo>
                <a:cubicBezTo>
                  <a:pt x="1181" y="1340"/>
                  <a:pt x="1083" y="1438"/>
                  <a:pt x="863" y="1481"/>
                </a:cubicBezTo>
                <a:cubicBezTo>
                  <a:pt x="774" y="1475"/>
                  <a:pt x="701" y="1484"/>
                  <a:pt x="625" y="1424"/>
                </a:cubicBezTo>
                <a:cubicBezTo>
                  <a:pt x="523" y="1343"/>
                  <a:pt x="466" y="1176"/>
                  <a:pt x="419" y="1062"/>
                </a:cubicBezTo>
                <a:cubicBezTo>
                  <a:pt x="406" y="953"/>
                  <a:pt x="383" y="823"/>
                  <a:pt x="411" y="717"/>
                </a:cubicBezTo>
                <a:cubicBezTo>
                  <a:pt x="431" y="640"/>
                  <a:pt x="609" y="605"/>
                  <a:pt x="641" y="594"/>
                </a:cubicBezTo>
                <a:cubicBezTo>
                  <a:pt x="666" y="586"/>
                  <a:pt x="715" y="569"/>
                  <a:pt x="715" y="569"/>
                </a:cubicBezTo>
                <a:cubicBezTo>
                  <a:pt x="776" y="519"/>
                  <a:pt x="803" y="488"/>
                  <a:pt x="830" y="413"/>
                </a:cubicBezTo>
                <a:cubicBezTo>
                  <a:pt x="837" y="362"/>
                  <a:pt x="851" y="323"/>
                  <a:pt x="814" y="273"/>
                </a:cubicBezTo>
                <a:cubicBezTo>
                  <a:pt x="804" y="259"/>
                  <a:pt x="781" y="262"/>
                  <a:pt x="765" y="257"/>
                </a:cubicBezTo>
                <a:cubicBezTo>
                  <a:pt x="533" y="276"/>
                  <a:pt x="311" y="331"/>
                  <a:pt x="82" y="356"/>
                </a:cubicBezTo>
                <a:cubicBezTo>
                  <a:pt x="78" y="362"/>
                  <a:pt x="0" y="484"/>
                  <a:pt x="0" y="446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2438280"/>
            <a:ext cx="38862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y"/>
              </a:rPr>
              <a:t>DIN DON D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y"/>
              </a:rPr>
              <a:t>DIN DON D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04920" y="1600200"/>
          <a:ext cx="2743200" cy="217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2743200" cy="21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5791320" y="4178160"/>
          <a:ext cx="3047760" cy="241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4178160"/>
                    <a:ext cx="3047760" cy="24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" name=""/>
          <p:cNvGrpSpPr/>
          <p:nvPr/>
        </p:nvGrpSpPr>
        <p:grpSpPr>
          <a:xfrm>
            <a:off x="152280" y="152280"/>
            <a:ext cx="8839440" cy="1911600"/>
            <a:chOff x="152280" y="152280"/>
            <a:chExt cx="8839440" cy="1911600"/>
          </a:xfrm>
        </p:grpSpPr>
        <p:sp>
          <p:nvSpPr>
            <p:cNvPr id="122" name=""/>
            <p:cNvSpPr/>
            <p:nvPr/>
          </p:nvSpPr>
          <p:spPr>
            <a:xfrm>
              <a:off x="152280" y="152280"/>
              <a:ext cx="8839440" cy="9144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380880" y="228600"/>
              <a:ext cx="58676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8440">
                    <a:solidFill>
                      <a:srgbClr val="ff3300"/>
                    </a:solidFill>
                    <a:miter/>
                  </a:ln>
                  <a:solidFill>
                    <a:srgbClr val="ffffff"/>
                  </a:solidFill>
                  <a:latin typeface="Broadway BT"/>
                </a:rPr>
                <a:t>FRA MARTINO</a:t>
              </a:r>
              <a:endParaRPr b="0" lang="en-US" sz="2400" spc="1" strike="noStrike">
                <a:ln w="28440">
                  <a:solidFill>
                    <a:srgbClr val="ff3300"/>
                  </a:solidFill>
                  <a:miter/>
                </a:ln>
                <a:solidFill>
                  <a:srgbClr val="ffffff"/>
                </a:solidFill>
                <a:latin typeface="Broadway BT"/>
                <a:ea typeface="Broadway BT"/>
              </a:endParaRPr>
            </a:p>
          </p:txBody>
        </p:sp>
        <p:graphicFrame>
          <p:nvGraphicFramePr>
            <p:cNvPr id="124" name=""/>
            <p:cNvGraphicFramePr/>
            <p:nvPr/>
          </p:nvGraphicFramePr>
          <p:xfrm>
            <a:off x="6781680" y="457200"/>
            <a:ext cx="1605240" cy="1606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781680" y="457200"/>
                      <a:ext cx="1605240" cy="160668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</p:spTree>
  </p:cSld>
  <p:transition advTm="3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99960" y="1920960"/>
            <a:ext cx="3730680" cy="4629240"/>
          </a:xfrm>
          <a:custGeom>
            <a:avLst/>
            <a:gdLst/>
            <a:ahLst/>
            <a:rect l="l" t="t" r="r" b="b"/>
            <a:pathLst>
              <a:path w="2350" h="2916">
                <a:moveTo>
                  <a:pt x="1022" y="179"/>
                </a:moveTo>
                <a:cubicBezTo>
                  <a:pt x="1074" y="144"/>
                  <a:pt x="1118" y="96"/>
                  <a:pt x="1178" y="72"/>
                </a:cubicBezTo>
                <a:cubicBezTo>
                  <a:pt x="1195" y="65"/>
                  <a:pt x="1316" y="41"/>
                  <a:pt x="1326" y="39"/>
                </a:cubicBezTo>
                <a:cubicBezTo>
                  <a:pt x="1384" y="42"/>
                  <a:pt x="1465" y="0"/>
                  <a:pt x="1499" y="47"/>
                </a:cubicBezTo>
                <a:cubicBezTo>
                  <a:pt x="1542" y="107"/>
                  <a:pt x="1482" y="323"/>
                  <a:pt x="1458" y="409"/>
                </a:cubicBezTo>
                <a:cubicBezTo>
                  <a:pt x="1568" y="424"/>
                  <a:pt x="1472" y="419"/>
                  <a:pt x="1638" y="384"/>
                </a:cubicBezTo>
                <a:cubicBezTo>
                  <a:pt x="1964" y="316"/>
                  <a:pt x="1888" y="326"/>
                  <a:pt x="2107" y="310"/>
                </a:cubicBezTo>
                <a:cubicBezTo>
                  <a:pt x="2126" y="305"/>
                  <a:pt x="2159" y="275"/>
                  <a:pt x="2164" y="294"/>
                </a:cubicBezTo>
                <a:cubicBezTo>
                  <a:pt x="2176" y="342"/>
                  <a:pt x="2073" y="424"/>
                  <a:pt x="2049" y="442"/>
                </a:cubicBezTo>
                <a:cubicBezTo>
                  <a:pt x="1996" y="482"/>
                  <a:pt x="1940" y="519"/>
                  <a:pt x="1885" y="557"/>
                </a:cubicBezTo>
                <a:cubicBezTo>
                  <a:pt x="1875" y="564"/>
                  <a:pt x="1840" y="573"/>
                  <a:pt x="1852" y="573"/>
                </a:cubicBezTo>
                <a:cubicBezTo>
                  <a:pt x="1885" y="573"/>
                  <a:pt x="1918" y="562"/>
                  <a:pt x="1951" y="557"/>
                </a:cubicBezTo>
                <a:cubicBezTo>
                  <a:pt x="2105" y="565"/>
                  <a:pt x="2135" y="544"/>
                  <a:pt x="2230" y="656"/>
                </a:cubicBezTo>
                <a:cubicBezTo>
                  <a:pt x="2350" y="969"/>
                  <a:pt x="2004" y="1051"/>
                  <a:pt x="1803" y="1190"/>
                </a:cubicBezTo>
                <a:cubicBezTo>
                  <a:pt x="1797" y="1199"/>
                  <a:pt x="1731" y="1281"/>
                  <a:pt x="1737" y="1313"/>
                </a:cubicBezTo>
                <a:cubicBezTo>
                  <a:pt x="1766" y="1475"/>
                  <a:pt x="2062" y="1621"/>
                  <a:pt x="2148" y="1683"/>
                </a:cubicBezTo>
                <a:cubicBezTo>
                  <a:pt x="2173" y="1701"/>
                  <a:pt x="2222" y="1740"/>
                  <a:pt x="2222" y="1740"/>
                </a:cubicBezTo>
                <a:cubicBezTo>
                  <a:pt x="2233" y="1806"/>
                  <a:pt x="2242" y="1845"/>
                  <a:pt x="2222" y="1921"/>
                </a:cubicBezTo>
                <a:cubicBezTo>
                  <a:pt x="2191" y="2036"/>
                  <a:pt x="2054" y="2100"/>
                  <a:pt x="1951" y="2127"/>
                </a:cubicBezTo>
                <a:cubicBezTo>
                  <a:pt x="1761" y="2176"/>
                  <a:pt x="1579" y="2164"/>
                  <a:pt x="1425" y="2299"/>
                </a:cubicBezTo>
                <a:cubicBezTo>
                  <a:pt x="1386" y="2514"/>
                  <a:pt x="1633" y="2573"/>
                  <a:pt x="1778" y="2653"/>
                </a:cubicBezTo>
                <a:cubicBezTo>
                  <a:pt x="1829" y="2681"/>
                  <a:pt x="1882" y="2707"/>
                  <a:pt x="1934" y="2735"/>
                </a:cubicBezTo>
                <a:cubicBezTo>
                  <a:pt x="1959" y="2748"/>
                  <a:pt x="2008" y="2776"/>
                  <a:pt x="2008" y="2776"/>
                </a:cubicBezTo>
                <a:cubicBezTo>
                  <a:pt x="1945" y="2822"/>
                  <a:pt x="1852" y="2816"/>
                  <a:pt x="1778" y="2825"/>
                </a:cubicBezTo>
                <a:cubicBezTo>
                  <a:pt x="1501" y="2794"/>
                  <a:pt x="1226" y="2753"/>
                  <a:pt x="948" y="2735"/>
                </a:cubicBezTo>
                <a:cubicBezTo>
                  <a:pt x="901" y="2743"/>
                  <a:pt x="853" y="2746"/>
                  <a:pt x="808" y="2759"/>
                </a:cubicBezTo>
                <a:cubicBezTo>
                  <a:pt x="722" y="2784"/>
                  <a:pt x="645" y="2842"/>
                  <a:pt x="562" y="2874"/>
                </a:cubicBezTo>
                <a:cubicBezTo>
                  <a:pt x="463" y="2912"/>
                  <a:pt x="425" y="2908"/>
                  <a:pt x="323" y="2916"/>
                </a:cubicBezTo>
                <a:cubicBezTo>
                  <a:pt x="282" y="2888"/>
                  <a:pt x="235" y="2868"/>
                  <a:pt x="200" y="2833"/>
                </a:cubicBezTo>
                <a:cubicBezTo>
                  <a:pt x="88" y="2720"/>
                  <a:pt x="270" y="2593"/>
                  <a:pt x="356" y="2554"/>
                </a:cubicBezTo>
                <a:cubicBezTo>
                  <a:pt x="460" y="2507"/>
                  <a:pt x="778" y="2408"/>
                  <a:pt x="874" y="2340"/>
                </a:cubicBezTo>
                <a:cubicBezTo>
                  <a:pt x="942" y="2292"/>
                  <a:pt x="957" y="2256"/>
                  <a:pt x="997" y="2192"/>
                </a:cubicBezTo>
                <a:cubicBezTo>
                  <a:pt x="1012" y="2098"/>
                  <a:pt x="1001" y="2091"/>
                  <a:pt x="899" y="2085"/>
                </a:cubicBezTo>
                <a:cubicBezTo>
                  <a:pt x="699" y="2073"/>
                  <a:pt x="499" y="2065"/>
                  <a:pt x="299" y="2053"/>
                </a:cubicBezTo>
                <a:cubicBezTo>
                  <a:pt x="194" y="2023"/>
                  <a:pt x="118" y="2001"/>
                  <a:pt x="36" y="1929"/>
                </a:cubicBezTo>
                <a:cubicBezTo>
                  <a:pt x="19" y="1896"/>
                  <a:pt x="0" y="1870"/>
                  <a:pt x="3" y="1831"/>
                </a:cubicBezTo>
                <a:cubicBezTo>
                  <a:pt x="7" y="1784"/>
                  <a:pt x="13" y="1736"/>
                  <a:pt x="27" y="1691"/>
                </a:cubicBezTo>
                <a:cubicBezTo>
                  <a:pt x="76" y="1528"/>
                  <a:pt x="368" y="1517"/>
                  <a:pt x="496" y="1510"/>
                </a:cubicBezTo>
                <a:cubicBezTo>
                  <a:pt x="541" y="1488"/>
                  <a:pt x="543" y="1477"/>
                  <a:pt x="553" y="1428"/>
                </a:cubicBezTo>
                <a:cubicBezTo>
                  <a:pt x="522" y="1349"/>
                  <a:pt x="456" y="1306"/>
                  <a:pt x="397" y="1247"/>
                </a:cubicBezTo>
                <a:cubicBezTo>
                  <a:pt x="394" y="1240"/>
                  <a:pt x="371" y="1186"/>
                  <a:pt x="373" y="1173"/>
                </a:cubicBezTo>
                <a:cubicBezTo>
                  <a:pt x="382" y="1115"/>
                  <a:pt x="384" y="1052"/>
                  <a:pt x="414" y="1001"/>
                </a:cubicBezTo>
                <a:cubicBezTo>
                  <a:pt x="427" y="979"/>
                  <a:pt x="462" y="980"/>
                  <a:pt x="488" y="976"/>
                </a:cubicBezTo>
                <a:cubicBezTo>
                  <a:pt x="542" y="968"/>
                  <a:pt x="597" y="971"/>
                  <a:pt x="652" y="968"/>
                </a:cubicBezTo>
                <a:cubicBezTo>
                  <a:pt x="706" y="945"/>
                  <a:pt x="732" y="937"/>
                  <a:pt x="759" y="886"/>
                </a:cubicBezTo>
                <a:cubicBezTo>
                  <a:pt x="781" y="796"/>
                  <a:pt x="749" y="764"/>
                  <a:pt x="677" y="713"/>
                </a:cubicBezTo>
                <a:cubicBezTo>
                  <a:pt x="620" y="673"/>
                  <a:pt x="504" y="598"/>
                  <a:pt x="504" y="598"/>
                </a:cubicBezTo>
                <a:cubicBezTo>
                  <a:pt x="467" y="521"/>
                  <a:pt x="468" y="538"/>
                  <a:pt x="504" y="393"/>
                </a:cubicBezTo>
                <a:cubicBezTo>
                  <a:pt x="548" y="217"/>
                  <a:pt x="881" y="240"/>
                  <a:pt x="981" y="236"/>
                </a:cubicBezTo>
                <a:cubicBezTo>
                  <a:pt x="1059" y="217"/>
                  <a:pt x="1027" y="230"/>
                  <a:pt x="1079" y="204"/>
                </a:cubicBezTo>
                <a:cubicBezTo>
                  <a:pt x="1082" y="196"/>
                  <a:pt x="1090" y="188"/>
                  <a:pt x="1088" y="179"/>
                </a:cubicBezTo>
                <a:cubicBezTo>
                  <a:pt x="1086" y="169"/>
                  <a:pt x="1056" y="151"/>
                  <a:pt x="1047" y="154"/>
                </a:cubicBezTo>
                <a:cubicBezTo>
                  <a:pt x="1036" y="158"/>
                  <a:pt x="1030" y="171"/>
                  <a:pt x="1022" y="179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553080" y="2209680"/>
          <a:ext cx="1968480" cy="23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2209680"/>
                    <a:ext cx="1968480" cy="2355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ff3300"/>
                    </a:outerShdw>
                  </a:effectLst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2590920" y="3276720"/>
            <a:ext cx="38862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dy"/>
              </a:rPr>
              <a:t>FRA MARTI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dy"/>
              </a:rPr>
              <a:t>CAMPANAR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04920" y="2362320"/>
            <a:ext cx="2417400" cy="2779200"/>
            <a:chOff x="304920" y="2362320"/>
            <a:chExt cx="2417400" cy="2779200"/>
          </a:xfrm>
        </p:grpSpPr>
        <p:sp>
          <p:nvSpPr>
            <p:cNvPr id="131" name=""/>
            <p:cNvSpPr/>
            <p:nvPr/>
          </p:nvSpPr>
          <p:spPr>
            <a:xfrm>
              <a:off x="645840" y="2362320"/>
              <a:ext cx="2076480" cy="1964520"/>
            </a:xfrm>
            <a:custGeom>
              <a:avLst/>
              <a:gdLst/>
              <a:ahLst/>
              <a:rect l="l" t="t" r="r" b="b"/>
              <a:pathLst>
                <a:path w="1096" h="933">
                  <a:moveTo>
                    <a:pt x="707" y="240"/>
                  </a:moveTo>
                  <a:cubicBezTo>
                    <a:pt x="717" y="208"/>
                    <a:pt x="727" y="200"/>
                    <a:pt x="756" y="182"/>
                  </a:cubicBezTo>
                  <a:cubicBezTo>
                    <a:pt x="775" y="185"/>
                    <a:pt x="795" y="184"/>
                    <a:pt x="813" y="190"/>
                  </a:cubicBezTo>
                  <a:cubicBezTo>
                    <a:pt x="845" y="201"/>
                    <a:pt x="830" y="245"/>
                    <a:pt x="846" y="264"/>
                  </a:cubicBezTo>
                  <a:cubicBezTo>
                    <a:pt x="851" y="271"/>
                    <a:pt x="862" y="271"/>
                    <a:pt x="871" y="272"/>
                  </a:cubicBezTo>
                  <a:cubicBezTo>
                    <a:pt x="906" y="277"/>
                    <a:pt x="942" y="278"/>
                    <a:pt x="978" y="281"/>
                  </a:cubicBezTo>
                  <a:cubicBezTo>
                    <a:pt x="1021" y="295"/>
                    <a:pt x="1020" y="320"/>
                    <a:pt x="1044" y="355"/>
                  </a:cubicBezTo>
                  <a:cubicBezTo>
                    <a:pt x="1062" y="429"/>
                    <a:pt x="1096" y="505"/>
                    <a:pt x="1002" y="535"/>
                  </a:cubicBezTo>
                  <a:cubicBezTo>
                    <a:pt x="920" y="529"/>
                    <a:pt x="870" y="540"/>
                    <a:pt x="813" y="486"/>
                  </a:cubicBezTo>
                  <a:cubicBezTo>
                    <a:pt x="810" y="544"/>
                    <a:pt x="809" y="601"/>
                    <a:pt x="805" y="659"/>
                  </a:cubicBezTo>
                  <a:cubicBezTo>
                    <a:pt x="802" y="701"/>
                    <a:pt x="779" y="731"/>
                    <a:pt x="756" y="765"/>
                  </a:cubicBezTo>
                  <a:cubicBezTo>
                    <a:pt x="678" y="881"/>
                    <a:pt x="585" y="900"/>
                    <a:pt x="452" y="913"/>
                  </a:cubicBezTo>
                  <a:cubicBezTo>
                    <a:pt x="346" y="905"/>
                    <a:pt x="240" y="933"/>
                    <a:pt x="172" y="848"/>
                  </a:cubicBezTo>
                  <a:cubicBezTo>
                    <a:pt x="136" y="803"/>
                    <a:pt x="98" y="765"/>
                    <a:pt x="66" y="716"/>
                  </a:cubicBezTo>
                  <a:cubicBezTo>
                    <a:pt x="55" y="700"/>
                    <a:pt x="33" y="667"/>
                    <a:pt x="33" y="667"/>
                  </a:cubicBezTo>
                  <a:cubicBezTo>
                    <a:pt x="28" y="648"/>
                    <a:pt x="21" y="628"/>
                    <a:pt x="16" y="609"/>
                  </a:cubicBezTo>
                  <a:cubicBezTo>
                    <a:pt x="10" y="587"/>
                    <a:pt x="0" y="544"/>
                    <a:pt x="0" y="544"/>
                  </a:cubicBezTo>
                  <a:cubicBezTo>
                    <a:pt x="3" y="453"/>
                    <a:pt x="3" y="363"/>
                    <a:pt x="8" y="272"/>
                  </a:cubicBezTo>
                  <a:cubicBezTo>
                    <a:pt x="14" y="144"/>
                    <a:pt x="69" y="105"/>
                    <a:pt x="181" y="75"/>
                  </a:cubicBezTo>
                  <a:cubicBezTo>
                    <a:pt x="245" y="58"/>
                    <a:pt x="306" y="34"/>
                    <a:pt x="370" y="18"/>
                  </a:cubicBezTo>
                  <a:cubicBezTo>
                    <a:pt x="425" y="21"/>
                    <a:pt x="490" y="0"/>
                    <a:pt x="534" y="34"/>
                  </a:cubicBezTo>
                  <a:cubicBezTo>
                    <a:pt x="569" y="61"/>
                    <a:pt x="601" y="101"/>
                    <a:pt x="633" y="133"/>
                  </a:cubicBezTo>
                  <a:cubicBezTo>
                    <a:pt x="652" y="152"/>
                    <a:pt x="668" y="153"/>
                    <a:pt x="682" y="174"/>
                  </a:cubicBezTo>
                  <a:cubicBezTo>
                    <a:pt x="698" y="199"/>
                    <a:pt x="699" y="212"/>
                    <a:pt x="707" y="240"/>
                  </a:cubicBez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62240" y="2728440"/>
              <a:ext cx="640080" cy="726120"/>
            </a:xfrm>
            <a:custGeom>
              <a:avLst/>
              <a:gdLst/>
              <a:ahLst/>
              <a:rect l="l" t="t" r="r" b="b"/>
              <a:pathLst>
                <a:path w="338" h="345">
                  <a:moveTo>
                    <a:pt x="271" y="0"/>
                  </a:moveTo>
                  <a:cubicBezTo>
                    <a:pt x="233" y="3"/>
                    <a:pt x="194" y="2"/>
                    <a:pt x="156" y="8"/>
                  </a:cubicBezTo>
                  <a:cubicBezTo>
                    <a:pt x="130" y="13"/>
                    <a:pt x="129" y="33"/>
                    <a:pt x="115" y="49"/>
                  </a:cubicBezTo>
                  <a:cubicBezTo>
                    <a:pt x="83" y="86"/>
                    <a:pt x="82" y="85"/>
                    <a:pt x="49" y="107"/>
                  </a:cubicBezTo>
                  <a:cubicBezTo>
                    <a:pt x="28" y="142"/>
                    <a:pt x="10" y="166"/>
                    <a:pt x="0" y="205"/>
                  </a:cubicBezTo>
                  <a:cubicBezTo>
                    <a:pt x="3" y="232"/>
                    <a:pt x="1" y="260"/>
                    <a:pt x="8" y="287"/>
                  </a:cubicBezTo>
                  <a:cubicBezTo>
                    <a:pt x="16" y="321"/>
                    <a:pt x="92" y="324"/>
                    <a:pt x="115" y="328"/>
                  </a:cubicBezTo>
                  <a:cubicBezTo>
                    <a:pt x="129" y="334"/>
                    <a:pt x="141" y="345"/>
                    <a:pt x="156" y="345"/>
                  </a:cubicBezTo>
                  <a:cubicBezTo>
                    <a:pt x="237" y="345"/>
                    <a:pt x="303" y="257"/>
                    <a:pt x="329" y="189"/>
                  </a:cubicBezTo>
                  <a:cubicBezTo>
                    <a:pt x="325" y="142"/>
                    <a:pt x="338" y="88"/>
                    <a:pt x="312" y="49"/>
                  </a:cubicBezTo>
                  <a:cubicBezTo>
                    <a:pt x="296" y="25"/>
                    <a:pt x="271" y="34"/>
                    <a:pt x="271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2000" y="2728440"/>
              <a:ext cx="780480" cy="345240"/>
            </a:xfrm>
            <a:custGeom>
              <a:avLst/>
              <a:gdLst/>
              <a:ahLst/>
              <a:rect l="l" t="t" r="r" b="b"/>
              <a:pathLst>
                <a:path w="412" h="164">
                  <a:moveTo>
                    <a:pt x="412" y="164"/>
                  </a:moveTo>
                  <a:cubicBezTo>
                    <a:pt x="364" y="152"/>
                    <a:pt x="321" y="132"/>
                    <a:pt x="273" y="123"/>
                  </a:cubicBezTo>
                  <a:cubicBezTo>
                    <a:pt x="227" y="95"/>
                    <a:pt x="199" y="55"/>
                    <a:pt x="149" y="33"/>
                  </a:cubicBezTo>
                  <a:cubicBezTo>
                    <a:pt x="110" y="16"/>
                    <a:pt x="66" y="13"/>
                    <a:pt x="26" y="0"/>
                  </a:cubicBezTo>
                  <a:cubicBezTo>
                    <a:pt x="19" y="10"/>
                    <a:pt x="0" y="35"/>
                    <a:pt x="1" y="49"/>
                  </a:cubicBezTo>
                  <a:cubicBezTo>
                    <a:pt x="3" y="82"/>
                    <a:pt x="18" y="148"/>
                    <a:pt x="18" y="148"/>
                  </a:cubicBezTo>
                  <a:cubicBezTo>
                    <a:pt x="21" y="118"/>
                    <a:pt x="22" y="87"/>
                    <a:pt x="26" y="57"/>
                  </a:cubicBezTo>
                  <a:cubicBezTo>
                    <a:pt x="27" y="49"/>
                    <a:pt x="34" y="33"/>
                    <a:pt x="34" y="3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35560" y="3663360"/>
              <a:ext cx="420480" cy="155520"/>
            </a:xfrm>
            <a:custGeom>
              <a:avLst/>
              <a:gdLst/>
              <a:ahLst/>
              <a:rect l="l" t="t" r="r" b="b"/>
              <a:pathLst>
                <a:path w="222" h="74">
                  <a:moveTo>
                    <a:pt x="0" y="0"/>
                  </a:moveTo>
                  <a:cubicBezTo>
                    <a:pt x="30" y="42"/>
                    <a:pt x="19" y="55"/>
                    <a:pt x="74" y="73"/>
                  </a:cubicBezTo>
                  <a:cubicBezTo>
                    <a:pt x="118" y="70"/>
                    <a:pt x="163" y="74"/>
                    <a:pt x="206" y="65"/>
                  </a:cubicBezTo>
                  <a:cubicBezTo>
                    <a:pt x="215" y="63"/>
                    <a:pt x="222" y="41"/>
                    <a:pt x="222" y="4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45000" y="2562120"/>
              <a:ext cx="284400" cy="216720"/>
            </a:xfrm>
            <a:custGeom>
              <a:avLst/>
              <a:gdLst/>
              <a:ahLst/>
              <a:rect l="l" t="t" r="r" b="b"/>
              <a:pathLst>
                <a:path w="150" h="103">
                  <a:moveTo>
                    <a:pt x="0" y="38"/>
                  </a:moveTo>
                  <a:cubicBezTo>
                    <a:pt x="36" y="0"/>
                    <a:pt x="87" y="22"/>
                    <a:pt x="131" y="38"/>
                  </a:cubicBezTo>
                  <a:cubicBezTo>
                    <a:pt x="150" y="92"/>
                    <a:pt x="148" y="70"/>
                    <a:pt x="148" y="10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81840" y="2970720"/>
              <a:ext cx="267120" cy="271440"/>
            </a:xfrm>
            <a:custGeom>
              <a:avLst/>
              <a:gdLst/>
              <a:ahLst/>
              <a:rect l="l" t="t" r="r" b="b"/>
              <a:pathLst>
                <a:path w="141" h="129">
                  <a:moveTo>
                    <a:pt x="130" y="74"/>
                  </a:moveTo>
                  <a:cubicBezTo>
                    <a:pt x="121" y="28"/>
                    <a:pt x="119" y="24"/>
                    <a:pt x="81" y="0"/>
                  </a:cubicBezTo>
                  <a:cubicBezTo>
                    <a:pt x="36" y="22"/>
                    <a:pt x="0" y="27"/>
                    <a:pt x="56" y="115"/>
                  </a:cubicBezTo>
                  <a:cubicBezTo>
                    <a:pt x="65" y="129"/>
                    <a:pt x="89" y="110"/>
                    <a:pt x="106" y="107"/>
                  </a:cubicBezTo>
                  <a:cubicBezTo>
                    <a:pt x="112" y="101"/>
                    <a:pt x="141" y="79"/>
                    <a:pt x="114" y="66"/>
                  </a:cubicBezTo>
                  <a:cubicBezTo>
                    <a:pt x="106" y="62"/>
                    <a:pt x="97" y="71"/>
                    <a:pt x="89" y="74"/>
                  </a:cubicBezTo>
                  <a:cubicBezTo>
                    <a:pt x="92" y="85"/>
                    <a:pt x="88" y="101"/>
                    <a:pt x="98" y="107"/>
                  </a:cubicBezTo>
                  <a:cubicBezTo>
                    <a:pt x="128" y="124"/>
                    <a:pt x="134" y="86"/>
                    <a:pt x="139" y="74"/>
                  </a:cubicBezTo>
                  <a:cubicBezTo>
                    <a:pt x="138" y="73"/>
                    <a:pt x="106" y="36"/>
                    <a:pt x="98" y="49"/>
                  </a:cubicBezTo>
                  <a:cubicBezTo>
                    <a:pt x="92" y="59"/>
                    <a:pt x="103" y="71"/>
                    <a:pt x="106" y="82"/>
                  </a:cubicBezTo>
                  <a:cubicBezTo>
                    <a:pt x="77" y="109"/>
                    <a:pt x="82" y="102"/>
                    <a:pt x="130" y="74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9320" y="2486160"/>
              <a:ext cx="966240" cy="380880"/>
            </a:xfrm>
            <a:custGeom>
              <a:avLst/>
              <a:gdLst/>
              <a:ahLst/>
              <a:rect l="l" t="t" r="r" b="b"/>
              <a:pathLst>
                <a:path w="505" h="181">
                  <a:moveTo>
                    <a:pt x="107" y="0"/>
                  </a:moveTo>
                  <a:cubicBezTo>
                    <a:pt x="147" y="38"/>
                    <a:pt x="186" y="65"/>
                    <a:pt x="239" y="82"/>
                  </a:cubicBezTo>
                  <a:cubicBezTo>
                    <a:pt x="385" y="75"/>
                    <a:pt x="395" y="93"/>
                    <a:pt x="485" y="33"/>
                  </a:cubicBezTo>
                  <a:cubicBezTo>
                    <a:pt x="491" y="54"/>
                    <a:pt x="505" y="87"/>
                    <a:pt x="485" y="107"/>
                  </a:cubicBezTo>
                  <a:cubicBezTo>
                    <a:pt x="479" y="113"/>
                    <a:pt x="481" y="90"/>
                    <a:pt x="477" y="82"/>
                  </a:cubicBezTo>
                  <a:cubicBezTo>
                    <a:pt x="473" y="75"/>
                    <a:pt x="466" y="71"/>
                    <a:pt x="461" y="65"/>
                  </a:cubicBezTo>
                  <a:cubicBezTo>
                    <a:pt x="451" y="95"/>
                    <a:pt x="443" y="125"/>
                    <a:pt x="436" y="156"/>
                  </a:cubicBezTo>
                  <a:cubicBezTo>
                    <a:pt x="431" y="140"/>
                    <a:pt x="425" y="123"/>
                    <a:pt x="420" y="107"/>
                  </a:cubicBezTo>
                  <a:cubicBezTo>
                    <a:pt x="417" y="99"/>
                    <a:pt x="411" y="82"/>
                    <a:pt x="411" y="82"/>
                  </a:cubicBezTo>
                  <a:cubicBezTo>
                    <a:pt x="400" y="117"/>
                    <a:pt x="379" y="154"/>
                    <a:pt x="354" y="181"/>
                  </a:cubicBezTo>
                  <a:cubicBezTo>
                    <a:pt x="351" y="164"/>
                    <a:pt x="349" y="148"/>
                    <a:pt x="346" y="131"/>
                  </a:cubicBezTo>
                  <a:cubicBezTo>
                    <a:pt x="344" y="120"/>
                    <a:pt x="348" y="103"/>
                    <a:pt x="338" y="98"/>
                  </a:cubicBezTo>
                  <a:cubicBezTo>
                    <a:pt x="329" y="94"/>
                    <a:pt x="321" y="109"/>
                    <a:pt x="313" y="115"/>
                  </a:cubicBezTo>
                  <a:cubicBezTo>
                    <a:pt x="293" y="144"/>
                    <a:pt x="293" y="170"/>
                    <a:pt x="264" y="139"/>
                  </a:cubicBezTo>
                  <a:cubicBezTo>
                    <a:pt x="245" y="70"/>
                    <a:pt x="272" y="132"/>
                    <a:pt x="214" y="148"/>
                  </a:cubicBezTo>
                  <a:cubicBezTo>
                    <a:pt x="204" y="151"/>
                    <a:pt x="203" y="131"/>
                    <a:pt x="198" y="123"/>
                  </a:cubicBezTo>
                  <a:cubicBezTo>
                    <a:pt x="138" y="162"/>
                    <a:pt x="162" y="170"/>
                    <a:pt x="124" y="131"/>
                  </a:cubicBezTo>
                  <a:cubicBezTo>
                    <a:pt x="121" y="123"/>
                    <a:pt x="114" y="115"/>
                    <a:pt x="116" y="107"/>
                  </a:cubicBezTo>
                  <a:cubicBezTo>
                    <a:pt x="117" y="99"/>
                    <a:pt x="126" y="95"/>
                    <a:pt x="132" y="90"/>
                  </a:cubicBezTo>
                  <a:cubicBezTo>
                    <a:pt x="152" y="74"/>
                    <a:pt x="204" y="51"/>
                    <a:pt x="107" y="98"/>
                  </a:cubicBezTo>
                  <a:cubicBezTo>
                    <a:pt x="102" y="104"/>
                    <a:pt x="99" y="113"/>
                    <a:pt x="91" y="115"/>
                  </a:cubicBezTo>
                  <a:cubicBezTo>
                    <a:pt x="82" y="117"/>
                    <a:pt x="68" y="116"/>
                    <a:pt x="66" y="107"/>
                  </a:cubicBezTo>
                  <a:cubicBezTo>
                    <a:pt x="64" y="95"/>
                    <a:pt x="94" y="80"/>
                    <a:pt x="83" y="74"/>
                  </a:cubicBezTo>
                  <a:cubicBezTo>
                    <a:pt x="67" y="66"/>
                    <a:pt x="33" y="90"/>
                    <a:pt x="33" y="90"/>
                  </a:cubicBezTo>
                  <a:cubicBezTo>
                    <a:pt x="25" y="87"/>
                    <a:pt x="11" y="90"/>
                    <a:pt x="9" y="82"/>
                  </a:cubicBezTo>
                  <a:cubicBezTo>
                    <a:pt x="0" y="36"/>
                    <a:pt x="79" y="36"/>
                    <a:pt x="99" y="33"/>
                  </a:cubicBezTo>
                  <a:cubicBezTo>
                    <a:pt x="118" y="5"/>
                    <a:pt x="124" y="15"/>
                    <a:pt x="107" y="0"/>
                  </a:cubicBezTo>
                  <a:close/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29840" y="4028040"/>
              <a:ext cx="967680" cy="707040"/>
            </a:xfrm>
            <a:custGeom>
              <a:avLst/>
              <a:gdLst/>
              <a:ahLst/>
              <a:rect l="l" t="t" r="r" b="b"/>
              <a:pathLst>
                <a:path w="511" h="294">
                  <a:moveTo>
                    <a:pt x="0" y="72"/>
                  </a:moveTo>
                  <a:cubicBezTo>
                    <a:pt x="2" y="78"/>
                    <a:pt x="26" y="138"/>
                    <a:pt x="33" y="146"/>
                  </a:cubicBezTo>
                  <a:cubicBezTo>
                    <a:pt x="43" y="159"/>
                    <a:pt x="79" y="172"/>
                    <a:pt x="91" y="179"/>
                  </a:cubicBezTo>
                  <a:cubicBezTo>
                    <a:pt x="136" y="204"/>
                    <a:pt x="197" y="261"/>
                    <a:pt x="239" y="278"/>
                  </a:cubicBezTo>
                  <a:cubicBezTo>
                    <a:pt x="260" y="287"/>
                    <a:pt x="283" y="289"/>
                    <a:pt x="305" y="294"/>
                  </a:cubicBezTo>
                  <a:cubicBezTo>
                    <a:pt x="362" y="291"/>
                    <a:pt x="420" y="291"/>
                    <a:pt x="477" y="286"/>
                  </a:cubicBezTo>
                  <a:cubicBezTo>
                    <a:pt x="508" y="283"/>
                    <a:pt x="511" y="275"/>
                    <a:pt x="485" y="253"/>
                  </a:cubicBezTo>
                  <a:cubicBezTo>
                    <a:pt x="455" y="227"/>
                    <a:pt x="422" y="215"/>
                    <a:pt x="395" y="187"/>
                  </a:cubicBezTo>
                  <a:cubicBezTo>
                    <a:pt x="446" y="181"/>
                    <a:pt x="475" y="183"/>
                    <a:pt x="510" y="146"/>
                  </a:cubicBezTo>
                  <a:cubicBezTo>
                    <a:pt x="485" y="143"/>
                    <a:pt x="457" y="151"/>
                    <a:pt x="436" y="138"/>
                  </a:cubicBezTo>
                  <a:cubicBezTo>
                    <a:pt x="412" y="123"/>
                    <a:pt x="479" y="79"/>
                    <a:pt x="485" y="72"/>
                  </a:cubicBezTo>
                  <a:cubicBezTo>
                    <a:pt x="430" y="62"/>
                    <a:pt x="394" y="57"/>
                    <a:pt x="346" y="39"/>
                  </a:cubicBezTo>
                  <a:cubicBezTo>
                    <a:pt x="304" y="0"/>
                    <a:pt x="321" y="60"/>
                    <a:pt x="296" y="72"/>
                  </a:cubicBezTo>
                  <a:cubicBezTo>
                    <a:pt x="279" y="80"/>
                    <a:pt x="258" y="78"/>
                    <a:pt x="239" y="80"/>
                  </a:cubicBezTo>
                  <a:cubicBezTo>
                    <a:pt x="96" y="94"/>
                    <a:pt x="147" y="92"/>
                    <a:pt x="0" y="72"/>
                  </a:cubicBez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8080" y="3680280"/>
              <a:ext cx="814320" cy="1459440"/>
            </a:xfrm>
            <a:custGeom>
              <a:avLst/>
              <a:gdLst/>
              <a:ahLst/>
              <a:rect l="l" t="t" r="r" b="b"/>
              <a:pathLst>
                <a:path w="430" h="693">
                  <a:moveTo>
                    <a:pt x="49" y="0"/>
                  </a:moveTo>
                  <a:cubicBezTo>
                    <a:pt x="43" y="154"/>
                    <a:pt x="29" y="294"/>
                    <a:pt x="0" y="444"/>
                  </a:cubicBezTo>
                  <a:cubicBezTo>
                    <a:pt x="6" y="520"/>
                    <a:pt x="3" y="608"/>
                    <a:pt x="90" y="641"/>
                  </a:cubicBezTo>
                  <a:cubicBezTo>
                    <a:pt x="123" y="653"/>
                    <a:pt x="156" y="661"/>
                    <a:pt x="189" y="674"/>
                  </a:cubicBezTo>
                  <a:cubicBezTo>
                    <a:pt x="205" y="680"/>
                    <a:pt x="238" y="690"/>
                    <a:pt x="238" y="690"/>
                  </a:cubicBezTo>
                  <a:cubicBezTo>
                    <a:pt x="285" y="685"/>
                    <a:pt x="335" y="693"/>
                    <a:pt x="378" y="674"/>
                  </a:cubicBezTo>
                  <a:cubicBezTo>
                    <a:pt x="430" y="652"/>
                    <a:pt x="329" y="608"/>
                    <a:pt x="328" y="608"/>
                  </a:cubicBezTo>
                  <a:cubicBezTo>
                    <a:pt x="291" y="582"/>
                    <a:pt x="255" y="556"/>
                    <a:pt x="230" y="517"/>
                  </a:cubicBezTo>
                  <a:cubicBezTo>
                    <a:pt x="212" y="426"/>
                    <a:pt x="238" y="336"/>
                    <a:pt x="238" y="246"/>
                  </a:cubicBezTo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89800" y="4230000"/>
              <a:ext cx="962280" cy="911520"/>
            </a:xfrm>
            <a:custGeom>
              <a:avLst/>
              <a:gdLst/>
              <a:ahLst/>
              <a:rect l="l" t="t" r="r" b="b"/>
              <a:pathLst>
                <a:path w="508" h="433">
                  <a:moveTo>
                    <a:pt x="220" y="164"/>
                  </a:moveTo>
                  <a:cubicBezTo>
                    <a:pt x="227" y="203"/>
                    <a:pt x="225" y="246"/>
                    <a:pt x="245" y="279"/>
                  </a:cubicBezTo>
                  <a:cubicBezTo>
                    <a:pt x="260" y="303"/>
                    <a:pt x="285" y="304"/>
                    <a:pt x="311" y="312"/>
                  </a:cubicBezTo>
                  <a:cubicBezTo>
                    <a:pt x="373" y="332"/>
                    <a:pt x="443" y="337"/>
                    <a:pt x="508" y="345"/>
                  </a:cubicBezTo>
                  <a:cubicBezTo>
                    <a:pt x="469" y="358"/>
                    <a:pt x="430" y="368"/>
                    <a:pt x="393" y="386"/>
                  </a:cubicBezTo>
                  <a:cubicBezTo>
                    <a:pt x="401" y="389"/>
                    <a:pt x="415" y="386"/>
                    <a:pt x="418" y="394"/>
                  </a:cubicBezTo>
                  <a:cubicBezTo>
                    <a:pt x="424" y="412"/>
                    <a:pt x="350" y="426"/>
                    <a:pt x="344" y="427"/>
                  </a:cubicBezTo>
                  <a:cubicBezTo>
                    <a:pt x="228" y="422"/>
                    <a:pt x="172" y="433"/>
                    <a:pt x="81" y="403"/>
                  </a:cubicBezTo>
                  <a:cubicBezTo>
                    <a:pt x="61" y="365"/>
                    <a:pt x="51" y="325"/>
                    <a:pt x="31" y="287"/>
                  </a:cubicBezTo>
                  <a:cubicBezTo>
                    <a:pt x="0" y="163"/>
                    <a:pt x="7" y="162"/>
                    <a:pt x="7" y="0"/>
                  </a:cubicBezTo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08520" y="3635640"/>
              <a:ext cx="560880" cy="406800"/>
            </a:xfrm>
            <a:custGeom>
              <a:avLst/>
              <a:gdLst/>
              <a:ahLst/>
              <a:rect l="l" t="t" r="r" b="b"/>
              <a:pathLst>
                <a:path w="296" h="193">
                  <a:moveTo>
                    <a:pt x="50" y="29"/>
                  </a:moveTo>
                  <a:cubicBezTo>
                    <a:pt x="112" y="14"/>
                    <a:pt x="176" y="15"/>
                    <a:pt x="239" y="4"/>
                  </a:cubicBezTo>
                  <a:cubicBezTo>
                    <a:pt x="247" y="7"/>
                    <a:pt x="269" y="7"/>
                    <a:pt x="263" y="13"/>
                  </a:cubicBezTo>
                  <a:cubicBezTo>
                    <a:pt x="251" y="25"/>
                    <a:pt x="214" y="29"/>
                    <a:pt x="214" y="29"/>
                  </a:cubicBezTo>
                  <a:cubicBezTo>
                    <a:pt x="193" y="114"/>
                    <a:pt x="210" y="0"/>
                    <a:pt x="280" y="70"/>
                  </a:cubicBezTo>
                  <a:cubicBezTo>
                    <a:pt x="292" y="82"/>
                    <a:pt x="247" y="81"/>
                    <a:pt x="230" y="86"/>
                  </a:cubicBezTo>
                  <a:cubicBezTo>
                    <a:pt x="222" y="89"/>
                    <a:pt x="214" y="92"/>
                    <a:pt x="206" y="95"/>
                  </a:cubicBezTo>
                  <a:cubicBezTo>
                    <a:pt x="211" y="103"/>
                    <a:pt x="213" y="115"/>
                    <a:pt x="222" y="119"/>
                  </a:cubicBezTo>
                  <a:cubicBezTo>
                    <a:pt x="296" y="152"/>
                    <a:pt x="271" y="100"/>
                    <a:pt x="288" y="152"/>
                  </a:cubicBezTo>
                  <a:cubicBezTo>
                    <a:pt x="268" y="173"/>
                    <a:pt x="277" y="169"/>
                    <a:pt x="247" y="177"/>
                  </a:cubicBezTo>
                  <a:cubicBezTo>
                    <a:pt x="225" y="183"/>
                    <a:pt x="181" y="193"/>
                    <a:pt x="181" y="193"/>
                  </a:cubicBezTo>
                  <a:cubicBezTo>
                    <a:pt x="156" y="190"/>
                    <a:pt x="131" y="191"/>
                    <a:pt x="107" y="185"/>
                  </a:cubicBezTo>
                  <a:cubicBezTo>
                    <a:pt x="98" y="183"/>
                    <a:pt x="92" y="173"/>
                    <a:pt x="83" y="169"/>
                  </a:cubicBezTo>
                  <a:cubicBezTo>
                    <a:pt x="56" y="155"/>
                    <a:pt x="30" y="152"/>
                    <a:pt x="0" y="152"/>
                  </a:cubicBezTo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04920" y="3418920"/>
              <a:ext cx="1633320" cy="954000"/>
            </a:xfrm>
            <a:custGeom>
              <a:avLst/>
              <a:gdLst/>
              <a:ahLst/>
              <a:rect l="l" t="t" r="r" b="b"/>
              <a:pathLst>
                <a:path w="862" h="453">
                  <a:moveTo>
                    <a:pt x="188" y="9"/>
                  </a:moveTo>
                  <a:cubicBezTo>
                    <a:pt x="175" y="36"/>
                    <a:pt x="168" y="65"/>
                    <a:pt x="155" y="91"/>
                  </a:cubicBezTo>
                  <a:cubicBezTo>
                    <a:pt x="141" y="119"/>
                    <a:pt x="118" y="141"/>
                    <a:pt x="98" y="165"/>
                  </a:cubicBezTo>
                  <a:cubicBezTo>
                    <a:pt x="89" y="176"/>
                    <a:pt x="81" y="187"/>
                    <a:pt x="73" y="198"/>
                  </a:cubicBezTo>
                  <a:cubicBezTo>
                    <a:pt x="62" y="214"/>
                    <a:pt x="40" y="247"/>
                    <a:pt x="40" y="247"/>
                  </a:cubicBezTo>
                  <a:cubicBezTo>
                    <a:pt x="0" y="372"/>
                    <a:pt x="109" y="318"/>
                    <a:pt x="221" y="313"/>
                  </a:cubicBezTo>
                  <a:cubicBezTo>
                    <a:pt x="246" y="316"/>
                    <a:pt x="271" y="314"/>
                    <a:pt x="295" y="321"/>
                  </a:cubicBezTo>
                  <a:cubicBezTo>
                    <a:pt x="308" y="325"/>
                    <a:pt x="316" y="339"/>
                    <a:pt x="328" y="346"/>
                  </a:cubicBezTo>
                  <a:cubicBezTo>
                    <a:pt x="376" y="372"/>
                    <a:pt x="431" y="406"/>
                    <a:pt x="484" y="420"/>
                  </a:cubicBezTo>
                  <a:cubicBezTo>
                    <a:pt x="577" y="414"/>
                    <a:pt x="645" y="403"/>
                    <a:pt x="730" y="436"/>
                  </a:cubicBezTo>
                  <a:cubicBezTo>
                    <a:pt x="839" y="427"/>
                    <a:pt x="848" y="453"/>
                    <a:pt x="862" y="354"/>
                  </a:cubicBezTo>
                  <a:cubicBezTo>
                    <a:pt x="800" y="288"/>
                    <a:pt x="860" y="344"/>
                    <a:pt x="648" y="329"/>
                  </a:cubicBezTo>
                  <a:cubicBezTo>
                    <a:pt x="572" y="324"/>
                    <a:pt x="497" y="278"/>
                    <a:pt x="426" y="255"/>
                  </a:cubicBezTo>
                  <a:cubicBezTo>
                    <a:pt x="401" y="230"/>
                    <a:pt x="380" y="225"/>
                    <a:pt x="352" y="206"/>
                  </a:cubicBezTo>
                  <a:cubicBezTo>
                    <a:pt x="327" y="189"/>
                    <a:pt x="308" y="170"/>
                    <a:pt x="287" y="148"/>
                  </a:cubicBezTo>
                  <a:cubicBezTo>
                    <a:pt x="276" y="118"/>
                    <a:pt x="260" y="98"/>
                    <a:pt x="254" y="66"/>
                  </a:cubicBezTo>
                  <a:cubicBezTo>
                    <a:pt x="251" y="50"/>
                    <a:pt x="254" y="31"/>
                    <a:pt x="246" y="17"/>
                  </a:cubicBezTo>
                  <a:cubicBezTo>
                    <a:pt x="237" y="2"/>
                    <a:pt x="213" y="6"/>
                    <a:pt x="196" y="0"/>
                  </a:cubicBezTo>
                  <a:cubicBezTo>
                    <a:pt x="185" y="3"/>
                    <a:pt x="170" y="0"/>
                    <a:pt x="163" y="9"/>
                  </a:cubicBezTo>
                  <a:cubicBezTo>
                    <a:pt x="158" y="16"/>
                    <a:pt x="169" y="25"/>
                    <a:pt x="172" y="33"/>
                  </a:cubicBezTo>
                  <a:cubicBezTo>
                    <a:pt x="175" y="41"/>
                    <a:pt x="180" y="58"/>
                    <a:pt x="180" y="58"/>
                  </a:cubicBezTo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52280" y="152280"/>
            <a:ext cx="8839440" cy="1911600"/>
            <a:chOff x="152280" y="152280"/>
            <a:chExt cx="8839440" cy="1911600"/>
          </a:xfrm>
        </p:grpSpPr>
        <p:sp>
          <p:nvSpPr>
            <p:cNvPr id="144" name=""/>
            <p:cNvSpPr/>
            <p:nvPr/>
          </p:nvSpPr>
          <p:spPr>
            <a:xfrm>
              <a:off x="152280" y="152280"/>
              <a:ext cx="8839440" cy="9144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380880" y="228600"/>
              <a:ext cx="58676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8440">
                    <a:solidFill>
                      <a:srgbClr val="ff3300"/>
                    </a:solidFill>
                    <a:miter/>
                  </a:ln>
                  <a:solidFill>
                    <a:srgbClr val="ffffff"/>
                  </a:solidFill>
                  <a:latin typeface="Broadway BT"/>
                </a:rPr>
                <a:t>FRA MARTINO</a:t>
              </a:r>
              <a:endParaRPr b="0" lang="en-US" sz="2400" spc="1" strike="noStrike">
                <a:ln w="28440">
                  <a:solidFill>
                    <a:srgbClr val="ff3300"/>
                  </a:solidFill>
                  <a:miter/>
                </a:ln>
                <a:solidFill>
                  <a:srgbClr val="ffffff"/>
                </a:solidFill>
                <a:latin typeface="Broadway BT"/>
                <a:ea typeface="Broadway BT"/>
              </a:endParaRPr>
            </a:p>
          </p:txBody>
        </p:sp>
        <p:graphicFrame>
          <p:nvGraphicFramePr>
            <p:cNvPr id="146" name=""/>
            <p:cNvGraphicFramePr/>
            <p:nvPr/>
          </p:nvGraphicFramePr>
          <p:xfrm>
            <a:off x="6781680" y="457200"/>
            <a:ext cx="1605240" cy="160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81680" y="457200"/>
                      <a:ext cx="1605240" cy="160668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</p:spTree>
  </p:cSld>
  <p:transition advTm="3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25440" y="2789280"/>
            <a:ext cx="4722840" cy="2676600"/>
          </a:xfrm>
          <a:custGeom>
            <a:avLst/>
            <a:gdLst/>
            <a:ahLst/>
            <a:rect l="l" t="t" r="r" b="b"/>
            <a:pathLst>
              <a:path w="2975" h="1686">
                <a:moveTo>
                  <a:pt x="1200" y="43"/>
                </a:moveTo>
                <a:cubicBezTo>
                  <a:pt x="1140" y="11"/>
                  <a:pt x="1070" y="10"/>
                  <a:pt x="1003" y="2"/>
                </a:cubicBezTo>
                <a:cubicBezTo>
                  <a:pt x="877" y="7"/>
                  <a:pt x="750" y="0"/>
                  <a:pt x="625" y="18"/>
                </a:cubicBezTo>
                <a:cubicBezTo>
                  <a:pt x="593" y="22"/>
                  <a:pt x="543" y="67"/>
                  <a:pt x="543" y="67"/>
                </a:cubicBezTo>
                <a:cubicBezTo>
                  <a:pt x="556" y="119"/>
                  <a:pt x="570" y="110"/>
                  <a:pt x="617" y="125"/>
                </a:cubicBezTo>
                <a:cubicBezTo>
                  <a:pt x="647" y="162"/>
                  <a:pt x="660" y="188"/>
                  <a:pt x="674" y="232"/>
                </a:cubicBezTo>
                <a:cubicBezTo>
                  <a:pt x="669" y="246"/>
                  <a:pt x="671" y="265"/>
                  <a:pt x="658" y="273"/>
                </a:cubicBezTo>
                <a:cubicBezTo>
                  <a:pt x="639" y="284"/>
                  <a:pt x="614" y="277"/>
                  <a:pt x="592" y="281"/>
                </a:cubicBezTo>
                <a:cubicBezTo>
                  <a:pt x="509" y="297"/>
                  <a:pt x="430" y="326"/>
                  <a:pt x="354" y="363"/>
                </a:cubicBezTo>
                <a:cubicBezTo>
                  <a:pt x="365" y="377"/>
                  <a:pt x="372" y="395"/>
                  <a:pt x="387" y="404"/>
                </a:cubicBezTo>
                <a:cubicBezTo>
                  <a:pt x="417" y="423"/>
                  <a:pt x="457" y="424"/>
                  <a:pt x="485" y="445"/>
                </a:cubicBezTo>
                <a:cubicBezTo>
                  <a:pt x="496" y="453"/>
                  <a:pt x="507" y="462"/>
                  <a:pt x="518" y="470"/>
                </a:cubicBezTo>
                <a:cubicBezTo>
                  <a:pt x="510" y="500"/>
                  <a:pt x="513" y="536"/>
                  <a:pt x="494" y="561"/>
                </a:cubicBezTo>
                <a:cubicBezTo>
                  <a:pt x="483" y="576"/>
                  <a:pt x="369" y="584"/>
                  <a:pt x="362" y="585"/>
                </a:cubicBezTo>
                <a:cubicBezTo>
                  <a:pt x="243" y="615"/>
                  <a:pt x="90" y="635"/>
                  <a:pt x="0" y="725"/>
                </a:cubicBezTo>
                <a:cubicBezTo>
                  <a:pt x="129" y="810"/>
                  <a:pt x="345" y="793"/>
                  <a:pt x="494" y="807"/>
                </a:cubicBezTo>
                <a:cubicBezTo>
                  <a:pt x="596" y="833"/>
                  <a:pt x="713" y="838"/>
                  <a:pt x="765" y="939"/>
                </a:cubicBezTo>
                <a:cubicBezTo>
                  <a:pt x="754" y="974"/>
                  <a:pt x="751" y="1013"/>
                  <a:pt x="732" y="1045"/>
                </a:cubicBezTo>
                <a:cubicBezTo>
                  <a:pt x="694" y="1111"/>
                  <a:pt x="571" y="1159"/>
                  <a:pt x="510" y="1234"/>
                </a:cubicBezTo>
                <a:cubicBezTo>
                  <a:pt x="459" y="1395"/>
                  <a:pt x="814" y="1344"/>
                  <a:pt x="888" y="1349"/>
                </a:cubicBezTo>
                <a:cubicBezTo>
                  <a:pt x="1085" y="1362"/>
                  <a:pt x="1283" y="1377"/>
                  <a:pt x="1480" y="1391"/>
                </a:cubicBezTo>
                <a:cubicBezTo>
                  <a:pt x="1566" y="1453"/>
                  <a:pt x="1623" y="1552"/>
                  <a:pt x="1718" y="1604"/>
                </a:cubicBezTo>
                <a:cubicBezTo>
                  <a:pt x="1854" y="1678"/>
                  <a:pt x="2004" y="1678"/>
                  <a:pt x="2154" y="1686"/>
                </a:cubicBezTo>
                <a:cubicBezTo>
                  <a:pt x="2329" y="1676"/>
                  <a:pt x="2390" y="1665"/>
                  <a:pt x="2499" y="1530"/>
                </a:cubicBezTo>
                <a:cubicBezTo>
                  <a:pt x="2496" y="1522"/>
                  <a:pt x="2499" y="1510"/>
                  <a:pt x="2491" y="1506"/>
                </a:cubicBezTo>
                <a:cubicBezTo>
                  <a:pt x="2434" y="1478"/>
                  <a:pt x="2365" y="1493"/>
                  <a:pt x="2302" y="1489"/>
                </a:cubicBezTo>
                <a:cubicBezTo>
                  <a:pt x="2134" y="1425"/>
                  <a:pt x="1971" y="1362"/>
                  <a:pt x="1817" y="1267"/>
                </a:cubicBezTo>
                <a:cubicBezTo>
                  <a:pt x="1781" y="1208"/>
                  <a:pt x="1775" y="1188"/>
                  <a:pt x="1833" y="1144"/>
                </a:cubicBezTo>
                <a:cubicBezTo>
                  <a:pt x="1979" y="1150"/>
                  <a:pt x="2108" y="1176"/>
                  <a:pt x="2252" y="1185"/>
                </a:cubicBezTo>
                <a:cubicBezTo>
                  <a:pt x="2477" y="1230"/>
                  <a:pt x="2489" y="1224"/>
                  <a:pt x="2754" y="1193"/>
                </a:cubicBezTo>
                <a:cubicBezTo>
                  <a:pt x="2835" y="1163"/>
                  <a:pt x="2890" y="1139"/>
                  <a:pt x="2951" y="1078"/>
                </a:cubicBezTo>
                <a:cubicBezTo>
                  <a:pt x="2956" y="1067"/>
                  <a:pt x="2975" y="1054"/>
                  <a:pt x="2967" y="1045"/>
                </a:cubicBezTo>
                <a:cubicBezTo>
                  <a:pt x="2949" y="1025"/>
                  <a:pt x="2919" y="1020"/>
                  <a:pt x="2893" y="1013"/>
                </a:cubicBezTo>
                <a:cubicBezTo>
                  <a:pt x="2818" y="992"/>
                  <a:pt x="2739" y="982"/>
                  <a:pt x="2663" y="963"/>
                </a:cubicBezTo>
                <a:cubicBezTo>
                  <a:pt x="2567" y="909"/>
                  <a:pt x="2455" y="862"/>
                  <a:pt x="2384" y="774"/>
                </a:cubicBezTo>
                <a:cubicBezTo>
                  <a:pt x="2398" y="752"/>
                  <a:pt x="2401" y="718"/>
                  <a:pt x="2425" y="708"/>
                </a:cubicBezTo>
                <a:cubicBezTo>
                  <a:pt x="2489" y="682"/>
                  <a:pt x="2564" y="705"/>
                  <a:pt x="2630" y="684"/>
                </a:cubicBezTo>
                <a:cubicBezTo>
                  <a:pt x="2719" y="656"/>
                  <a:pt x="2804" y="599"/>
                  <a:pt x="2885" y="552"/>
                </a:cubicBezTo>
                <a:cubicBezTo>
                  <a:pt x="2920" y="508"/>
                  <a:pt x="2934" y="474"/>
                  <a:pt x="2951" y="421"/>
                </a:cubicBezTo>
                <a:cubicBezTo>
                  <a:pt x="2946" y="377"/>
                  <a:pt x="2948" y="331"/>
                  <a:pt x="2935" y="289"/>
                </a:cubicBezTo>
                <a:cubicBezTo>
                  <a:pt x="2931" y="276"/>
                  <a:pt x="2913" y="273"/>
                  <a:pt x="2902" y="265"/>
                </a:cubicBezTo>
                <a:cubicBezTo>
                  <a:pt x="2857" y="235"/>
                  <a:pt x="2822" y="232"/>
                  <a:pt x="2770" y="224"/>
                </a:cubicBezTo>
                <a:cubicBezTo>
                  <a:pt x="2647" y="231"/>
                  <a:pt x="2657" y="222"/>
                  <a:pt x="2565" y="248"/>
                </a:cubicBezTo>
                <a:cubicBezTo>
                  <a:pt x="2529" y="258"/>
                  <a:pt x="2495" y="276"/>
                  <a:pt x="2458" y="281"/>
                </a:cubicBezTo>
                <a:cubicBezTo>
                  <a:pt x="2396" y="290"/>
                  <a:pt x="2332" y="286"/>
                  <a:pt x="2269" y="289"/>
                </a:cubicBezTo>
                <a:cubicBezTo>
                  <a:pt x="2250" y="286"/>
                  <a:pt x="2221" y="298"/>
                  <a:pt x="2211" y="281"/>
                </a:cubicBezTo>
                <a:cubicBezTo>
                  <a:pt x="2198" y="260"/>
                  <a:pt x="2217" y="232"/>
                  <a:pt x="2220" y="207"/>
                </a:cubicBezTo>
                <a:cubicBezTo>
                  <a:pt x="2227" y="159"/>
                  <a:pt x="2237" y="113"/>
                  <a:pt x="2252" y="67"/>
                </a:cubicBezTo>
                <a:cubicBezTo>
                  <a:pt x="2185" y="54"/>
                  <a:pt x="2127" y="68"/>
                  <a:pt x="2063" y="84"/>
                </a:cubicBezTo>
                <a:cubicBezTo>
                  <a:pt x="2020" y="113"/>
                  <a:pt x="1972" y="101"/>
                  <a:pt x="1924" y="117"/>
                </a:cubicBezTo>
                <a:cubicBezTo>
                  <a:pt x="1880" y="158"/>
                  <a:pt x="1816" y="167"/>
                  <a:pt x="1759" y="174"/>
                </a:cubicBezTo>
                <a:cubicBezTo>
                  <a:pt x="1588" y="165"/>
                  <a:pt x="1634" y="161"/>
                  <a:pt x="1505" y="125"/>
                </a:cubicBezTo>
                <a:cubicBezTo>
                  <a:pt x="1480" y="111"/>
                  <a:pt x="1429" y="70"/>
                  <a:pt x="1398" y="59"/>
                </a:cubicBezTo>
                <a:cubicBezTo>
                  <a:pt x="1334" y="35"/>
                  <a:pt x="1267" y="34"/>
                  <a:pt x="1200" y="43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2590920"/>
            <a:ext cx="38862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dy"/>
              </a:rPr>
              <a:t>DORMI T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dy"/>
              </a:rPr>
              <a:t>DORMI T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914400" y="2590920"/>
            <a:ext cx="2795760" cy="2057400"/>
            <a:chOff x="914400" y="2590920"/>
            <a:chExt cx="2795760" cy="2057400"/>
          </a:xfrm>
        </p:grpSpPr>
        <p:sp>
          <p:nvSpPr>
            <p:cNvPr id="151" name=""/>
            <p:cNvSpPr/>
            <p:nvPr/>
          </p:nvSpPr>
          <p:spPr>
            <a:xfrm>
              <a:off x="1309680" y="3389400"/>
              <a:ext cx="2035080" cy="1014480"/>
            </a:xfrm>
            <a:custGeom>
              <a:avLst/>
              <a:gdLst/>
              <a:ahLst/>
              <a:rect l="l" t="t" r="r" b="b"/>
              <a:pathLst>
                <a:path w="1282" h="639">
                  <a:moveTo>
                    <a:pt x="349" y="0"/>
                  </a:moveTo>
                  <a:cubicBezTo>
                    <a:pt x="335" y="3"/>
                    <a:pt x="320" y="1"/>
                    <a:pt x="308" y="8"/>
                  </a:cubicBezTo>
                  <a:cubicBezTo>
                    <a:pt x="299" y="13"/>
                    <a:pt x="299" y="26"/>
                    <a:pt x="292" y="33"/>
                  </a:cubicBezTo>
                  <a:cubicBezTo>
                    <a:pt x="272" y="54"/>
                    <a:pt x="249" y="73"/>
                    <a:pt x="226" y="91"/>
                  </a:cubicBezTo>
                  <a:cubicBezTo>
                    <a:pt x="201" y="110"/>
                    <a:pt x="163" y="124"/>
                    <a:pt x="136" y="140"/>
                  </a:cubicBezTo>
                  <a:cubicBezTo>
                    <a:pt x="99" y="161"/>
                    <a:pt x="64" y="189"/>
                    <a:pt x="29" y="214"/>
                  </a:cubicBezTo>
                  <a:cubicBezTo>
                    <a:pt x="0" y="335"/>
                    <a:pt x="203" y="316"/>
                    <a:pt x="267" y="321"/>
                  </a:cubicBezTo>
                  <a:cubicBezTo>
                    <a:pt x="330" y="341"/>
                    <a:pt x="389" y="375"/>
                    <a:pt x="448" y="403"/>
                  </a:cubicBezTo>
                  <a:cubicBezTo>
                    <a:pt x="500" y="428"/>
                    <a:pt x="443" y="411"/>
                    <a:pt x="505" y="436"/>
                  </a:cubicBezTo>
                  <a:cubicBezTo>
                    <a:pt x="559" y="458"/>
                    <a:pt x="542" y="446"/>
                    <a:pt x="588" y="460"/>
                  </a:cubicBezTo>
                  <a:cubicBezTo>
                    <a:pt x="615" y="468"/>
                    <a:pt x="635" y="484"/>
                    <a:pt x="662" y="493"/>
                  </a:cubicBezTo>
                  <a:cubicBezTo>
                    <a:pt x="706" y="538"/>
                    <a:pt x="782" y="548"/>
                    <a:pt x="842" y="567"/>
                  </a:cubicBezTo>
                  <a:cubicBezTo>
                    <a:pt x="892" y="583"/>
                    <a:pt x="933" y="617"/>
                    <a:pt x="982" y="633"/>
                  </a:cubicBezTo>
                  <a:cubicBezTo>
                    <a:pt x="1059" y="630"/>
                    <a:pt x="1137" y="639"/>
                    <a:pt x="1212" y="625"/>
                  </a:cubicBezTo>
                  <a:cubicBezTo>
                    <a:pt x="1231" y="622"/>
                    <a:pt x="1253" y="584"/>
                    <a:pt x="1253" y="584"/>
                  </a:cubicBezTo>
                  <a:cubicBezTo>
                    <a:pt x="1282" y="505"/>
                    <a:pt x="1226" y="503"/>
                    <a:pt x="1171" y="477"/>
                  </a:cubicBezTo>
                  <a:cubicBezTo>
                    <a:pt x="1153" y="458"/>
                    <a:pt x="1154" y="439"/>
                    <a:pt x="1130" y="428"/>
                  </a:cubicBezTo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52560" y="2594160"/>
              <a:ext cx="1719360" cy="1695600"/>
            </a:xfrm>
            <a:custGeom>
              <a:avLst/>
              <a:gdLst/>
              <a:ahLst/>
              <a:rect l="l" t="t" r="r" b="b"/>
              <a:pathLst>
                <a:path w="1083" h="1068">
                  <a:moveTo>
                    <a:pt x="328" y="99"/>
                  </a:moveTo>
                  <a:cubicBezTo>
                    <a:pt x="341" y="57"/>
                    <a:pt x="378" y="46"/>
                    <a:pt x="418" y="33"/>
                  </a:cubicBezTo>
                  <a:cubicBezTo>
                    <a:pt x="449" y="12"/>
                    <a:pt x="525" y="0"/>
                    <a:pt x="525" y="0"/>
                  </a:cubicBezTo>
                  <a:cubicBezTo>
                    <a:pt x="569" y="3"/>
                    <a:pt x="613" y="2"/>
                    <a:pt x="657" y="8"/>
                  </a:cubicBezTo>
                  <a:cubicBezTo>
                    <a:pt x="696" y="14"/>
                    <a:pt x="692" y="27"/>
                    <a:pt x="722" y="41"/>
                  </a:cubicBezTo>
                  <a:cubicBezTo>
                    <a:pt x="754" y="56"/>
                    <a:pt x="789" y="66"/>
                    <a:pt x="821" y="82"/>
                  </a:cubicBezTo>
                  <a:cubicBezTo>
                    <a:pt x="858" y="121"/>
                    <a:pt x="812" y="76"/>
                    <a:pt x="887" y="131"/>
                  </a:cubicBezTo>
                  <a:cubicBezTo>
                    <a:pt x="910" y="148"/>
                    <a:pt x="920" y="172"/>
                    <a:pt x="944" y="189"/>
                  </a:cubicBezTo>
                  <a:cubicBezTo>
                    <a:pt x="985" y="271"/>
                    <a:pt x="958" y="235"/>
                    <a:pt x="994" y="271"/>
                  </a:cubicBezTo>
                  <a:cubicBezTo>
                    <a:pt x="1008" y="285"/>
                    <a:pt x="1035" y="312"/>
                    <a:pt x="1035" y="312"/>
                  </a:cubicBezTo>
                  <a:cubicBezTo>
                    <a:pt x="1047" y="350"/>
                    <a:pt x="1054" y="389"/>
                    <a:pt x="1068" y="427"/>
                  </a:cubicBezTo>
                  <a:cubicBezTo>
                    <a:pt x="1075" y="485"/>
                    <a:pt x="1083" y="514"/>
                    <a:pt x="1068" y="575"/>
                  </a:cubicBezTo>
                  <a:cubicBezTo>
                    <a:pt x="1064" y="589"/>
                    <a:pt x="1021" y="624"/>
                    <a:pt x="1010" y="633"/>
                  </a:cubicBezTo>
                  <a:cubicBezTo>
                    <a:pt x="955" y="678"/>
                    <a:pt x="903" y="729"/>
                    <a:pt x="854" y="781"/>
                  </a:cubicBezTo>
                  <a:cubicBezTo>
                    <a:pt x="829" y="882"/>
                    <a:pt x="767" y="954"/>
                    <a:pt x="689" y="1019"/>
                  </a:cubicBezTo>
                  <a:cubicBezTo>
                    <a:pt x="657" y="1046"/>
                    <a:pt x="649" y="1058"/>
                    <a:pt x="607" y="1068"/>
                  </a:cubicBezTo>
                  <a:cubicBezTo>
                    <a:pt x="508" y="1062"/>
                    <a:pt x="486" y="1062"/>
                    <a:pt x="410" y="1044"/>
                  </a:cubicBezTo>
                  <a:cubicBezTo>
                    <a:pt x="378" y="1022"/>
                    <a:pt x="345" y="1004"/>
                    <a:pt x="311" y="986"/>
                  </a:cubicBezTo>
                  <a:cubicBezTo>
                    <a:pt x="278" y="952"/>
                    <a:pt x="237" y="911"/>
                    <a:pt x="196" y="887"/>
                  </a:cubicBezTo>
                  <a:cubicBezTo>
                    <a:pt x="151" y="860"/>
                    <a:pt x="142" y="870"/>
                    <a:pt x="106" y="830"/>
                  </a:cubicBezTo>
                  <a:cubicBezTo>
                    <a:pt x="56" y="775"/>
                    <a:pt x="53" y="747"/>
                    <a:pt x="32" y="682"/>
                  </a:cubicBezTo>
                  <a:cubicBezTo>
                    <a:pt x="36" y="535"/>
                    <a:pt x="0" y="479"/>
                    <a:pt x="57" y="386"/>
                  </a:cubicBezTo>
                  <a:cubicBezTo>
                    <a:pt x="80" y="348"/>
                    <a:pt x="112" y="298"/>
                    <a:pt x="155" y="279"/>
                  </a:cubicBezTo>
                  <a:cubicBezTo>
                    <a:pt x="181" y="268"/>
                    <a:pt x="237" y="255"/>
                    <a:pt x="237" y="255"/>
                  </a:cubicBezTo>
                  <a:cubicBezTo>
                    <a:pt x="289" y="203"/>
                    <a:pt x="205" y="294"/>
                    <a:pt x="262" y="189"/>
                  </a:cubicBezTo>
                  <a:cubicBezTo>
                    <a:pt x="271" y="172"/>
                    <a:pt x="289" y="162"/>
                    <a:pt x="303" y="148"/>
                  </a:cubicBezTo>
                  <a:cubicBezTo>
                    <a:pt x="309" y="142"/>
                    <a:pt x="320" y="131"/>
                    <a:pt x="320" y="131"/>
                  </a:cubicBezTo>
                  <a:cubicBezTo>
                    <a:pt x="323" y="123"/>
                    <a:pt x="324" y="114"/>
                    <a:pt x="328" y="107"/>
                  </a:cubicBezTo>
                  <a:cubicBezTo>
                    <a:pt x="337" y="92"/>
                    <a:pt x="360" y="81"/>
                    <a:pt x="328" y="99"/>
                  </a:cubicBez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55760" y="2735280"/>
              <a:ext cx="857520" cy="882720"/>
            </a:xfrm>
            <a:custGeom>
              <a:avLst/>
              <a:gdLst/>
              <a:ahLst/>
              <a:rect l="l" t="t" r="r" b="b"/>
              <a:pathLst>
                <a:path w="540" h="556">
                  <a:moveTo>
                    <a:pt x="246" y="223"/>
                  </a:moveTo>
                  <a:cubicBezTo>
                    <a:pt x="238" y="229"/>
                    <a:pt x="228" y="232"/>
                    <a:pt x="222" y="240"/>
                  </a:cubicBezTo>
                  <a:cubicBezTo>
                    <a:pt x="208" y="260"/>
                    <a:pt x="189" y="305"/>
                    <a:pt x="189" y="305"/>
                  </a:cubicBezTo>
                  <a:cubicBezTo>
                    <a:pt x="186" y="319"/>
                    <a:pt x="181" y="332"/>
                    <a:pt x="181" y="346"/>
                  </a:cubicBezTo>
                  <a:cubicBezTo>
                    <a:pt x="181" y="390"/>
                    <a:pt x="176" y="436"/>
                    <a:pt x="189" y="478"/>
                  </a:cubicBezTo>
                  <a:cubicBezTo>
                    <a:pt x="201" y="520"/>
                    <a:pt x="315" y="535"/>
                    <a:pt x="345" y="544"/>
                  </a:cubicBezTo>
                  <a:cubicBezTo>
                    <a:pt x="461" y="535"/>
                    <a:pt x="450" y="556"/>
                    <a:pt x="501" y="486"/>
                  </a:cubicBezTo>
                  <a:cubicBezTo>
                    <a:pt x="517" y="419"/>
                    <a:pt x="540" y="261"/>
                    <a:pt x="452" y="223"/>
                  </a:cubicBezTo>
                  <a:cubicBezTo>
                    <a:pt x="435" y="215"/>
                    <a:pt x="339" y="207"/>
                    <a:pt x="337" y="207"/>
                  </a:cubicBezTo>
                  <a:cubicBezTo>
                    <a:pt x="307" y="210"/>
                    <a:pt x="275" y="206"/>
                    <a:pt x="246" y="215"/>
                  </a:cubicBezTo>
                  <a:cubicBezTo>
                    <a:pt x="237" y="218"/>
                    <a:pt x="240" y="240"/>
                    <a:pt x="230" y="240"/>
                  </a:cubicBezTo>
                  <a:cubicBezTo>
                    <a:pt x="221" y="240"/>
                    <a:pt x="225" y="223"/>
                    <a:pt x="222" y="215"/>
                  </a:cubicBezTo>
                  <a:cubicBezTo>
                    <a:pt x="219" y="179"/>
                    <a:pt x="219" y="143"/>
                    <a:pt x="214" y="108"/>
                  </a:cubicBezTo>
                  <a:cubicBezTo>
                    <a:pt x="205" y="40"/>
                    <a:pt x="144" y="21"/>
                    <a:pt x="90" y="1"/>
                  </a:cubicBezTo>
                  <a:cubicBezTo>
                    <a:pt x="74" y="4"/>
                    <a:pt x="54" y="0"/>
                    <a:pt x="41" y="10"/>
                  </a:cubicBezTo>
                  <a:cubicBezTo>
                    <a:pt x="15" y="30"/>
                    <a:pt x="0" y="92"/>
                    <a:pt x="0" y="12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37000" y="3206880"/>
              <a:ext cx="288720" cy="378000"/>
            </a:xfrm>
            <a:custGeom>
              <a:avLst/>
              <a:gdLst/>
              <a:ahLst/>
              <a:rect l="l" t="t" r="r" b="b"/>
              <a:pathLst>
                <a:path w="182" h="238">
                  <a:moveTo>
                    <a:pt x="39" y="0"/>
                  </a:moveTo>
                  <a:cubicBezTo>
                    <a:pt x="63" y="24"/>
                    <a:pt x="56" y="47"/>
                    <a:pt x="72" y="74"/>
                  </a:cubicBezTo>
                  <a:cubicBezTo>
                    <a:pt x="86" y="97"/>
                    <a:pt x="114" y="107"/>
                    <a:pt x="138" y="115"/>
                  </a:cubicBezTo>
                  <a:cubicBezTo>
                    <a:pt x="182" y="145"/>
                    <a:pt x="158" y="117"/>
                    <a:pt x="146" y="156"/>
                  </a:cubicBezTo>
                  <a:cubicBezTo>
                    <a:pt x="138" y="183"/>
                    <a:pt x="130" y="238"/>
                    <a:pt x="130" y="238"/>
                  </a:cubicBezTo>
                  <a:cubicBezTo>
                    <a:pt x="127" y="216"/>
                    <a:pt x="130" y="193"/>
                    <a:pt x="122" y="173"/>
                  </a:cubicBezTo>
                  <a:cubicBezTo>
                    <a:pt x="119" y="165"/>
                    <a:pt x="122" y="197"/>
                    <a:pt x="113" y="197"/>
                  </a:cubicBezTo>
                  <a:cubicBezTo>
                    <a:pt x="103" y="197"/>
                    <a:pt x="102" y="181"/>
                    <a:pt x="97" y="173"/>
                  </a:cubicBezTo>
                  <a:cubicBezTo>
                    <a:pt x="100" y="165"/>
                    <a:pt x="113" y="152"/>
                    <a:pt x="105" y="148"/>
                  </a:cubicBezTo>
                  <a:cubicBezTo>
                    <a:pt x="91" y="142"/>
                    <a:pt x="67" y="184"/>
                    <a:pt x="64" y="189"/>
                  </a:cubicBezTo>
                  <a:cubicBezTo>
                    <a:pt x="52" y="59"/>
                    <a:pt x="68" y="92"/>
                    <a:pt x="23" y="140"/>
                  </a:cubicBezTo>
                  <a:cubicBezTo>
                    <a:pt x="26" y="126"/>
                    <a:pt x="37" y="111"/>
                    <a:pt x="31" y="99"/>
                  </a:cubicBezTo>
                  <a:cubicBezTo>
                    <a:pt x="27" y="91"/>
                    <a:pt x="12" y="113"/>
                    <a:pt x="6" y="107"/>
                  </a:cubicBezTo>
                  <a:cubicBezTo>
                    <a:pt x="0" y="101"/>
                    <a:pt x="30" y="59"/>
                    <a:pt x="31" y="58"/>
                  </a:cubicBezTo>
                  <a:cubicBezTo>
                    <a:pt x="42" y="23"/>
                    <a:pt x="39" y="42"/>
                    <a:pt x="39" y="0"/>
                  </a:cubicBez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38520" y="3519720"/>
              <a:ext cx="468360" cy="392040"/>
            </a:xfrm>
            <a:custGeom>
              <a:avLst/>
              <a:gdLst/>
              <a:ahLst/>
              <a:rect l="l" t="t" r="r" b="b"/>
              <a:pathLst>
                <a:path w="295" h="247">
                  <a:moveTo>
                    <a:pt x="0" y="148"/>
                  </a:moveTo>
                  <a:cubicBezTo>
                    <a:pt x="47" y="219"/>
                    <a:pt x="68" y="228"/>
                    <a:pt x="148" y="247"/>
                  </a:cubicBezTo>
                  <a:cubicBezTo>
                    <a:pt x="178" y="244"/>
                    <a:pt x="209" y="245"/>
                    <a:pt x="238" y="239"/>
                  </a:cubicBezTo>
                  <a:cubicBezTo>
                    <a:pt x="277" y="231"/>
                    <a:pt x="277" y="169"/>
                    <a:pt x="288" y="140"/>
                  </a:cubicBezTo>
                  <a:cubicBezTo>
                    <a:pt x="285" y="102"/>
                    <a:pt x="295" y="60"/>
                    <a:pt x="279" y="25"/>
                  </a:cubicBezTo>
                  <a:cubicBezTo>
                    <a:pt x="272" y="9"/>
                    <a:pt x="247" y="14"/>
                    <a:pt x="230" y="9"/>
                  </a:cubicBezTo>
                  <a:cubicBezTo>
                    <a:pt x="219" y="6"/>
                    <a:pt x="197" y="0"/>
                    <a:pt x="197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08320" y="3584880"/>
              <a:ext cx="743040" cy="469800"/>
            </a:xfrm>
            <a:custGeom>
              <a:avLst/>
              <a:gdLst/>
              <a:ahLst/>
              <a:rect l="l" t="t" r="r" b="b"/>
              <a:pathLst>
                <a:path w="468" h="296">
                  <a:moveTo>
                    <a:pt x="0" y="0"/>
                  </a:moveTo>
                  <a:cubicBezTo>
                    <a:pt x="20" y="83"/>
                    <a:pt x="57" y="132"/>
                    <a:pt x="131" y="173"/>
                  </a:cubicBezTo>
                  <a:cubicBezTo>
                    <a:pt x="140" y="178"/>
                    <a:pt x="148" y="183"/>
                    <a:pt x="156" y="189"/>
                  </a:cubicBezTo>
                  <a:cubicBezTo>
                    <a:pt x="162" y="194"/>
                    <a:pt x="165" y="202"/>
                    <a:pt x="172" y="206"/>
                  </a:cubicBezTo>
                  <a:cubicBezTo>
                    <a:pt x="180" y="211"/>
                    <a:pt x="225" y="221"/>
                    <a:pt x="230" y="222"/>
                  </a:cubicBezTo>
                  <a:cubicBezTo>
                    <a:pt x="294" y="270"/>
                    <a:pt x="387" y="296"/>
                    <a:pt x="468" y="29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43160" y="3457800"/>
              <a:ext cx="300240" cy="349200"/>
            </a:xfrm>
            <a:custGeom>
              <a:avLst/>
              <a:gdLst/>
              <a:ahLst/>
              <a:rect l="l" t="t" r="r" b="b"/>
              <a:pathLst>
                <a:path w="189" h="220">
                  <a:moveTo>
                    <a:pt x="0" y="56"/>
                  </a:moveTo>
                  <a:cubicBezTo>
                    <a:pt x="18" y="37"/>
                    <a:pt x="35" y="22"/>
                    <a:pt x="57" y="7"/>
                  </a:cubicBezTo>
                  <a:cubicBezTo>
                    <a:pt x="88" y="11"/>
                    <a:pt x="127" y="0"/>
                    <a:pt x="148" y="23"/>
                  </a:cubicBezTo>
                  <a:cubicBezTo>
                    <a:pt x="165" y="42"/>
                    <a:pt x="189" y="89"/>
                    <a:pt x="189" y="89"/>
                  </a:cubicBezTo>
                  <a:cubicBezTo>
                    <a:pt x="186" y="119"/>
                    <a:pt x="185" y="149"/>
                    <a:pt x="181" y="179"/>
                  </a:cubicBezTo>
                  <a:cubicBezTo>
                    <a:pt x="180" y="188"/>
                    <a:pt x="179" y="199"/>
                    <a:pt x="172" y="204"/>
                  </a:cubicBezTo>
                  <a:cubicBezTo>
                    <a:pt x="158" y="214"/>
                    <a:pt x="123" y="220"/>
                    <a:pt x="123" y="220"/>
                  </a:cubicBezTo>
                  <a:cubicBezTo>
                    <a:pt x="93" y="217"/>
                    <a:pt x="33" y="212"/>
                    <a:pt x="33" y="21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06800" y="3522960"/>
              <a:ext cx="289080" cy="377640"/>
            </a:xfrm>
            <a:custGeom>
              <a:avLst/>
              <a:gdLst/>
              <a:ahLst/>
              <a:rect l="l" t="t" r="r" b="b"/>
              <a:pathLst>
                <a:path w="182" h="238">
                  <a:moveTo>
                    <a:pt x="39" y="0"/>
                  </a:moveTo>
                  <a:cubicBezTo>
                    <a:pt x="63" y="24"/>
                    <a:pt x="56" y="47"/>
                    <a:pt x="72" y="74"/>
                  </a:cubicBezTo>
                  <a:cubicBezTo>
                    <a:pt x="86" y="97"/>
                    <a:pt x="114" y="107"/>
                    <a:pt x="138" y="115"/>
                  </a:cubicBezTo>
                  <a:cubicBezTo>
                    <a:pt x="182" y="145"/>
                    <a:pt x="158" y="117"/>
                    <a:pt x="146" y="156"/>
                  </a:cubicBezTo>
                  <a:cubicBezTo>
                    <a:pt x="138" y="183"/>
                    <a:pt x="130" y="238"/>
                    <a:pt x="130" y="238"/>
                  </a:cubicBezTo>
                  <a:cubicBezTo>
                    <a:pt x="127" y="216"/>
                    <a:pt x="130" y="193"/>
                    <a:pt x="122" y="173"/>
                  </a:cubicBezTo>
                  <a:cubicBezTo>
                    <a:pt x="119" y="165"/>
                    <a:pt x="122" y="197"/>
                    <a:pt x="113" y="197"/>
                  </a:cubicBezTo>
                  <a:cubicBezTo>
                    <a:pt x="103" y="197"/>
                    <a:pt x="102" y="181"/>
                    <a:pt x="97" y="173"/>
                  </a:cubicBezTo>
                  <a:cubicBezTo>
                    <a:pt x="100" y="165"/>
                    <a:pt x="113" y="152"/>
                    <a:pt x="105" y="148"/>
                  </a:cubicBezTo>
                  <a:cubicBezTo>
                    <a:pt x="91" y="142"/>
                    <a:pt x="67" y="184"/>
                    <a:pt x="64" y="189"/>
                  </a:cubicBezTo>
                  <a:cubicBezTo>
                    <a:pt x="52" y="59"/>
                    <a:pt x="68" y="92"/>
                    <a:pt x="23" y="140"/>
                  </a:cubicBezTo>
                  <a:cubicBezTo>
                    <a:pt x="26" y="126"/>
                    <a:pt x="37" y="111"/>
                    <a:pt x="31" y="99"/>
                  </a:cubicBezTo>
                  <a:cubicBezTo>
                    <a:pt x="27" y="91"/>
                    <a:pt x="12" y="113"/>
                    <a:pt x="6" y="107"/>
                  </a:cubicBezTo>
                  <a:cubicBezTo>
                    <a:pt x="0" y="101"/>
                    <a:pt x="30" y="59"/>
                    <a:pt x="31" y="58"/>
                  </a:cubicBezTo>
                  <a:cubicBezTo>
                    <a:pt x="42" y="23"/>
                    <a:pt x="39" y="42"/>
                    <a:pt x="39" y="0"/>
                  </a:cubicBez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95680" y="2590920"/>
              <a:ext cx="879480" cy="838080"/>
            </a:xfrm>
            <a:custGeom>
              <a:avLst/>
              <a:gdLst/>
              <a:ahLst/>
              <a:rect l="l" t="t" r="r" b="b"/>
              <a:pathLst>
                <a:path w="554" h="528">
                  <a:moveTo>
                    <a:pt x="167" y="43"/>
                  </a:moveTo>
                  <a:cubicBezTo>
                    <a:pt x="182" y="120"/>
                    <a:pt x="214" y="220"/>
                    <a:pt x="298" y="248"/>
                  </a:cubicBezTo>
                  <a:cubicBezTo>
                    <a:pt x="361" y="311"/>
                    <a:pt x="329" y="285"/>
                    <a:pt x="397" y="331"/>
                  </a:cubicBezTo>
                  <a:cubicBezTo>
                    <a:pt x="419" y="346"/>
                    <a:pt x="471" y="363"/>
                    <a:pt x="471" y="363"/>
                  </a:cubicBezTo>
                  <a:cubicBezTo>
                    <a:pt x="485" y="360"/>
                    <a:pt x="501" y="347"/>
                    <a:pt x="512" y="355"/>
                  </a:cubicBezTo>
                  <a:cubicBezTo>
                    <a:pt x="533" y="370"/>
                    <a:pt x="529" y="404"/>
                    <a:pt x="537" y="429"/>
                  </a:cubicBezTo>
                  <a:cubicBezTo>
                    <a:pt x="543" y="446"/>
                    <a:pt x="553" y="479"/>
                    <a:pt x="553" y="479"/>
                  </a:cubicBezTo>
                  <a:cubicBezTo>
                    <a:pt x="550" y="490"/>
                    <a:pt x="554" y="505"/>
                    <a:pt x="545" y="511"/>
                  </a:cubicBezTo>
                  <a:cubicBezTo>
                    <a:pt x="538" y="515"/>
                    <a:pt x="533" y="501"/>
                    <a:pt x="528" y="495"/>
                  </a:cubicBezTo>
                  <a:cubicBezTo>
                    <a:pt x="486" y="436"/>
                    <a:pt x="525" y="469"/>
                    <a:pt x="479" y="437"/>
                  </a:cubicBezTo>
                  <a:cubicBezTo>
                    <a:pt x="456" y="368"/>
                    <a:pt x="487" y="450"/>
                    <a:pt x="463" y="520"/>
                  </a:cubicBezTo>
                  <a:cubicBezTo>
                    <a:pt x="460" y="528"/>
                    <a:pt x="446" y="514"/>
                    <a:pt x="438" y="511"/>
                  </a:cubicBezTo>
                  <a:cubicBezTo>
                    <a:pt x="435" y="470"/>
                    <a:pt x="442" y="427"/>
                    <a:pt x="430" y="388"/>
                  </a:cubicBezTo>
                  <a:cubicBezTo>
                    <a:pt x="427" y="378"/>
                    <a:pt x="411" y="397"/>
                    <a:pt x="405" y="405"/>
                  </a:cubicBezTo>
                  <a:cubicBezTo>
                    <a:pt x="343" y="496"/>
                    <a:pt x="442" y="392"/>
                    <a:pt x="380" y="454"/>
                  </a:cubicBezTo>
                  <a:cubicBezTo>
                    <a:pt x="369" y="328"/>
                    <a:pt x="389" y="359"/>
                    <a:pt x="331" y="396"/>
                  </a:cubicBezTo>
                  <a:cubicBezTo>
                    <a:pt x="313" y="425"/>
                    <a:pt x="307" y="464"/>
                    <a:pt x="274" y="429"/>
                  </a:cubicBezTo>
                  <a:cubicBezTo>
                    <a:pt x="288" y="385"/>
                    <a:pt x="307" y="381"/>
                    <a:pt x="265" y="363"/>
                  </a:cubicBezTo>
                  <a:cubicBezTo>
                    <a:pt x="255" y="359"/>
                    <a:pt x="243" y="358"/>
                    <a:pt x="232" y="355"/>
                  </a:cubicBezTo>
                  <a:cubicBezTo>
                    <a:pt x="248" y="332"/>
                    <a:pt x="266" y="313"/>
                    <a:pt x="282" y="290"/>
                  </a:cubicBezTo>
                  <a:cubicBezTo>
                    <a:pt x="88" y="276"/>
                    <a:pt x="156" y="300"/>
                    <a:pt x="216" y="240"/>
                  </a:cubicBezTo>
                  <a:cubicBezTo>
                    <a:pt x="174" y="230"/>
                    <a:pt x="41" y="247"/>
                    <a:pt x="134" y="199"/>
                  </a:cubicBezTo>
                  <a:cubicBezTo>
                    <a:pt x="139" y="191"/>
                    <a:pt x="158" y="179"/>
                    <a:pt x="150" y="174"/>
                  </a:cubicBezTo>
                  <a:cubicBezTo>
                    <a:pt x="126" y="159"/>
                    <a:pt x="68" y="158"/>
                    <a:pt x="68" y="158"/>
                  </a:cubicBezTo>
                  <a:cubicBezTo>
                    <a:pt x="72" y="157"/>
                    <a:pt x="126" y="148"/>
                    <a:pt x="126" y="133"/>
                  </a:cubicBezTo>
                  <a:cubicBezTo>
                    <a:pt x="126" y="123"/>
                    <a:pt x="110" y="120"/>
                    <a:pt x="101" y="117"/>
                  </a:cubicBezTo>
                  <a:cubicBezTo>
                    <a:pt x="85" y="112"/>
                    <a:pt x="68" y="112"/>
                    <a:pt x="52" y="109"/>
                  </a:cubicBezTo>
                  <a:cubicBezTo>
                    <a:pt x="73" y="104"/>
                    <a:pt x="137" y="96"/>
                    <a:pt x="76" y="76"/>
                  </a:cubicBezTo>
                  <a:cubicBezTo>
                    <a:pt x="0" y="0"/>
                    <a:pt x="42" y="48"/>
                    <a:pt x="76" y="59"/>
                  </a:cubicBezTo>
                  <a:cubicBezTo>
                    <a:pt x="90" y="54"/>
                    <a:pt x="110" y="56"/>
                    <a:pt x="117" y="43"/>
                  </a:cubicBezTo>
                  <a:cubicBezTo>
                    <a:pt x="122" y="35"/>
                    <a:pt x="102" y="31"/>
                    <a:pt x="93" y="27"/>
                  </a:cubicBezTo>
                  <a:cubicBezTo>
                    <a:pt x="85" y="23"/>
                    <a:pt x="59" y="16"/>
                    <a:pt x="68" y="18"/>
                  </a:cubicBezTo>
                  <a:cubicBezTo>
                    <a:pt x="101" y="25"/>
                    <a:pt x="134" y="35"/>
                    <a:pt x="167" y="43"/>
                  </a:cubicBezTo>
                  <a:close/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14400" y="3899160"/>
              <a:ext cx="1295640" cy="573120"/>
            </a:xfrm>
            <a:custGeom>
              <a:avLst/>
              <a:gdLst/>
              <a:ahLst/>
              <a:rect l="l" t="t" r="r" b="b"/>
              <a:pathLst>
                <a:path w="816" h="361">
                  <a:moveTo>
                    <a:pt x="508" y="0"/>
                  </a:moveTo>
                  <a:cubicBezTo>
                    <a:pt x="491" y="3"/>
                    <a:pt x="460" y="2"/>
                    <a:pt x="450" y="24"/>
                  </a:cubicBezTo>
                  <a:cubicBezTo>
                    <a:pt x="427" y="77"/>
                    <a:pt x="433" y="160"/>
                    <a:pt x="352" y="164"/>
                  </a:cubicBezTo>
                  <a:cubicBezTo>
                    <a:pt x="253" y="169"/>
                    <a:pt x="155" y="169"/>
                    <a:pt x="56" y="172"/>
                  </a:cubicBezTo>
                  <a:cubicBezTo>
                    <a:pt x="9" y="204"/>
                    <a:pt x="0" y="244"/>
                    <a:pt x="23" y="304"/>
                  </a:cubicBezTo>
                  <a:cubicBezTo>
                    <a:pt x="28" y="317"/>
                    <a:pt x="46" y="319"/>
                    <a:pt x="56" y="328"/>
                  </a:cubicBezTo>
                  <a:cubicBezTo>
                    <a:pt x="62" y="333"/>
                    <a:pt x="65" y="342"/>
                    <a:pt x="72" y="345"/>
                  </a:cubicBezTo>
                  <a:cubicBezTo>
                    <a:pt x="88" y="353"/>
                    <a:pt x="122" y="361"/>
                    <a:pt x="122" y="361"/>
                  </a:cubicBezTo>
                  <a:cubicBezTo>
                    <a:pt x="188" y="356"/>
                    <a:pt x="253" y="352"/>
                    <a:pt x="319" y="345"/>
                  </a:cubicBezTo>
                  <a:cubicBezTo>
                    <a:pt x="358" y="341"/>
                    <a:pt x="406" y="311"/>
                    <a:pt x="442" y="304"/>
                  </a:cubicBezTo>
                  <a:cubicBezTo>
                    <a:pt x="489" y="295"/>
                    <a:pt x="535" y="280"/>
                    <a:pt x="582" y="271"/>
                  </a:cubicBezTo>
                  <a:cubicBezTo>
                    <a:pt x="620" y="274"/>
                    <a:pt x="659" y="279"/>
                    <a:pt x="697" y="279"/>
                  </a:cubicBezTo>
                  <a:cubicBezTo>
                    <a:pt x="816" y="279"/>
                    <a:pt x="779" y="236"/>
                    <a:pt x="779" y="123"/>
                  </a:cubicBezTo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08320" y="4159440"/>
              <a:ext cx="1096920" cy="488880"/>
            </a:xfrm>
            <a:custGeom>
              <a:avLst/>
              <a:gdLst/>
              <a:ahLst/>
              <a:rect l="l" t="t" r="r" b="b"/>
              <a:pathLst>
                <a:path w="691" h="308">
                  <a:moveTo>
                    <a:pt x="0" y="0"/>
                  </a:moveTo>
                  <a:cubicBezTo>
                    <a:pt x="3" y="63"/>
                    <a:pt x="1" y="126"/>
                    <a:pt x="8" y="189"/>
                  </a:cubicBezTo>
                  <a:cubicBezTo>
                    <a:pt x="13" y="229"/>
                    <a:pt x="72" y="235"/>
                    <a:pt x="98" y="238"/>
                  </a:cubicBezTo>
                  <a:cubicBezTo>
                    <a:pt x="216" y="252"/>
                    <a:pt x="333" y="264"/>
                    <a:pt x="452" y="271"/>
                  </a:cubicBezTo>
                  <a:cubicBezTo>
                    <a:pt x="525" y="281"/>
                    <a:pt x="627" y="308"/>
                    <a:pt x="674" y="238"/>
                  </a:cubicBezTo>
                  <a:cubicBezTo>
                    <a:pt x="685" y="204"/>
                    <a:pt x="691" y="162"/>
                    <a:pt x="657" y="140"/>
                  </a:cubicBezTo>
                  <a:cubicBezTo>
                    <a:pt x="647" y="133"/>
                    <a:pt x="636" y="127"/>
                    <a:pt x="624" y="123"/>
                  </a:cubicBezTo>
                  <a:cubicBezTo>
                    <a:pt x="603" y="116"/>
                    <a:pt x="559" y="107"/>
                    <a:pt x="559" y="107"/>
                  </a:cubicBezTo>
                  <a:cubicBezTo>
                    <a:pt x="529" y="110"/>
                    <a:pt x="498" y="110"/>
                    <a:pt x="468" y="115"/>
                  </a:cubicBezTo>
                  <a:cubicBezTo>
                    <a:pt x="443" y="119"/>
                    <a:pt x="394" y="132"/>
                    <a:pt x="394" y="132"/>
                  </a:cubicBezTo>
                  <a:cubicBezTo>
                    <a:pt x="378" y="129"/>
                    <a:pt x="360" y="131"/>
                    <a:pt x="345" y="123"/>
                  </a:cubicBezTo>
                  <a:cubicBezTo>
                    <a:pt x="329" y="115"/>
                    <a:pt x="320" y="74"/>
                    <a:pt x="320" y="74"/>
                  </a:cubicBezTo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93920" y="3254400"/>
              <a:ext cx="509400" cy="592200"/>
            </a:xfrm>
            <a:custGeom>
              <a:avLst/>
              <a:gdLst/>
              <a:ahLst/>
              <a:rect l="l" t="t" r="r" b="b"/>
              <a:pathLst>
                <a:path w="321" h="373">
                  <a:moveTo>
                    <a:pt x="321" y="36"/>
                  </a:moveTo>
                  <a:cubicBezTo>
                    <a:pt x="266" y="8"/>
                    <a:pt x="280" y="0"/>
                    <a:pt x="214" y="11"/>
                  </a:cubicBezTo>
                  <a:cubicBezTo>
                    <a:pt x="184" y="43"/>
                    <a:pt x="150" y="66"/>
                    <a:pt x="116" y="93"/>
                  </a:cubicBezTo>
                  <a:cubicBezTo>
                    <a:pt x="110" y="98"/>
                    <a:pt x="106" y="106"/>
                    <a:pt x="99" y="110"/>
                  </a:cubicBezTo>
                  <a:cubicBezTo>
                    <a:pt x="84" y="118"/>
                    <a:pt x="66" y="121"/>
                    <a:pt x="50" y="126"/>
                  </a:cubicBezTo>
                  <a:cubicBezTo>
                    <a:pt x="42" y="129"/>
                    <a:pt x="25" y="135"/>
                    <a:pt x="25" y="135"/>
                  </a:cubicBezTo>
                  <a:cubicBezTo>
                    <a:pt x="20" y="143"/>
                    <a:pt x="10" y="149"/>
                    <a:pt x="9" y="159"/>
                  </a:cubicBezTo>
                  <a:cubicBezTo>
                    <a:pt x="0" y="252"/>
                    <a:pt x="34" y="215"/>
                    <a:pt x="116" y="208"/>
                  </a:cubicBezTo>
                  <a:cubicBezTo>
                    <a:pt x="86" y="238"/>
                    <a:pt x="102" y="216"/>
                    <a:pt x="83" y="274"/>
                  </a:cubicBezTo>
                  <a:cubicBezTo>
                    <a:pt x="80" y="282"/>
                    <a:pt x="74" y="299"/>
                    <a:pt x="74" y="299"/>
                  </a:cubicBezTo>
                  <a:cubicBezTo>
                    <a:pt x="110" y="311"/>
                    <a:pt x="123" y="299"/>
                    <a:pt x="157" y="282"/>
                  </a:cubicBezTo>
                  <a:cubicBezTo>
                    <a:pt x="184" y="311"/>
                    <a:pt x="170" y="345"/>
                    <a:pt x="198" y="373"/>
                  </a:cubicBezTo>
                  <a:cubicBezTo>
                    <a:pt x="214" y="370"/>
                    <a:pt x="232" y="371"/>
                    <a:pt x="247" y="365"/>
                  </a:cubicBezTo>
                  <a:cubicBezTo>
                    <a:pt x="274" y="355"/>
                    <a:pt x="271" y="311"/>
                    <a:pt x="280" y="291"/>
                  </a:cubicBezTo>
                  <a:cubicBezTo>
                    <a:pt x="287" y="276"/>
                    <a:pt x="309" y="262"/>
                    <a:pt x="321" y="250"/>
                  </a:cubicBezTo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25800" y="3937320"/>
              <a:ext cx="684360" cy="482400"/>
            </a:xfrm>
            <a:custGeom>
              <a:avLst/>
              <a:gdLst/>
              <a:ahLst/>
              <a:rect l="l" t="t" r="r" b="b"/>
              <a:pathLst>
                <a:path w="431" h="304">
                  <a:moveTo>
                    <a:pt x="98" y="0"/>
                  </a:moveTo>
                  <a:cubicBezTo>
                    <a:pt x="146" y="48"/>
                    <a:pt x="163" y="76"/>
                    <a:pt x="238" y="91"/>
                  </a:cubicBezTo>
                  <a:cubicBezTo>
                    <a:pt x="292" y="117"/>
                    <a:pt x="352" y="113"/>
                    <a:pt x="411" y="124"/>
                  </a:cubicBezTo>
                  <a:cubicBezTo>
                    <a:pt x="423" y="174"/>
                    <a:pt x="431" y="184"/>
                    <a:pt x="378" y="198"/>
                  </a:cubicBezTo>
                  <a:cubicBezTo>
                    <a:pt x="218" y="187"/>
                    <a:pt x="240" y="158"/>
                    <a:pt x="263" y="255"/>
                  </a:cubicBezTo>
                  <a:cubicBezTo>
                    <a:pt x="252" y="301"/>
                    <a:pt x="250" y="302"/>
                    <a:pt x="205" y="288"/>
                  </a:cubicBezTo>
                  <a:cubicBezTo>
                    <a:pt x="197" y="277"/>
                    <a:pt x="187" y="267"/>
                    <a:pt x="181" y="255"/>
                  </a:cubicBezTo>
                  <a:cubicBezTo>
                    <a:pt x="173" y="240"/>
                    <a:pt x="164" y="206"/>
                    <a:pt x="164" y="206"/>
                  </a:cubicBezTo>
                  <a:cubicBezTo>
                    <a:pt x="156" y="209"/>
                    <a:pt x="145" y="207"/>
                    <a:pt x="140" y="214"/>
                  </a:cubicBezTo>
                  <a:cubicBezTo>
                    <a:pt x="127" y="230"/>
                    <a:pt x="133" y="255"/>
                    <a:pt x="123" y="272"/>
                  </a:cubicBezTo>
                  <a:cubicBezTo>
                    <a:pt x="116" y="284"/>
                    <a:pt x="106" y="293"/>
                    <a:pt x="98" y="304"/>
                  </a:cubicBezTo>
                  <a:cubicBezTo>
                    <a:pt x="60" y="291"/>
                    <a:pt x="76" y="282"/>
                    <a:pt x="49" y="255"/>
                  </a:cubicBezTo>
                  <a:cubicBezTo>
                    <a:pt x="39" y="224"/>
                    <a:pt x="25" y="197"/>
                    <a:pt x="16" y="165"/>
                  </a:cubicBezTo>
                  <a:cubicBezTo>
                    <a:pt x="11" y="148"/>
                    <a:pt x="0" y="115"/>
                    <a:pt x="0" y="115"/>
                  </a:cubicBezTo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85960" y="3345120"/>
              <a:ext cx="1284480" cy="990360"/>
            </a:xfrm>
            <a:custGeom>
              <a:avLst/>
              <a:gdLst/>
              <a:ahLst/>
              <a:rect l="l" t="t" r="r" b="b"/>
              <a:pathLst>
                <a:path w="809" h="624">
                  <a:moveTo>
                    <a:pt x="66" y="36"/>
                  </a:moveTo>
                  <a:cubicBezTo>
                    <a:pt x="49" y="39"/>
                    <a:pt x="29" y="34"/>
                    <a:pt x="16" y="45"/>
                  </a:cubicBezTo>
                  <a:cubicBezTo>
                    <a:pt x="3" y="56"/>
                    <a:pt x="0" y="94"/>
                    <a:pt x="0" y="94"/>
                  </a:cubicBezTo>
                  <a:cubicBezTo>
                    <a:pt x="15" y="172"/>
                    <a:pt x="49" y="236"/>
                    <a:pt x="107" y="291"/>
                  </a:cubicBezTo>
                  <a:cubicBezTo>
                    <a:pt x="118" y="320"/>
                    <a:pt x="120" y="353"/>
                    <a:pt x="132" y="382"/>
                  </a:cubicBezTo>
                  <a:cubicBezTo>
                    <a:pt x="163" y="459"/>
                    <a:pt x="276" y="498"/>
                    <a:pt x="345" y="521"/>
                  </a:cubicBezTo>
                  <a:cubicBezTo>
                    <a:pt x="412" y="588"/>
                    <a:pt x="503" y="598"/>
                    <a:pt x="592" y="620"/>
                  </a:cubicBezTo>
                  <a:cubicBezTo>
                    <a:pt x="668" y="615"/>
                    <a:pt x="714" y="624"/>
                    <a:pt x="773" y="587"/>
                  </a:cubicBezTo>
                  <a:cubicBezTo>
                    <a:pt x="787" y="544"/>
                    <a:pt x="809" y="522"/>
                    <a:pt x="756" y="505"/>
                  </a:cubicBezTo>
                  <a:cubicBezTo>
                    <a:pt x="732" y="520"/>
                    <a:pt x="714" y="539"/>
                    <a:pt x="690" y="554"/>
                  </a:cubicBezTo>
                  <a:cubicBezTo>
                    <a:pt x="597" y="551"/>
                    <a:pt x="504" y="553"/>
                    <a:pt x="411" y="546"/>
                  </a:cubicBezTo>
                  <a:cubicBezTo>
                    <a:pt x="390" y="544"/>
                    <a:pt x="361" y="510"/>
                    <a:pt x="345" y="497"/>
                  </a:cubicBezTo>
                  <a:cubicBezTo>
                    <a:pt x="297" y="458"/>
                    <a:pt x="252" y="432"/>
                    <a:pt x="214" y="382"/>
                  </a:cubicBezTo>
                  <a:cubicBezTo>
                    <a:pt x="203" y="329"/>
                    <a:pt x="194" y="261"/>
                    <a:pt x="164" y="217"/>
                  </a:cubicBezTo>
                  <a:cubicBezTo>
                    <a:pt x="145" y="159"/>
                    <a:pt x="117" y="112"/>
                    <a:pt x="66" y="78"/>
                  </a:cubicBezTo>
                  <a:cubicBezTo>
                    <a:pt x="63" y="64"/>
                    <a:pt x="64" y="49"/>
                    <a:pt x="58" y="36"/>
                  </a:cubicBezTo>
                  <a:cubicBezTo>
                    <a:pt x="54" y="26"/>
                    <a:pt x="9" y="0"/>
                    <a:pt x="66" y="36"/>
                  </a:cubicBezTo>
                  <a:close/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51360" y="3964320"/>
              <a:ext cx="104760" cy="195120"/>
            </a:xfrm>
            <a:custGeom>
              <a:avLst/>
              <a:gdLst/>
              <a:ahLst/>
              <a:rect l="l" t="t" r="r" b="b"/>
              <a:pathLst>
                <a:path w="66" h="123">
                  <a:moveTo>
                    <a:pt x="0" y="123"/>
                  </a:moveTo>
                  <a:cubicBezTo>
                    <a:pt x="8" y="89"/>
                    <a:pt x="18" y="74"/>
                    <a:pt x="41" y="49"/>
                  </a:cubicBezTo>
                  <a:cubicBezTo>
                    <a:pt x="44" y="41"/>
                    <a:pt x="46" y="32"/>
                    <a:pt x="50" y="24"/>
                  </a:cubicBezTo>
                  <a:cubicBezTo>
                    <a:pt x="54" y="15"/>
                    <a:pt x="66" y="0"/>
                    <a:pt x="66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657600" y="1523880"/>
            <a:ext cx="2666880" cy="990720"/>
          </a:xfrm>
          <a:prstGeom prst="cloudCallout">
            <a:avLst>
              <a:gd name="adj1" fmla="val -58393"/>
              <a:gd name="adj2" fmla="val 81888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y"/>
              </a:rPr>
              <a:t>ZZZZ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52280" y="152280"/>
            <a:ext cx="8839440" cy="1911600"/>
            <a:chOff x="152280" y="152280"/>
            <a:chExt cx="8839440" cy="1911600"/>
          </a:xfrm>
        </p:grpSpPr>
        <p:sp>
          <p:nvSpPr>
            <p:cNvPr id="168" name=""/>
            <p:cNvSpPr/>
            <p:nvPr/>
          </p:nvSpPr>
          <p:spPr>
            <a:xfrm>
              <a:off x="152280" y="152280"/>
              <a:ext cx="8839440" cy="9144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380880" y="228600"/>
              <a:ext cx="58676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8440">
                    <a:solidFill>
                      <a:srgbClr val="ff3300"/>
                    </a:solidFill>
                    <a:miter/>
                  </a:ln>
                  <a:solidFill>
                    <a:srgbClr val="ffffff"/>
                  </a:solidFill>
                  <a:latin typeface="Broadway BT"/>
                </a:rPr>
                <a:t>FRA MARTINO</a:t>
              </a:r>
              <a:endParaRPr b="0" lang="en-US" sz="2400" spc="1" strike="noStrike">
                <a:ln w="28440">
                  <a:solidFill>
                    <a:srgbClr val="ff3300"/>
                  </a:solidFill>
                  <a:miter/>
                </a:ln>
                <a:solidFill>
                  <a:srgbClr val="ffffff"/>
                </a:solidFill>
                <a:latin typeface="Broadway BT"/>
                <a:ea typeface="Broadway BT"/>
              </a:endParaRPr>
            </a:p>
          </p:txBody>
        </p:sp>
        <p:graphicFrame>
          <p:nvGraphicFramePr>
            <p:cNvPr id="170" name=""/>
            <p:cNvGraphicFramePr/>
            <p:nvPr/>
          </p:nvGraphicFramePr>
          <p:xfrm>
            <a:off x="6781680" y="457200"/>
            <a:ext cx="1605240" cy="1606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81680" y="457200"/>
                      <a:ext cx="1605240" cy="160668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</p:spTree>
  </p:cSld>
  <p:transition advTm="3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66720" y="2438280"/>
            <a:ext cx="7093080" cy="2898720"/>
          </a:xfrm>
          <a:custGeom>
            <a:avLst/>
            <a:gdLst/>
            <a:ahLst/>
            <a:rect l="l" t="t" r="r" b="b"/>
            <a:pathLst>
              <a:path w="4468" h="1826">
                <a:moveTo>
                  <a:pt x="1963" y="42"/>
                </a:moveTo>
                <a:cubicBezTo>
                  <a:pt x="1944" y="39"/>
                  <a:pt x="1925" y="38"/>
                  <a:pt x="1906" y="34"/>
                </a:cubicBezTo>
                <a:cubicBezTo>
                  <a:pt x="1884" y="29"/>
                  <a:pt x="1862" y="20"/>
                  <a:pt x="1840" y="17"/>
                </a:cubicBezTo>
                <a:cubicBezTo>
                  <a:pt x="1786" y="9"/>
                  <a:pt x="1676" y="1"/>
                  <a:pt x="1676" y="1"/>
                </a:cubicBezTo>
                <a:cubicBezTo>
                  <a:pt x="1607" y="6"/>
                  <a:pt x="1537" y="0"/>
                  <a:pt x="1470" y="17"/>
                </a:cubicBezTo>
                <a:cubicBezTo>
                  <a:pt x="1434" y="26"/>
                  <a:pt x="1432" y="81"/>
                  <a:pt x="1421" y="116"/>
                </a:cubicBezTo>
                <a:cubicBezTo>
                  <a:pt x="1395" y="198"/>
                  <a:pt x="1398" y="381"/>
                  <a:pt x="1298" y="412"/>
                </a:cubicBezTo>
                <a:cubicBezTo>
                  <a:pt x="1195" y="444"/>
                  <a:pt x="1067" y="434"/>
                  <a:pt x="969" y="436"/>
                </a:cubicBezTo>
                <a:cubicBezTo>
                  <a:pt x="695" y="440"/>
                  <a:pt x="421" y="442"/>
                  <a:pt x="147" y="445"/>
                </a:cubicBezTo>
                <a:cubicBezTo>
                  <a:pt x="122" y="456"/>
                  <a:pt x="95" y="462"/>
                  <a:pt x="73" y="477"/>
                </a:cubicBezTo>
                <a:cubicBezTo>
                  <a:pt x="0" y="525"/>
                  <a:pt x="68" y="686"/>
                  <a:pt x="114" y="732"/>
                </a:cubicBezTo>
                <a:cubicBezTo>
                  <a:pt x="202" y="820"/>
                  <a:pt x="265" y="802"/>
                  <a:pt x="385" y="814"/>
                </a:cubicBezTo>
                <a:cubicBezTo>
                  <a:pt x="671" y="805"/>
                  <a:pt x="942" y="759"/>
                  <a:pt x="1224" y="716"/>
                </a:cubicBezTo>
                <a:cubicBezTo>
                  <a:pt x="1298" y="721"/>
                  <a:pt x="1373" y="720"/>
                  <a:pt x="1446" y="732"/>
                </a:cubicBezTo>
                <a:cubicBezTo>
                  <a:pt x="1518" y="744"/>
                  <a:pt x="1445" y="847"/>
                  <a:pt x="1421" y="864"/>
                </a:cubicBezTo>
                <a:cubicBezTo>
                  <a:pt x="1299" y="954"/>
                  <a:pt x="1147" y="950"/>
                  <a:pt x="1002" y="962"/>
                </a:cubicBezTo>
                <a:cubicBezTo>
                  <a:pt x="867" y="995"/>
                  <a:pt x="765" y="1029"/>
                  <a:pt x="648" y="1102"/>
                </a:cubicBezTo>
                <a:cubicBezTo>
                  <a:pt x="591" y="1220"/>
                  <a:pt x="636" y="1106"/>
                  <a:pt x="887" y="1053"/>
                </a:cubicBezTo>
                <a:cubicBezTo>
                  <a:pt x="1004" y="1028"/>
                  <a:pt x="1239" y="1024"/>
                  <a:pt x="1363" y="1020"/>
                </a:cubicBezTo>
                <a:cubicBezTo>
                  <a:pt x="1480" y="1025"/>
                  <a:pt x="1582" y="1008"/>
                  <a:pt x="1668" y="1094"/>
                </a:cubicBezTo>
                <a:cubicBezTo>
                  <a:pt x="1675" y="1245"/>
                  <a:pt x="1673" y="1428"/>
                  <a:pt x="1758" y="1562"/>
                </a:cubicBezTo>
                <a:cubicBezTo>
                  <a:pt x="1778" y="1593"/>
                  <a:pt x="1843" y="1706"/>
                  <a:pt x="1881" y="1727"/>
                </a:cubicBezTo>
                <a:cubicBezTo>
                  <a:pt x="2018" y="1804"/>
                  <a:pt x="2249" y="1811"/>
                  <a:pt x="2399" y="1817"/>
                </a:cubicBezTo>
                <a:cubicBezTo>
                  <a:pt x="2524" y="1804"/>
                  <a:pt x="2608" y="1826"/>
                  <a:pt x="2654" y="1694"/>
                </a:cubicBezTo>
                <a:cubicBezTo>
                  <a:pt x="2648" y="1653"/>
                  <a:pt x="2650" y="1610"/>
                  <a:pt x="2637" y="1570"/>
                </a:cubicBezTo>
                <a:cubicBezTo>
                  <a:pt x="2632" y="1556"/>
                  <a:pt x="2617" y="1547"/>
                  <a:pt x="2605" y="1538"/>
                </a:cubicBezTo>
                <a:cubicBezTo>
                  <a:pt x="2520" y="1470"/>
                  <a:pt x="2460" y="1445"/>
                  <a:pt x="2407" y="1357"/>
                </a:cubicBezTo>
                <a:cubicBezTo>
                  <a:pt x="2497" y="1297"/>
                  <a:pt x="2535" y="1339"/>
                  <a:pt x="2637" y="1349"/>
                </a:cubicBezTo>
                <a:cubicBezTo>
                  <a:pt x="2722" y="1357"/>
                  <a:pt x="2892" y="1365"/>
                  <a:pt x="2892" y="1365"/>
                </a:cubicBezTo>
                <a:cubicBezTo>
                  <a:pt x="3146" y="1335"/>
                  <a:pt x="3250" y="1336"/>
                  <a:pt x="3426" y="1160"/>
                </a:cubicBezTo>
                <a:cubicBezTo>
                  <a:pt x="3412" y="1130"/>
                  <a:pt x="3408" y="1093"/>
                  <a:pt x="3385" y="1069"/>
                </a:cubicBezTo>
                <a:cubicBezTo>
                  <a:pt x="3367" y="1049"/>
                  <a:pt x="3335" y="1048"/>
                  <a:pt x="3311" y="1036"/>
                </a:cubicBezTo>
                <a:cubicBezTo>
                  <a:pt x="3278" y="1020"/>
                  <a:pt x="3245" y="1004"/>
                  <a:pt x="3213" y="987"/>
                </a:cubicBezTo>
                <a:cubicBezTo>
                  <a:pt x="3125" y="939"/>
                  <a:pt x="3045" y="885"/>
                  <a:pt x="2974" y="814"/>
                </a:cubicBezTo>
                <a:cubicBezTo>
                  <a:pt x="2952" y="726"/>
                  <a:pt x="3048" y="788"/>
                  <a:pt x="3089" y="798"/>
                </a:cubicBezTo>
                <a:cubicBezTo>
                  <a:pt x="3138" y="810"/>
                  <a:pt x="3188" y="811"/>
                  <a:pt x="3237" y="823"/>
                </a:cubicBezTo>
                <a:cubicBezTo>
                  <a:pt x="3298" y="838"/>
                  <a:pt x="3357" y="865"/>
                  <a:pt x="3418" y="880"/>
                </a:cubicBezTo>
                <a:cubicBezTo>
                  <a:pt x="3552" y="913"/>
                  <a:pt x="3645" y="916"/>
                  <a:pt x="3780" y="929"/>
                </a:cubicBezTo>
                <a:cubicBezTo>
                  <a:pt x="3879" y="921"/>
                  <a:pt x="3979" y="927"/>
                  <a:pt x="4076" y="905"/>
                </a:cubicBezTo>
                <a:cubicBezTo>
                  <a:pt x="4206" y="876"/>
                  <a:pt x="4372" y="658"/>
                  <a:pt x="4429" y="551"/>
                </a:cubicBezTo>
                <a:cubicBezTo>
                  <a:pt x="4438" y="500"/>
                  <a:pt x="4468" y="386"/>
                  <a:pt x="4429" y="338"/>
                </a:cubicBezTo>
                <a:cubicBezTo>
                  <a:pt x="4410" y="314"/>
                  <a:pt x="4369" y="324"/>
                  <a:pt x="4339" y="321"/>
                </a:cubicBezTo>
                <a:cubicBezTo>
                  <a:pt x="4287" y="316"/>
                  <a:pt x="4235" y="316"/>
                  <a:pt x="4183" y="313"/>
                </a:cubicBezTo>
                <a:cubicBezTo>
                  <a:pt x="4065" y="319"/>
                  <a:pt x="3947" y="318"/>
                  <a:pt x="3829" y="330"/>
                </a:cubicBezTo>
                <a:cubicBezTo>
                  <a:pt x="3752" y="338"/>
                  <a:pt x="3691" y="399"/>
                  <a:pt x="3624" y="436"/>
                </a:cubicBezTo>
                <a:cubicBezTo>
                  <a:pt x="3529" y="489"/>
                  <a:pt x="3409" y="501"/>
                  <a:pt x="3303" y="510"/>
                </a:cubicBezTo>
                <a:cubicBezTo>
                  <a:pt x="3259" y="499"/>
                  <a:pt x="3213" y="496"/>
                  <a:pt x="3172" y="477"/>
                </a:cubicBezTo>
                <a:cubicBezTo>
                  <a:pt x="3162" y="472"/>
                  <a:pt x="3167" y="455"/>
                  <a:pt x="3163" y="445"/>
                </a:cubicBezTo>
                <a:cubicBezTo>
                  <a:pt x="3155" y="425"/>
                  <a:pt x="3136" y="357"/>
                  <a:pt x="3131" y="354"/>
                </a:cubicBezTo>
                <a:cubicBezTo>
                  <a:pt x="3114" y="345"/>
                  <a:pt x="3092" y="349"/>
                  <a:pt x="3073" y="346"/>
                </a:cubicBezTo>
                <a:cubicBezTo>
                  <a:pt x="2984" y="363"/>
                  <a:pt x="2919" y="442"/>
                  <a:pt x="2835" y="477"/>
                </a:cubicBezTo>
                <a:cubicBezTo>
                  <a:pt x="2725" y="523"/>
                  <a:pt x="2598" y="536"/>
                  <a:pt x="2481" y="543"/>
                </a:cubicBezTo>
                <a:cubicBezTo>
                  <a:pt x="2359" y="513"/>
                  <a:pt x="2396" y="525"/>
                  <a:pt x="2317" y="461"/>
                </a:cubicBezTo>
                <a:cubicBezTo>
                  <a:pt x="2302" y="449"/>
                  <a:pt x="2283" y="441"/>
                  <a:pt x="2268" y="428"/>
                </a:cubicBezTo>
                <a:cubicBezTo>
                  <a:pt x="2242" y="405"/>
                  <a:pt x="2215" y="382"/>
                  <a:pt x="2194" y="354"/>
                </a:cubicBezTo>
                <a:cubicBezTo>
                  <a:pt x="2165" y="315"/>
                  <a:pt x="2155" y="286"/>
                  <a:pt x="2111" y="272"/>
                </a:cubicBezTo>
                <a:cubicBezTo>
                  <a:pt x="2070" y="167"/>
                  <a:pt x="2124" y="297"/>
                  <a:pt x="2070" y="190"/>
                </a:cubicBezTo>
                <a:cubicBezTo>
                  <a:pt x="2040" y="131"/>
                  <a:pt x="2032" y="59"/>
                  <a:pt x="1963" y="42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76520" y="4724280"/>
            <a:ext cx="56386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dy"/>
              </a:rPr>
              <a:t>SUONA LE CAMPA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dy"/>
              </a:rPr>
              <a:t>SUONA LE CAMPA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858000" y="2057400"/>
          <a:ext cx="1806480" cy="166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057400"/>
                    <a:ext cx="1806480" cy="16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57200" y="1676520"/>
          <a:ext cx="1806480" cy="166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676520"/>
                    <a:ext cx="1806480" cy="16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 rot="484800">
            <a:off x="5257800" y="1828440"/>
            <a:ext cx="2666880" cy="2178000"/>
          </a:xfrm>
          <a:custGeom>
            <a:avLst/>
            <a:gdLst/>
            <a:ahLst/>
            <a:rect l="l" t="t" r="r" b="b"/>
            <a:pathLst>
              <a:path w="1680" h="1372">
                <a:moveTo>
                  <a:pt x="1578" y="82"/>
                </a:moveTo>
                <a:cubicBezTo>
                  <a:pt x="1586" y="87"/>
                  <a:pt x="1593" y="94"/>
                  <a:pt x="1602" y="98"/>
                </a:cubicBezTo>
                <a:cubicBezTo>
                  <a:pt x="1610" y="102"/>
                  <a:pt x="1624" y="115"/>
                  <a:pt x="1627" y="107"/>
                </a:cubicBezTo>
                <a:cubicBezTo>
                  <a:pt x="1631" y="96"/>
                  <a:pt x="1620" y="82"/>
                  <a:pt x="1611" y="74"/>
                </a:cubicBezTo>
                <a:cubicBezTo>
                  <a:pt x="1596" y="61"/>
                  <a:pt x="1572" y="64"/>
                  <a:pt x="1553" y="57"/>
                </a:cubicBezTo>
                <a:cubicBezTo>
                  <a:pt x="1530" y="92"/>
                  <a:pt x="1531" y="124"/>
                  <a:pt x="1561" y="156"/>
                </a:cubicBezTo>
                <a:cubicBezTo>
                  <a:pt x="1591" y="153"/>
                  <a:pt x="1622" y="155"/>
                  <a:pt x="1652" y="148"/>
                </a:cubicBezTo>
                <a:cubicBezTo>
                  <a:pt x="1680" y="141"/>
                  <a:pt x="1665" y="102"/>
                  <a:pt x="1660" y="90"/>
                </a:cubicBezTo>
                <a:cubicBezTo>
                  <a:pt x="1652" y="71"/>
                  <a:pt x="1617" y="55"/>
                  <a:pt x="1602" y="41"/>
                </a:cubicBezTo>
                <a:cubicBezTo>
                  <a:pt x="1569" y="44"/>
                  <a:pt x="1532" y="32"/>
                  <a:pt x="1504" y="49"/>
                </a:cubicBezTo>
                <a:cubicBezTo>
                  <a:pt x="1491" y="57"/>
                  <a:pt x="1513" y="77"/>
                  <a:pt x="1520" y="90"/>
                </a:cubicBezTo>
                <a:cubicBezTo>
                  <a:pt x="1532" y="111"/>
                  <a:pt x="1586" y="123"/>
                  <a:pt x="1586" y="123"/>
                </a:cubicBezTo>
                <a:cubicBezTo>
                  <a:pt x="1600" y="120"/>
                  <a:pt x="1616" y="124"/>
                  <a:pt x="1627" y="115"/>
                </a:cubicBezTo>
                <a:cubicBezTo>
                  <a:pt x="1635" y="108"/>
                  <a:pt x="1640" y="66"/>
                  <a:pt x="1627" y="57"/>
                </a:cubicBezTo>
                <a:cubicBezTo>
                  <a:pt x="1613" y="47"/>
                  <a:pt x="1594" y="46"/>
                  <a:pt x="1578" y="41"/>
                </a:cubicBezTo>
                <a:cubicBezTo>
                  <a:pt x="1570" y="38"/>
                  <a:pt x="1553" y="33"/>
                  <a:pt x="1553" y="33"/>
                </a:cubicBezTo>
                <a:cubicBezTo>
                  <a:pt x="1526" y="15"/>
                  <a:pt x="1502" y="10"/>
                  <a:pt x="1471" y="0"/>
                </a:cubicBezTo>
                <a:cubicBezTo>
                  <a:pt x="1364" y="3"/>
                  <a:pt x="1257" y="3"/>
                  <a:pt x="1150" y="8"/>
                </a:cubicBezTo>
                <a:cubicBezTo>
                  <a:pt x="1124" y="9"/>
                  <a:pt x="1124" y="23"/>
                  <a:pt x="1101" y="33"/>
                </a:cubicBezTo>
                <a:cubicBezTo>
                  <a:pt x="1091" y="37"/>
                  <a:pt x="1078" y="37"/>
                  <a:pt x="1068" y="41"/>
                </a:cubicBezTo>
                <a:cubicBezTo>
                  <a:pt x="1040" y="53"/>
                  <a:pt x="1013" y="68"/>
                  <a:pt x="986" y="82"/>
                </a:cubicBezTo>
                <a:cubicBezTo>
                  <a:pt x="977" y="86"/>
                  <a:pt x="922" y="145"/>
                  <a:pt x="904" y="164"/>
                </a:cubicBezTo>
                <a:cubicBezTo>
                  <a:pt x="817" y="253"/>
                  <a:pt x="774" y="378"/>
                  <a:pt x="698" y="476"/>
                </a:cubicBezTo>
                <a:cubicBezTo>
                  <a:pt x="683" y="538"/>
                  <a:pt x="643" y="584"/>
                  <a:pt x="616" y="641"/>
                </a:cubicBezTo>
                <a:cubicBezTo>
                  <a:pt x="611" y="652"/>
                  <a:pt x="609" y="665"/>
                  <a:pt x="600" y="674"/>
                </a:cubicBezTo>
                <a:cubicBezTo>
                  <a:pt x="591" y="683"/>
                  <a:pt x="578" y="685"/>
                  <a:pt x="567" y="690"/>
                </a:cubicBezTo>
                <a:cubicBezTo>
                  <a:pt x="523" y="734"/>
                  <a:pt x="463" y="794"/>
                  <a:pt x="402" y="813"/>
                </a:cubicBezTo>
                <a:cubicBezTo>
                  <a:pt x="346" y="856"/>
                  <a:pt x="285" y="888"/>
                  <a:pt x="222" y="920"/>
                </a:cubicBezTo>
                <a:cubicBezTo>
                  <a:pt x="204" y="929"/>
                  <a:pt x="182" y="928"/>
                  <a:pt x="164" y="937"/>
                </a:cubicBezTo>
                <a:cubicBezTo>
                  <a:pt x="153" y="942"/>
                  <a:pt x="125" y="963"/>
                  <a:pt x="115" y="970"/>
                </a:cubicBezTo>
                <a:cubicBezTo>
                  <a:pt x="94" y="1034"/>
                  <a:pt x="121" y="962"/>
                  <a:pt x="98" y="904"/>
                </a:cubicBezTo>
                <a:cubicBezTo>
                  <a:pt x="95" y="896"/>
                  <a:pt x="82" y="909"/>
                  <a:pt x="74" y="912"/>
                </a:cubicBezTo>
                <a:cubicBezTo>
                  <a:pt x="30" y="953"/>
                  <a:pt x="14" y="1018"/>
                  <a:pt x="0" y="1076"/>
                </a:cubicBezTo>
                <a:cubicBezTo>
                  <a:pt x="16" y="1142"/>
                  <a:pt x="27" y="1223"/>
                  <a:pt x="49" y="1290"/>
                </a:cubicBezTo>
                <a:cubicBezTo>
                  <a:pt x="102" y="1273"/>
                  <a:pt x="110" y="1276"/>
                  <a:pt x="123" y="1224"/>
                </a:cubicBezTo>
                <a:cubicBezTo>
                  <a:pt x="57" y="1203"/>
                  <a:pt x="65" y="1254"/>
                  <a:pt x="82" y="1315"/>
                </a:cubicBezTo>
                <a:cubicBezTo>
                  <a:pt x="86" y="1328"/>
                  <a:pt x="99" y="1337"/>
                  <a:pt x="107" y="1348"/>
                </a:cubicBezTo>
                <a:cubicBezTo>
                  <a:pt x="113" y="1356"/>
                  <a:pt x="123" y="1372"/>
                  <a:pt x="123" y="1372"/>
                </a:cubicBezTo>
              </a:path>
            </a:pathLst>
          </a:custGeom>
          <a:noFill/>
          <a:ln w="284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895480" y="1905120"/>
            <a:ext cx="2811600" cy="2779200"/>
            <a:chOff x="2895480" y="1905120"/>
            <a:chExt cx="2811600" cy="2779200"/>
          </a:xfrm>
        </p:grpSpPr>
        <p:sp>
          <p:nvSpPr>
            <p:cNvPr id="180" name=""/>
            <p:cNvSpPr/>
            <p:nvPr/>
          </p:nvSpPr>
          <p:spPr>
            <a:xfrm>
              <a:off x="3630600" y="1905120"/>
              <a:ext cx="2076480" cy="1965240"/>
            </a:xfrm>
            <a:custGeom>
              <a:avLst/>
              <a:gdLst/>
              <a:ahLst/>
              <a:rect l="l" t="t" r="r" b="b"/>
              <a:pathLst>
                <a:path w="1096" h="933">
                  <a:moveTo>
                    <a:pt x="707" y="240"/>
                  </a:moveTo>
                  <a:cubicBezTo>
                    <a:pt x="717" y="208"/>
                    <a:pt x="727" y="200"/>
                    <a:pt x="756" y="182"/>
                  </a:cubicBezTo>
                  <a:cubicBezTo>
                    <a:pt x="775" y="185"/>
                    <a:pt x="795" y="184"/>
                    <a:pt x="813" y="190"/>
                  </a:cubicBezTo>
                  <a:cubicBezTo>
                    <a:pt x="845" y="201"/>
                    <a:pt x="830" y="245"/>
                    <a:pt x="846" y="264"/>
                  </a:cubicBezTo>
                  <a:cubicBezTo>
                    <a:pt x="851" y="271"/>
                    <a:pt x="862" y="271"/>
                    <a:pt x="871" y="272"/>
                  </a:cubicBezTo>
                  <a:cubicBezTo>
                    <a:pt x="906" y="277"/>
                    <a:pt x="942" y="278"/>
                    <a:pt x="978" y="281"/>
                  </a:cubicBezTo>
                  <a:cubicBezTo>
                    <a:pt x="1021" y="295"/>
                    <a:pt x="1020" y="320"/>
                    <a:pt x="1044" y="355"/>
                  </a:cubicBezTo>
                  <a:cubicBezTo>
                    <a:pt x="1062" y="429"/>
                    <a:pt x="1096" y="505"/>
                    <a:pt x="1002" y="535"/>
                  </a:cubicBezTo>
                  <a:cubicBezTo>
                    <a:pt x="920" y="529"/>
                    <a:pt x="870" y="540"/>
                    <a:pt x="813" y="486"/>
                  </a:cubicBezTo>
                  <a:cubicBezTo>
                    <a:pt x="810" y="544"/>
                    <a:pt x="809" y="601"/>
                    <a:pt x="805" y="659"/>
                  </a:cubicBezTo>
                  <a:cubicBezTo>
                    <a:pt x="802" y="701"/>
                    <a:pt x="779" y="731"/>
                    <a:pt x="756" y="765"/>
                  </a:cubicBezTo>
                  <a:cubicBezTo>
                    <a:pt x="678" y="881"/>
                    <a:pt x="585" y="900"/>
                    <a:pt x="452" y="913"/>
                  </a:cubicBezTo>
                  <a:cubicBezTo>
                    <a:pt x="346" y="905"/>
                    <a:pt x="240" y="933"/>
                    <a:pt x="172" y="848"/>
                  </a:cubicBezTo>
                  <a:cubicBezTo>
                    <a:pt x="136" y="803"/>
                    <a:pt x="98" y="765"/>
                    <a:pt x="66" y="716"/>
                  </a:cubicBezTo>
                  <a:cubicBezTo>
                    <a:pt x="55" y="700"/>
                    <a:pt x="33" y="667"/>
                    <a:pt x="33" y="667"/>
                  </a:cubicBezTo>
                  <a:cubicBezTo>
                    <a:pt x="28" y="648"/>
                    <a:pt x="21" y="628"/>
                    <a:pt x="16" y="609"/>
                  </a:cubicBezTo>
                  <a:cubicBezTo>
                    <a:pt x="10" y="587"/>
                    <a:pt x="0" y="544"/>
                    <a:pt x="0" y="544"/>
                  </a:cubicBezTo>
                  <a:cubicBezTo>
                    <a:pt x="3" y="453"/>
                    <a:pt x="3" y="363"/>
                    <a:pt x="8" y="272"/>
                  </a:cubicBezTo>
                  <a:cubicBezTo>
                    <a:pt x="14" y="144"/>
                    <a:pt x="69" y="105"/>
                    <a:pt x="181" y="75"/>
                  </a:cubicBezTo>
                  <a:cubicBezTo>
                    <a:pt x="245" y="58"/>
                    <a:pt x="306" y="34"/>
                    <a:pt x="370" y="18"/>
                  </a:cubicBezTo>
                  <a:cubicBezTo>
                    <a:pt x="425" y="21"/>
                    <a:pt x="490" y="0"/>
                    <a:pt x="534" y="34"/>
                  </a:cubicBezTo>
                  <a:cubicBezTo>
                    <a:pt x="569" y="61"/>
                    <a:pt x="601" y="101"/>
                    <a:pt x="633" y="133"/>
                  </a:cubicBezTo>
                  <a:cubicBezTo>
                    <a:pt x="652" y="152"/>
                    <a:pt x="668" y="153"/>
                    <a:pt x="682" y="174"/>
                  </a:cubicBezTo>
                  <a:cubicBezTo>
                    <a:pt x="698" y="199"/>
                    <a:pt x="699" y="212"/>
                    <a:pt x="707" y="240"/>
                  </a:cubicBez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46640" y="2271600"/>
              <a:ext cx="639720" cy="725040"/>
            </a:xfrm>
            <a:custGeom>
              <a:avLst/>
              <a:gdLst/>
              <a:ahLst/>
              <a:rect l="l" t="t" r="r" b="b"/>
              <a:pathLst>
                <a:path w="338" h="345">
                  <a:moveTo>
                    <a:pt x="271" y="0"/>
                  </a:moveTo>
                  <a:cubicBezTo>
                    <a:pt x="233" y="3"/>
                    <a:pt x="194" y="2"/>
                    <a:pt x="156" y="8"/>
                  </a:cubicBezTo>
                  <a:cubicBezTo>
                    <a:pt x="130" y="13"/>
                    <a:pt x="129" y="33"/>
                    <a:pt x="115" y="49"/>
                  </a:cubicBezTo>
                  <a:cubicBezTo>
                    <a:pt x="83" y="86"/>
                    <a:pt x="82" y="85"/>
                    <a:pt x="49" y="107"/>
                  </a:cubicBezTo>
                  <a:cubicBezTo>
                    <a:pt x="28" y="142"/>
                    <a:pt x="10" y="166"/>
                    <a:pt x="0" y="205"/>
                  </a:cubicBezTo>
                  <a:cubicBezTo>
                    <a:pt x="3" y="232"/>
                    <a:pt x="1" y="260"/>
                    <a:pt x="8" y="287"/>
                  </a:cubicBezTo>
                  <a:cubicBezTo>
                    <a:pt x="16" y="321"/>
                    <a:pt x="92" y="324"/>
                    <a:pt x="115" y="328"/>
                  </a:cubicBezTo>
                  <a:cubicBezTo>
                    <a:pt x="129" y="334"/>
                    <a:pt x="141" y="345"/>
                    <a:pt x="156" y="345"/>
                  </a:cubicBezTo>
                  <a:cubicBezTo>
                    <a:pt x="237" y="345"/>
                    <a:pt x="303" y="257"/>
                    <a:pt x="329" y="189"/>
                  </a:cubicBezTo>
                  <a:cubicBezTo>
                    <a:pt x="325" y="142"/>
                    <a:pt x="338" y="88"/>
                    <a:pt x="312" y="49"/>
                  </a:cubicBezTo>
                  <a:cubicBezTo>
                    <a:pt x="296" y="25"/>
                    <a:pt x="271" y="34"/>
                    <a:pt x="271" y="0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95680" y="2271600"/>
              <a:ext cx="780840" cy="344160"/>
            </a:xfrm>
            <a:custGeom>
              <a:avLst/>
              <a:gdLst/>
              <a:ahLst/>
              <a:rect l="l" t="t" r="r" b="b"/>
              <a:pathLst>
                <a:path w="412" h="164">
                  <a:moveTo>
                    <a:pt x="412" y="164"/>
                  </a:moveTo>
                  <a:cubicBezTo>
                    <a:pt x="364" y="152"/>
                    <a:pt x="321" y="132"/>
                    <a:pt x="273" y="123"/>
                  </a:cubicBezTo>
                  <a:cubicBezTo>
                    <a:pt x="227" y="95"/>
                    <a:pt x="199" y="55"/>
                    <a:pt x="149" y="33"/>
                  </a:cubicBezTo>
                  <a:cubicBezTo>
                    <a:pt x="110" y="16"/>
                    <a:pt x="66" y="13"/>
                    <a:pt x="26" y="0"/>
                  </a:cubicBezTo>
                  <a:cubicBezTo>
                    <a:pt x="19" y="10"/>
                    <a:pt x="0" y="35"/>
                    <a:pt x="1" y="49"/>
                  </a:cubicBezTo>
                  <a:cubicBezTo>
                    <a:pt x="3" y="82"/>
                    <a:pt x="18" y="148"/>
                    <a:pt x="18" y="148"/>
                  </a:cubicBezTo>
                  <a:cubicBezTo>
                    <a:pt x="21" y="118"/>
                    <a:pt x="22" y="87"/>
                    <a:pt x="26" y="57"/>
                  </a:cubicBezTo>
                  <a:cubicBezTo>
                    <a:pt x="27" y="49"/>
                    <a:pt x="34" y="33"/>
                    <a:pt x="34" y="3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19600" y="3206520"/>
              <a:ext cx="420480" cy="155160"/>
            </a:xfrm>
            <a:custGeom>
              <a:avLst/>
              <a:gdLst/>
              <a:ahLst/>
              <a:rect l="l" t="t" r="r" b="b"/>
              <a:pathLst>
                <a:path w="222" h="74">
                  <a:moveTo>
                    <a:pt x="0" y="0"/>
                  </a:moveTo>
                  <a:cubicBezTo>
                    <a:pt x="30" y="42"/>
                    <a:pt x="19" y="55"/>
                    <a:pt x="74" y="73"/>
                  </a:cubicBezTo>
                  <a:cubicBezTo>
                    <a:pt x="118" y="70"/>
                    <a:pt x="163" y="74"/>
                    <a:pt x="206" y="65"/>
                  </a:cubicBezTo>
                  <a:cubicBezTo>
                    <a:pt x="215" y="63"/>
                    <a:pt x="222" y="41"/>
                    <a:pt x="222" y="41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29040" y="2104920"/>
              <a:ext cx="284040" cy="217080"/>
            </a:xfrm>
            <a:custGeom>
              <a:avLst/>
              <a:gdLst/>
              <a:ahLst/>
              <a:rect l="l" t="t" r="r" b="b"/>
              <a:pathLst>
                <a:path w="150" h="103">
                  <a:moveTo>
                    <a:pt x="0" y="38"/>
                  </a:moveTo>
                  <a:cubicBezTo>
                    <a:pt x="36" y="0"/>
                    <a:pt x="87" y="22"/>
                    <a:pt x="131" y="38"/>
                  </a:cubicBezTo>
                  <a:cubicBezTo>
                    <a:pt x="150" y="92"/>
                    <a:pt x="148" y="70"/>
                    <a:pt x="148" y="103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65520" y="2512800"/>
              <a:ext cx="268200" cy="271080"/>
            </a:xfrm>
            <a:custGeom>
              <a:avLst/>
              <a:gdLst/>
              <a:ahLst/>
              <a:rect l="l" t="t" r="r" b="b"/>
              <a:pathLst>
                <a:path w="141" h="129">
                  <a:moveTo>
                    <a:pt x="130" y="74"/>
                  </a:moveTo>
                  <a:cubicBezTo>
                    <a:pt x="121" y="28"/>
                    <a:pt x="119" y="24"/>
                    <a:pt x="81" y="0"/>
                  </a:cubicBezTo>
                  <a:cubicBezTo>
                    <a:pt x="36" y="22"/>
                    <a:pt x="0" y="27"/>
                    <a:pt x="56" y="115"/>
                  </a:cubicBezTo>
                  <a:cubicBezTo>
                    <a:pt x="65" y="129"/>
                    <a:pt x="89" y="110"/>
                    <a:pt x="106" y="107"/>
                  </a:cubicBezTo>
                  <a:cubicBezTo>
                    <a:pt x="112" y="101"/>
                    <a:pt x="141" y="79"/>
                    <a:pt x="114" y="66"/>
                  </a:cubicBezTo>
                  <a:cubicBezTo>
                    <a:pt x="106" y="62"/>
                    <a:pt x="97" y="71"/>
                    <a:pt x="89" y="74"/>
                  </a:cubicBezTo>
                  <a:cubicBezTo>
                    <a:pt x="92" y="85"/>
                    <a:pt x="88" y="101"/>
                    <a:pt x="98" y="107"/>
                  </a:cubicBezTo>
                  <a:cubicBezTo>
                    <a:pt x="128" y="124"/>
                    <a:pt x="134" y="86"/>
                    <a:pt x="139" y="74"/>
                  </a:cubicBezTo>
                  <a:cubicBezTo>
                    <a:pt x="138" y="73"/>
                    <a:pt x="106" y="36"/>
                    <a:pt x="98" y="49"/>
                  </a:cubicBezTo>
                  <a:cubicBezTo>
                    <a:pt x="92" y="59"/>
                    <a:pt x="103" y="71"/>
                    <a:pt x="106" y="82"/>
                  </a:cubicBezTo>
                  <a:cubicBezTo>
                    <a:pt x="77" y="109"/>
                    <a:pt x="82" y="102"/>
                    <a:pt x="130" y="74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52640" y="2028600"/>
              <a:ext cx="966960" cy="380880"/>
            </a:xfrm>
            <a:custGeom>
              <a:avLst/>
              <a:gdLst/>
              <a:ahLst/>
              <a:rect l="l" t="t" r="r" b="b"/>
              <a:pathLst>
                <a:path w="505" h="181">
                  <a:moveTo>
                    <a:pt x="107" y="0"/>
                  </a:moveTo>
                  <a:cubicBezTo>
                    <a:pt x="147" y="38"/>
                    <a:pt x="186" y="65"/>
                    <a:pt x="239" y="82"/>
                  </a:cubicBezTo>
                  <a:cubicBezTo>
                    <a:pt x="385" y="75"/>
                    <a:pt x="395" y="93"/>
                    <a:pt x="485" y="33"/>
                  </a:cubicBezTo>
                  <a:cubicBezTo>
                    <a:pt x="491" y="54"/>
                    <a:pt x="505" y="87"/>
                    <a:pt x="485" y="107"/>
                  </a:cubicBezTo>
                  <a:cubicBezTo>
                    <a:pt x="479" y="113"/>
                    <a:pt x="481" y="90"/>
                    <a:pt x="477" y="82"/>
                  </a:cubicBezTo>
                  <a:cubicBezTo>
                    <a:pt x="473" y="75"/>
                    <a:pt x="466" y="71"/>
                    <a:pt x="461" y="65"/>
                  </a:cubicBezTo>
                  <a:cubicBezTo>
                    <a:pt x="451" y="95"/>
                    <a:pt x="443" y="125"/>
                    <a:pt x="436" y="156"/>
                  </a:cubicBezTo>
                  <a:cubicBezTo>
                    <a:pt x="431" y="140"/>
                    <a:pt x="425" y="123"/>
                    <a:pt x="420" y="107"/>
                  </a:cubicBezTo>
                  <a:cubicBezTo>
                    <a:pt x="417" y="99"/>
                    <a:pt x="411" y="82"/>
                    <a:pt x="411" y="82"/>
                  </a:cubicBezTo>
                  <a:cubicBezTo>
                    <a:pt x="400" y="117"/>
                    <a:pt x="379" y="154"/>
                    <a:pt x="354" y="181"/>
                  </a:cubicBezTo>
                  <a:cubicBezTo>
                    <a:pt x="351" y="164"/>
                    <a:pt x="349" y="148"/>
                    <a:pt x="346" y="131"/>
                  </a:cubicBezTo>
                  <a:cubicBezTo>
                    <a:pt x="344" y="120"/>
                    <a:pt x="348" y="103"/>
                    <a:pt x="338" y="98"/>
                  </a:cubicBezTo>
                  <a:cubicBezTo>
                    <a:pt x="329" y="94"/>
                    <a:pt x="321" y="109"/>
                    <a:pt x="313" y="115"/>
                  </a:cubicBezTo>
                  <a:cubicBezTo>
                    <a:pt x="293" y="144"/>
                    <a:pt x="293" y="170"/>
                    <a:pt x="264" y="139"/>
                  </a:cubicBezTo>
                  <a:cubicBezTo>
                    <a:pt x="245" y="70"/>
                    <a:pt x="272" y="132"/>
                    <a:pt x="214" y="148"/>
                  </a:cubicBezTo>
                  <a:cubicBezTo>
                    <a:pt x="204" y="151"/>
                    <a:pt x="203" y="131"/>
                    <a:pt x="198" y="123"/>
                  </a:cubicBezTo>
                  <a:cubicBezTo>
                    <a:pt x="138" y="162"/>
                    <a:pt x="162" y="170"/>
                    <a:pt x="124" y="131"/>
                  </a:cubicBezTo>
                  <a:cubicBezTo>
                    <a:pt x="121" y="123"/>
                    <a:pt x="114" y="115"/>
                    <a:pt x="116" y="107"/>
                  </a:cubicBezTo>
                  <a:cubicBezTo>
                    <a:pt x="117" y="99"/>
                    <a:pt x="126" y="95"/>
                    <a:pt x="132" y="90"/>
                  </a:cubicBezTo>
                  <a:cubicBezTo>
                    <a:pt x="152" y="74"/>
                    <a:pt x="204" y="51"/>
                    <a:pt x="107" y="98"/>
                  </a:cubicBezTo>
                  <a:cubicBezTo>
                    <a:pt x="102" y="104"/>
                    <a:pt x="99" y="113"/>
                    <a:pt x="91" y="115"/>
                  </a:cubicBezTo>
                  <a:cubicBezTo>
                    <a:pt x="82" y="117"/>
                    <a:pt x="68" y="116"/>
                    <a:pt x="66" y="107"/>
                  </a:cubicBezTo>
                  <a:cubicBezTo>
                    <a:pt x="64" y="95"/>
                    <a:pt x="94" y="80"/>
                    <a:pt x="83" y="74"/>
                  </a:cubicBezTo>
                  <a:cubicBezTo>
                    <a:pt x="67" y="66"/>
                    <a:pt x="33" y="90"/>
                    <a:pt x="33" y="90"/>
                  </a:cubicBezTo>
                  <a:cubicBezTo>
                    <a:pt x="25" y="87"/>
                    <a:pt x="11" y="90"/>
                    <a:pt x="9" y="82"/>
                  </a:cubicBezTo>
                  <a:cubicBezTo>
                    <a:pt x="0" y="36"/>
                    <a:pt x="79" y="36"/>
                    <a:pt x="99" y="33"/>
                  </a:cubicBezTo>
                  <a:cubicBezTo>
                    <a:pt x="118" y="5"/>
                    <a:pt x="124" y="15"/>
                    <a:pt x="107" y="0"/>
                  </a:cubicBezTo>
                  <a:close/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93880" y="3200400"/>
              <a:ext cx="814680" cy="1460160"/>
            </a:xfrm>
            <a:custGeom>
              <a:avLst/>
              <a:gdLst/>
              <a:ahLst/>
              <a:rect l="l" t="t" r="r" b="b"/>
              <a:pathLst>
                <a:path w="430" h="693">
                  <a:moveTo>
                    <a:pt x="49" y="0"/>
                  </a:moveTo>
                  <a:cubicBezTo>
                    <a:pt x="43" y="154"/>
                    <a:pt x="29" y="294"/>
                    <a:pt x="0" y="444"/>
                  </a:cubicBezTo>
                  <a:cubicBezTo>
                    <a:pt x="6" y="520"/>
                    <a:pt x="3" y="608"/>
                    <a:pt x="90" y="641"/>
                  </a:cubicBezTo>
                  <a:cubicBezTo>
                    <a:pt x="123" y="653"/>
                    <a:pt x="156" y="661"/>
                    <a:pt x="189" y="674"/>
                  </a:cubicBezTo>
                  <a:cubicBezTo>
                    <a:pt x="205" y="680"/>
                    <a:pt x="238" y="690"/>
                    <a:pt x="238" y="690"/>
                  </a:cubicBezTo>
                  <a:cubicBezTo>
                    <a:pt x="285" y="685"/>
                    <a:pt x="335" y="693"/>
                    <a:pt x="378" y="674"/>
                  </a:cubicBezTo>
                  <a:cubicBezTo>
                    <a:pt x="430" y="652"/>
                    <a:pt x="329" y="608"/>
                    <a:pt x="328" y="608"/>
                  </a:cubicBezTo>
                  <a:cubicBezTo>
                    <a:pt x="291" y="582"/>
                    <a:pt x="255" y="556"/>
                    <a:pt x="230" y="517"/>
                  </a:cubicBezTo>
                  <a:cubicBezTo>
                    <a:pt x="212" y="426"/>
                    <a:pt x="238" y="336"/>
                    <a:pt x="238" y="246"/>
                  </a:cubicBezTo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73480" y="3773520"/>
              <a:ext cx="963720" cy="910800"/>
            </a:xfrm>
            <a:custGeom>
              <a:avLst/>
              <a:gdLst/>
              <a:ahLst/>
              <a:rect l="l" t="t" r="r" b="b"/>
              <a:pathLst>
                <a:path w="508" h="433">
                  <a:moveTo>
                    <a:pt x="220" y="164"/>
                  </a:moveTo>
                  <a:cubicBezTo>
                    <a:pt x="227" y="203"/>
                    <a:pt x="225" y="246"/>
                    <a:pt x="245" y="279"/>
                  </a:cubicBezTo>
                  <a:cubicBezTo>
                    <a:pt x="260" y="303"/>
                    <a:pt x="285" y="304"/>
                    <a:pt x="311" y="312"/>
                  </a:cubicBezTo>
                  <a:cubicBezTo>
                    <a:pt x="373" y="332"/>
                    <a:pt x="443" y="337"/>
                    <a:pt x="508" y="345"/>
                  </a:cubicBezTo>
                  <a:cubicBezTo>
                    <a:pt x="469" y="358"/>
                    <a:pt x="430" y="368"/>
                    <a:pt x="393" y="386"/>
                  </a:cubicBezTo>
                  <a:cubicBezTo>
                    <a:pt x="401" y="389"/>
                    <a:pt x="415" y="386"/>
                    <a:pt x="418" y="394"/>
                  </a:cubicBezTo>
                  <a:cubicBezTo>
                    <a:pt x="424" y="412"/>
                    <a:pt x="350" y="426"/>
                    <a:pt x="344" y="427"/>
                  </a:cubicBezTo>
                  <a:cubicBezTo>
                    <a:pt x="228" y="422"/>
                    <a:pt x="172" y="433"/>
                    <a:pt x="81" y="403"/>
                  </a:cubicBezTo>
                  <a:cubicBezTo>
                    <a:pt x="61" y="365"/>
                    <a:pt x="51" y="325"/>
                    <a:pt x="31" y="287"/>
                  </a:cubicBezTo>
                  <a:cubicBezTo>
                    <a:pt x="0" y="163"/>
                    <a:pt x="7" y="162"/>
                    <a:pt x="7" y="0"/>
                  </a:cubicBezTo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92560" y="3179520"/>
              <a:ext cx="561960" cy="406080"/>
            </a:xfrm>
            <a:custGeom>
              <a:avLst/>
              <a:gdLst/>
              <a:ahLst/>
              <a:rect l="l" t="t" r="r" b="b"/>
              <a:pathLst>
                <a:path w="296" h="193">
                  <a:moveTo>
                    <a:pt x="50" y="29"/>
                  </a:moveTo>
                  <a:cubicBezTo>
                    <a:pt x="112" y="14"/>
                    <a:pt x="176" y="15"/>
                    <a:pt x="239" y="4"/>
                  </a:cubicBezTo>
                  <a:cubicBezTo>
                    <a:pt x="247" y="7"/>
                    <a:pt x="269" y="7"/>
                    <a:pt x="263" y="13"/>
                  </a:cubicBezTo>
                  <a:cubicBezTo>
                    <a:pt x="251" y="25"/>
                    <a:pt x="214" y="29"/>
                    <a:pt x="214" y="29"/>
                  </a:cubicBezTo>
                  <a:cubicBezTo>
                    <a:pt x="193" y="114"/>
                    <a:pt x="210" y="0"/>
                    <a:pt x="280" y="70"/>
                  </a:cubicBezTo>
                  <a:cubicBezTo>
                    <a:pt x="292" y="82"/>
                    <a:pt x="247" y="81"/>
                    <a:pt x="230" y="86"/>
                  </a:cubicBezTo>
                  <a:cubicBezTo>
                    <a:pt x="222" y="89"/>
                    <a:pt x="214" y="92"/>
                    <a:pt x="206" y="95"/>
                  </a:cubicBezTo>
                  <a:cubicBezTo>
                    <a:pt x="211" y="103"/>
                    <a:pt x="213" y="115"/>
                    <a:pt x="222" y="119"/>
                  </a:cubicBezTo>
                  <a:cubicBezTo>
                    <a:pt x="296" y="152"/>
                    <a:pt x="271" y="100"/>
                    <a:pt x="288" y="152"/>
                  </a:cubicBezTo>
                  <a:cubicBezTo>
                    <a:pt x="268" y="173"/>
                    <a:pt x="277" y="169"/>
                    <a:pt x="247" y="177"/>
                  </a:cubicBezTo>
                  <a:cubicBezTo>
                    <a:pt x="225" y="183"/>
                    <a:pt x="181" y="193"/>
                    <a:pt x="181" y="193"/>
                  </a:cubicBezTo>
                  <a:cubicBezTo>
                    <a:pt x="156" y="190"/>
                    <a:pt x="131" y="191"/>
                    <a:pt x="107" y="185"/>
                  </a:cubicBezTo>
                  <a:cubicBezTo>
                    <a:pt x="98" y="183"/>
                    <a:pt x="92" y="173"/>
                    <a:pt x="83" y="169"/>
                  </a:cubicBezTo>
                  <a:cubicBezTo>
                    <a:pt x="56" y="155"/>
                    <a:pt x="30" y="152"/>
                    <a:pt x="0" y="152"/>
                  </a:cubicBezTo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89320" y="2962080"/>
              <a:ext cx="1633320" cy="953640"/>
            </a:xfrm>
            <a:custGeom>
              <a:avLst/>
              <a:gdLst/>
              <a:ahLst/>
              <a:rect l="l" t="t" r="r" b="b"/>
              <a:pathLst>
                <a:path w="862" h="453">
                  <a:moveTo>
                    <a:pt x="188" y="9"/>
                  </a:moveTo>
                  <a:cubicBezTo>
                    <a:pt x="175" y="36"/>
                    <a:pt x="168" y="65"/>
                    <a:pt x="155" y="91"/>
                  </a:cubicBezTo>
                  <a:cubicBezTo>
                    <a:pt x="141" y="119"/>
                    <a:pt x="118" y="141"/>
                    <a:pt x="98" y="165"/>
                  </a:cubicBezTo>
                  <a:cubicBezTo>
                    <a:pt x="89" y="176"/>
                    <a:pt x="81" y="187"/>
                    <a:pt x="73" y="198"/>
                  </a:cubicBezTo>
                  <a:cubicBezTo>
                    <a:pt x="62" y="214"/>
                    <a:pt x="40" y="247"/>
                    <a:pt x="40" y="247"/>
                  </a:cubicBezTo>
                  <a:cubicBezTo>
                    <a:pt x="0" y="372"/>
                    <a:pt x="109" y="318"/>
                    <a:pt x="221" y="313"/>
                  </a:cubicBezTo>
                  <a:cubicBezTo>
                    <a:pt x="246" y="316"/>
                    <a:pt x="271" y="314"/>
                    <a:pt x="295" y="321"/>
                  </a:cubicBezTo>
                  <a:cubicBezTo>
                    <a:pt x="308" y="325"/>
                    <a:pt x="316" y="339"/>
                    <a:pt x="328" y="346"/>
                  </a:cubicBezTo>
                  <a:cubicBezTo>
                    <a:pt x="376" y="372"/>
                    <a:pt x="431" y="406"/>
                    <a:pt x="484" y="420"/>
                  </a:cubicBezTo>
                  <a:cubicBezTo>
                    <a:pt x="577" y="414"/>
                    <a:pt x="645" y="403"/>
                    <a:pt x="730" y="436"/>
                  </a:cubicBezTo>
                  <a:cubicBezTo>
                    <a:pt x="839" y="427"/>
                    <a:pt x="848" y="453"/>
                    <a:pt x="862" y="354"/>
                  </a:cubicBezTo>
                  <a:cubicBezTo>
                    <a:pt x="800" y="288"/>
                    <a:pt x="860" y="344"/>
                    <a:pt x="648" y="329"/>
                  </a:cubicBezTo>
                  <a:cubicBezTo>
                    <a:pt x="572" y="324"/>
                    <a:pt x="497" y="278"/>
                    <a:pt x="426" y="255"/>
                  </a:cubicBezTo>
                  <a:cubicBezTo>
                    <a:pt x="401" y="230"/>
                    <a:pt x="380" y="225"/>
                    <a:pt x="352" y="206"/>
                  </a:cubicBezTo>
                  <a:cubicBezTo>
                    <a:pt x="327" y="189"/>
                    <a:pt x="308" y="170"/>
                    <a:pt x="287" y="148"/>
                  </a:cubicBezTo>
                  <a:cubicBezTo>
                    <a:pt x="276" y="118"/>
                    <a:pt x="260" y="98"/>
                    <a:pt x="254" y="66"/>
                  </a:cubicBezTo>
                  <a:cubicBezTo>
                    <a:pt x="251" y="50"/>
                    <a:pt x="254" y="31"/>
                    <a:pt x="246" y="17"/>
                  </a:cubicBezTo>
                  <a:cubicBezTo>
                    <a:pt x="237" y="2"/>
                    <a:pt x="213" y="6"/>
                    <a:pt x="196" y="0"/>
                  </a:cubicBezTo>
                  <a:cubicBezTo>
                    <a:pt x="185" y="3"/>
                    <a:pt x="170" y="0"/>
                    <a:pt x="163" y="9"/>
                  </a:cubicBezTo>
                  <a:cubicBezTo>
                    <a:pt x="158" y="16"/>
                    <a:pt x="169" y="25"/>
                    <a:pt x="172" y="33"/>
                  </a:cubicBezTo>
                  <a:cubicBezTo>
                    <a:pt x="175" y="41"/>
                    <a:pt x="180" y="58"/>
                    <a:pt x="180" y="58"/>
                  </a:cubicBezTo>
                </a:path>
              </a:pathLst>
            </a:custGeom>
            <a:solidFill>
              <a:srgbClr val="99663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79920" y="3876480"/>
              <a:ext cx="25200" cy="326880"/>
            </a:xfrm>
            <a:custGeom>
              <a:avLst/>
              <a:gdLst/>
              <a:ahLst/>
              <a:rect l="l" t="t" r="r" b="b"/>
              <a:pathLst>
                <a:path w="16" h="206">
                  <a:moveTo>
                    <a:pt x="16" y="206"/>
                  </a:moveTo>
                  <a:cubicBezTo>
                    <a:pt x="8" y="138"/>
                    <a:pt x="0" y="69"/>
                    <a:pt x="0" y="0"/>
                  </a:cubicBezTo>
                </a:path>
              </a:pathLst>
            </a:custGeom>
            <a:solidFill>
              <a:srgbClr val="9966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68520" y="3814560"/>
              <a:ext cx="312840" cy="375840"/>
            </a:xfrm>
            <a:custGeom>
              <a:avLst/>
              <a:gdLst/>
              <a:ahLst/>
              <a:rect l="l" t="t" r="r" b="b"/>
              <a:pathLst>
                <a:path w="197" h="237">
                  <a:moveTo>
                    <a:pt x="15" y="23"/>
                  </a:moveTo>
                  <a:cubicBezTo>
                    <a:pt x="75" y="3"/>
                    <a:pt x="75" y="0"/>
                    <a:pt x="179" y="23"/>
                  </a:cubicBezTo>
                  <a:cubicBezTo>
                    <a:pt x="181" y="23"/>
                    <a:pt x="192" y="65"/>
                    <a:pt x="196" y="81"/>
                  </a:cubicBezTo>
                  <a:cubicBezTo>
                    <a:pt x="193" y="130"/>
                    <a:pt x="197" y="180"/>
                    <a:pt x="187" y="228"/>
                  </a:cubicBezTo>
                  <a:cubicBezTo>
                    <a:pt x="185" y="237"/>
                    <a:pt x="175" y="213"/>
                    <a:pt x="171" y="204"/>
                  </a:cubicBezTo>
                  <a:cubicBezTo>
                    <a:pt x="167" y="196"/>
                    <a:pt x="166" y="187"/>
                    <a:pt x="163" y="179"/>
                  </a:cubicBezTo>
                  <a:cubicBezTo>
                    <a:pt x="152" y="148"/>
                    <a:pt x="140" y="140"/>
                    <a:pt x="113" y="122"/>
                  </a:cubicBezTo>
                  <a:cubicBezTo>
                    <a:pt x="92" y="89"/>
                    <a:pt x="61" y="68"/>
                    <a:pt x="23" y="56"/>
                  </a:cubicBezTo>
                  <a:cubicBezTo>
                    <a:pt x="5" y="28"/>
                    <a:pt x="0" y="38"/>
                    <a:pt x="15" y="23"/>
                  </a:cubicBez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95480" y="2816280"/>
              <a:ext cx="782640" cy="772560"/>
            </a:xfrm>
            <a:custGeom>
              <a:avLst/>
              <a:gdLst/>
              <a:ahLst/>
              <a:rect l="l" t="t" r="r" b="b"/>
              <a:pathLst>
                <a:path w="493" h="487">
                  <a:moveTo>
                    <a:pt x="461" y="69"/>
                  </a:moveTo>
                  <a:cubicBezTo>
                    <a:pt x="435" y="43"/>
                    <a:pt x="403" y="39"/>
                    <a:pt x="370" y="27"/>
                  </a:cubicBezTo>
                  <a:cubicBezTo>
                    <a:pt x="318" y="46"/>
                    <a:pt x="269" y="103"/>
                    <a:pt x="222" y="126"/>
                  </a:cubicBezTo>
                  <a:cubicBezTo>
                    <a:pt x="168" y="152"/>
                    <a:pt x="99" y="161"/>
                    <a:pt x="41" y="167"/>
                  </a:cubicBezTo>
                  <a:cubicBezTo>
                    <a:pt x="21" y="188"/>
                    <a:pt x="10" y="206"/>
                    <a:pt x="0" y="233"/>
                  </a:cubicBezTo>
                  <a:cubicBezTo>
                    <a:pt x="8" y="238"/>
                    <a:pt x="15" y="248"/>
                    <a:pt x="25" y="249"/>
                  </a:cubicBezTo>
                  <a:cubicBezTo>
                    <a:pt x="123" y="254"/>
                    <a:pt x="207" y="225"/>
                    <a:pt x="132" y="249"/>
                  </a:cubicBezTo>
                  <a:cubicBezTo>
                    <a:pt x="116" y="266"/>
                    <a:pt x="100" y="282"/>
                    <a:pt x="83" y="299"/>
                  </a:cubicBezTo>
                  <a:cubicBezTo>
                    <a:pt x="77" y="305"/>
                    <a:pt x="66" y="315"/>
                    <a:pt x="66" y="315"/>
                  </a:cubicBezTo>
                  <a:cubicBezTo>
                    <a:pt x="114" y="386"/>
                    <a:pt x="195" y="326"/>
                    <a:pt x="239" y="282"/>
                  </a:cubicBezTo>
                  <a:cubicBezTo>
                    <a:pt x="225" y="324"/>
                    <a:pt x="212" y="366"/>
                    <a:pt x="189" y="405"/>
                  </a:cubicBezTo>
                  <a:cubicBezTo>
                    <a:pt x="184" y="414"/>
                    <a:pt x="177" y="421"/>
                    <a:pt x="173" y="430"/>
                  </a:cubicBezTo>
                  <a:cubicBezTo>
                    <a:pt x="169" y="438"/>
                    <a:pt x="169" y="447"/>
                    <a:pt x="165" y="455"/>
                  </a:cubicBezTo>
                  <a:cubicBezTo>
                    <a:pt x="161" y="464"/>
                    <a:pt x="141" y="472"/>
                    <a:pt x="148" y="479"/>
                  </a:cubicBezTo>
                  <a:cubicBezTo>
                    <a:pt x="156" y="487"/>
                    <a:pt x="170" y="474"/>
                    <a:pt x="181" y="471"/>
                  </a:cubicBezTo>
                  <a:cubicBezTo>
                    <a:pt x="197" y="466"/>
                    <a:pt x="214" y="460"/>
                    <a:pt x="230" y="455"/>
                  </a:cubicBezTo>
                  <a:cubicBezTo>
                    <a:pt x="287" y="436"/>
                    <a:pt x="315" y="387"/>
                    <a:pt x="354" y="348"/>
                  </a:cubicBezTo>
                  <a:cubicBezTo>
                    <a:pt x="381" y="321"/>
                    <a:pt x="412" y="295"/>
                    <a:pt x="444" y="274"/>
                  </a:cubicBezTo>
                  <a:cubicBezTo>
                    <a:pt x="459" y="226"/>
                    <a:pt x="481" y="183"/>
                    <a:pt x="493" y="134"/>
                  </a:cubicBezTo>
                  <a:cubicBezTo>
                    <a:pt x="490" y="117"/>
                    <a:pt x="486" y="86"/>
                    <a:pt x="477" y="69"/>
                  </a:cubicBezTo>
                  <a:cubicBezTo>
                    <a:pt x="466" y="46"/>
                    <a:pt x="409" y="0"/>
                    <a:pt x="461" y="69"/>
                  </a:cubicBez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1371600" y="1676520"/>
            <a:ext cx="1849320" cy="2574720"/>
          </a:xfrm>
          <a:custGeom>
            <a:avLst/>
            <a:gdLst/>
            <a:ahLst/>
            <a:rect l="l" t="t" r="r" b="b"/>
            <a:pathLst>
              <a:path w="1165" h="1622">
                <a:moveTo>
                  <a:pt x="72" y="135"/>
                </a:moveTo>
                <a:cubicBezTo>
                  <a:pt x="75" y="97"/>
                  <a:pt x="69" y="57"/>
                  <a:pt x="80" y="20"/>
                </a:cubicBezTo>
                <a:cubicBezTo>
                  <a:pt x="83" y="12"/>
                  <a:pt x="103" y="19"/>
                  <a:pt x="105" y="28"/>
                </a:cubicBezTo>
                <a:cubicBezTo>
                  <a:pt x="118" y="97"/>
                  <a:pt x="111" y="97"/>
                  <a:pt x="80" y="126"/>
                </a:cubicBezTo>
                <a:cubicBezTo>
                  <a:pt x="66" y="123"/>
                  <a:pt x="50" y="126"/>
                  <a:pt x="39" y="118"/>
                </a:cubicBezTo>
                <a:cubicBezTo>
                  <a:pt x="0" y="90"/>
                  <a:pt x="31" y="52"/>
                  <a:pt x="56" y="36"/>
                </a:cubicBezTo>
                <a:cubicBezTo>
                  <a:pt x="78" y="39"/>
                  <a:pt x="107" y="27"/>
                  <a:pt x="121" y="44"/>
                </a:cubicBezTo>
                <a:cubicBezTo>
                  <a:pt x="134" y="59"/>
                  <a:pt x="126" y="87"/>
                  <a:pt x="113" y="102"/>
                </a:cubicBezTo>
                <a:cubicBezTo>
                  <a:pt x="106" y="111"/>
                  <a:pt x="91" y="96"/>
                  <a:pt x="80" y="93"/>
                </a:cubicBezTo>
                <a:cubicBezTo>
                  <a:pt x="71" y="67"/>
                  <a:pt x="58" y="40"/>
                  <a:pt x="80" y="11"/>
                </a:cubicBezTo>
                <a:cubicBezTo>
                  <a:pt x="88" y="0"/>
                  <a:pt x="107" y="6"/>
                  <a:pt x="121" y="3"/>
                </a:cubicBezTo>
                <a:cubicBezTo>
                  <a:pt x="191" y="13"/>
                  <a:pt x="240" y="30"/>
                  <a:pt x="277" y="93"/>
                </a:cubicBezTo>
                <a:cubicBezTo>
                  <a:pt x="283" y="104"/>
                  <a:pt x="286" y="116"/>
                  <a:pt x="294" y="126"/>
                </a:cubicBezTo>
                <a:cubicBezTo>
                  <a:pt x="309" y="144"/>
                  <a:pt x="343" y="176"/>
                  <a:pt x="343" y="176"/>
                </a:cubicBezTo>
                <a:cubicBezTo>
                  <a:pt x="362" y="234"/>
                  <a:pt x="374" y="289"/>
                  <a:pt x="409" y="340"/>
                </a:cubicBezTo>
                <a:cubicBezTo>
                  <a:pt x="438" y="429"/>
                  <a:pt x="472" y="496"/>
                  <a:pt x="549" y="554"/>
                </a:cubicBezTo>
                <a:cubicBezTo>
                  <a:pt x="566" y="552"/>
                  <a:pt x="698" y="558"/>
                  <a:pt x="639" y="496"/>
                </a:cubicBezTo>
                <a:cubicBezTo>
                  <a:pt x="588" y="550"/>
                  <a:pt x="609" y="615"/>
                  <a:pt x="623" y="693"/>
                </a:cubicBezTo>
                <a:cubicBezTo>
                  <a:pt x="627" y="717"/>
                  <a:pt x="644" y="737"/>
                  <a:pt x="655" y="759"/>
                </a:cubicBezTo>
                <a:cubicBezTo>
                  <a:pt x="719" y="889"/>
                  <a:pt x="903" y="931"/>
                  <a:pt x="1034" y="956"/>
                </a:cubicBezTo>
                <a:cubicBezTo>
                  <a:pt x="1059" y="953"/>
                  <a:pt x="1085" y="957"/>
                  <a:pt x="1108" y="948"/>
                </a:cubicBezTo>
                <a:cubicBezTo>
                  <a:pt x="1130" y="940"/>
                  <a:pt x="1165" y="907"/>
                  <a:pt x="1165" y="907"/>
                </a:cubicBezTo>
                <a:cubicBezTo>
                  <a:pt x="1160" y="1025"/>
                  <a:pt x="1162" y="1143"/>
                  <a:pt x="1149" y="1260"/>
                </a:cubicBezTo>
                <a:cubicBezTo>
                  <a:pt x="1147" y="1277"/>
                  <a:pt x="1113" y="1261"/>
                  <a:pt x="1099" y="1252"/>
                </a:cubicBezTo>
                <a:cubicBezTo>
                  <a:pt x="1109" y="1210"/>
                  <a:pt x="1110" y="1126"/>
                  <a:pt x="1157" y="1195"/>
                </a:cubicBezTo>
                <a:cubicBezTo>
                  <a:pt x="1140" y="1317"/>
                  <a:pt x="1139" y="1325"/>
                  <a:pt x="1083" y="1417"/>
                </a:cubicBezTo>
                <a:cubicBezTo>
                  <a:pt x="1061" y="1556"/>
                  <a:pt x="1066" y="1487"/>
                  <a:pt x="1066" y="1622"/>
                </a:cubicBezTo>
              </a:path>
            </a:pathLst>
          </a:custGeom>
          <a:noFill/>
          <a:ln w="284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52280" y="152280"/>
            <a:ext cx="8839440" cy="1911600"/>
            <a:chOff x="152280" y="152280"/>
            <a:chExt cx="8839440" cy="1911600"/>
          </a:xfrm>
        </p:grpSpPr>
        <p:sp>
          <p:nvSpPr>
            <p:cNvPr id="196" name=""/>
            <p:cNvSpPr/>
            <p:nvPr/>
          </p:nvSpPr>
          <p:spPr>
            <a:xfrm>
              <a:off x="152280" y="152280"/>
              <a:ext cx="8839440" cy="9144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380880" y="228600"/>
              <a:ext cx="58676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8440">
                    <a:solidFill>
                      <a:srgbClr val="ff3300"/>
                    </a:solidFill>
                    <a:miter/>
                  </a:ln>
                  <a:solidFill>
                    <a:srgbClr val="ffffff"/>
                  </a:solidFill>
                  <a:latin typeface="Broadway BT"/>
                </a:rPr>
                <a:t>FRA MARTINO</a:t>
              </a:r>
              <a:endParaRPr b="0" lang="en-US" sz="2400" spc="1" strike="noStrike">
                <a:ln w="28440">
                  <a:solidFill>
                    <a:srgbClr val="ff3300"/>
                  </a:solidFill>
                  <a:miter/>
                </a:ln>
                <a:solidFill>
                  <a:srgbClr val="ffffff"/>
                </a:solidFill>
                <a:latin typeface="Broadway BT"/>
                <a:ea typeface="Broadway BT"/>
              </a:endParaRPr>
            </a:p>
          </p:txBody>
        </p:sp>
        <p:graphicFrame>
          <p:nvGraphicFramePr>
            <p:cNvPr id="198" name=""/>
            <p:cNvGraphicFramePr/>
            <p:nvPr/>
          </p:nvGraphicFramePr>
          <p:xfrm>
            <a:off x="6781680" y="457200"/>
            <a:ext cx="1605240" cy="1606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781680" y="457200"/>
                      <a:ext cx="1605240" cy="160668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</p:spTree>
  </p:cSld>
  <p:transition advTm="3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14400" y="1676520"/>
            <a:ext cx="8167680" cy="4178160"/>
          </a:xfrm>
          <a:custGeom>
            <a:avLst/>
            <a:gdLst/>
            <a:ahLst/>
            <a:rect l="l" t="t" r="r" b="b"/>
            <a:pathLst>
              <a:path w="5145" h="2632">
                <a:moveTo>
                  <a:pt x="0" y="446"/>
                </a:moveTo>
                <a:cubicBezTo>
                  <a:pt x="14" y="251"/>
                  <a:pt x="32" y="111"/>
                  <a:pt x="239" y="35"/>
                </a:cubicBezTo>
                <a:cubicBezTo>
                  <a:pt x="286" y="18"/>
                  <a:pt x="337" y="13"/>
                  <a:pt x="386" y="2"/>
                </a:cubicBezTo>
                <a:cubicBezTo>
                  <a:pt x="753" y="23"/>
                  <a:pt x="1002" y="0"/>
                  <a:pt x="1233" y="306"/>
                </a:cubicBezTo>
                <a:cubicBezTo>
                  <a:pt x="1243" y="376"/>
                  <a:pt x="1261" y="449"/>
                  <a:pt x="1241" y="520"/>
                </a:cubicBezTo>
                <a:cubicBezTo>
                  <a:pt x="1204" y="649"/>
                  <a:pt x="1184" y="599"/>
                  <a:pt x="1110" y="709"/>
                </a:cubicBezTo>
                <a:cubicBezTo>
                  <a:pt x="1088" y="742"/>
                  <a:pt x="1077" y="780"/>
                  <a:pt x="1060" y="816"/>
                </a:cubicBezTo>
                <a:cubicBezTo>
                  <a:pt x="1045" y="889"/>
                  <a:pt x="1015" y="978"/>
                  <a:pt x="1044" y="1054"/>
                </a:cubicBezTo>
                <a:cubicBezTo>
                  <a:pt x="1101" y="1204"/>
                  <a:pt x="1400" y="1438"/>
                  <a:pt x="1537" y="1490"/>
                </a:cubicBezTo>
                <a:cubicBezTo>
                  <a:pt x="1615" y="1519"/>
                  <a:pt x="1702" y="1512"/>
                  <a:pt x="1784" y="1523"/>
                </a:cubicBezTo>
                <a:cubicBezTo>
                  <a:pt x="2041" y="1460"/>
                  <a:pt x="2101" y="1449"/>
                  <a:pt x="2277" y="1260"/>
                </a:cubicBezTo>
                <a:cubicBezTo>
                  <a:pt x="2330" y="1123"/>
                  <a:pt x="2405" y="869"/>
                  <a:pt x="2236" y="783"/>
                </a:cubicBezTo>
                <a:cubicBezTo>
                  <a:pt x="2148" y="802"/>
                  <a:pt x="2056" y="805"/>
                  <a:pt x="1973" y="840"/>
                </a:cubicBezTo>
                <a:cubicBezTo>
                  <a:pt x="1867" y="885"/>
                  <a:pt x="1794" y="994"/>
                  <a:pt x="1726" y="1079"/>
                </a:cubicBezTo>
                <a:cubicBezTo>
                  <a:pt x="1710" y="1143"/>
                  <a:pt x="1681" y="1196"/>
                  <a:pt x="1718" y="1260"/>
                </a:cubicBezTo>
                <a:cubicBezTo>
                  <a:pt x="1785" y="1377"/>
                  <a:pt x="1985" y="1527"/>
                  <a:pt x="2112" y="1564"/>
                </a:cubicBezTo>
                <a:cubicBezTo>
                  <a:pt x="2176" y="1583"/>
                  <a:pt x="2244" y="1580"/>
                  <a:pt x="2310" y="1588"/>
                </a:cubicBezTo>
                <a:cubicBezTo>
                  <a:pt x="2504" y="1565"/>
                  <a:pt x="2691" y="1524"/>
                  <a:pt x="2885" y="1498"/>
                </a:cubicBezTo>
                <a:cubicBezTo>
                  <a:pt x="3031" y="1506"/>
                  <a:pt x="3079" y="1481"/>
                  <a:pt x="3132" y="1621"/>
                </a:cubicBezTo>
                <a:cubicBezTo>
                  <a:pt x="3124" y="1690"/>
                  <a:pt x="3128" y="1761"/>
                  <a:pt x="3107" y="1827"/>
                </a:cubicBezTo>
                <a:cubicBezTo>
                  <a:pt x="3069" y="1944"/>
                  <a:pt x="2887" y="2059"/>
                  <a:pt x="2770" y="2073"/>
                </a:cubicBezTo>
                <a:cubicBezTo>
                  <a:pt x="2702" y="2029"/>
                  <a:pt x="2825" y="1876"/>
                  <a:pt x="2844" y="1851"/>
                </a:cubicBezTo>
                <a:cubicBezTo>
                  <a:pt x="2980" y="1671"/>
                  <a:pt x="3203" y="1547"/>
                  <a:pt x="3427" y="1514"/>
                </a:cubicBezTo>
                <a:cubicBezTo>
                  <a:pt x="3506" y="1502"/>
                  <a:pt x="3666" y="1498"/>
                  <a:pt x="3666" y="1498"/>
                </a:cubicBezTo>
                <a:cubicBezTo>
                  <a:pt x="3822" y="1518"/>
                  <a:pt x="3937" y="1524"/>
                  <a:pt x="4077" y="1588"/>
                </a:cubicBezTo>
                <a:cubicBezTo>
                  <a:pt x="4141" y="1653"/>
                  <a:pt x="4187" y="1691"/>
                  <a:pt x="4233" y="1769"/>
                </a:cubicBezTo>
                <a:cubicBezTo>
                  <a:pt x="4299" y="1882"/>
                  <a:pt x="4298" y="1927"/>
                  <a:pt x="4414" y="1999"/>
                </a:cubicBezTo>
                <a:cubicBezTo>
                  <a:pt x="4458" y="1991"/>
                  <a:pt x="4506" y="1995"/>
                  <a:pt x="4545" y="1975"/>
                </a:cubicBezTo>
                <a:cubicBezTo>
                  <a:pt x="4706" y="1891"/>
                  <a:pt x="4882" y="1741"/>
                  <a:pt x="5030" y="1629"/>
                </a:cubicBezTo>
                <a:cubicBezTo>
                  <a:pt x="5145" y="2101"/>
                  <a:pt x="4600" y="2301"/>
                  <a:pt x="4241" y="2361"/>
                </a:cubicBezTo>
                <a:cubicBezTo>
                  <a:pt x="4126" y="2350"/>
                  <a:pt x="4009" y="2351"/>
                  <a:pt x="3896" y="2328"/>
                </a:cubicBezTo>
                <a:cubicBezTo>
                  <a:pt x="3808" y="2310"/>
                  <a:pt x="3624" y="2154"/>
                  <a:pt x="3559" y="2147"/>
                </a:cubicBezTo>
                <a:cubicBezTo>
                  <a:pt x="3469" y="2137"/>
                  <a:pt x="3509" y="2143"/>
                  <a:pt x="3436" y="2131"/>
                </a:cubicBezTo>
                <a:cubicBezTo>
                  <a:pt x="3285" y="2180"/>
                  <a:pt x="3207" y="2310"/>
                  <a:pt x="3099" y="2427"/>
                </a:cubicBezTo>
                <a:cubicBezTo>
                  <a:pt x="2971" y="2566"/>
                  <a:pt x="2737" y="2603"/>
                  <a:pt x="2564" y="2632"/>
                </a:cubicBezTo>
                <a:cubicBezTo>
                  <a:pt x="2427" y="2599"/>
                  <a:pt x="2280" y="2593"/>
                  <a:pt x="2153" y="2533"/>
                </a:cubicBezTo>
                <a:cubicBezTo>
                  <a:pt x="2022" y="2471"/>
                  <a:pt x="1939" y="2336"/>
                  <a:pt x="1825" y="2246"/>
                </a:cubicBezTo>
                <a:cubicBezTo>
                  <a:pt x="1740" y="2097"/>
                  <a:pt x="1817" y="1989"/>
                  <a:pt x="1940" y="1884"/>
                </a:cubicBezTo>
                <a:cubicBezTo>
                  <a:pt x="2104" y="1743"/>
                  <a:pt x="2172" y="1733"/>
                  <a:pt x="2285" y="1555"/>
                </a:cubicBezTo>
                <a:cubicBezTo>
                  <a:pt x="2327" y="1389"/>
                  <a:pt x="2338" y="1181"/>
                  <a:pt x="2203" y="1054"/>
                </a:cubicBezTo>
                <a:cubicBezTo>
                  <a:pt x="2153" y="1007"/>
                  <a:pt x="2076" y="1001"/>
                  <a:pt x="2014" y="988"/>
                </a:cubicBezTo>
                <a:cubicBezTo>
                  <a:pt x="1784" y="1003"/>
                  <a:pt x="1578" y="1100"/>
                  <a:pt x="1381" y="1219"/>
                </a:cubicBezTo>
                <a:cubicBezTo>
                  <a:pt x="1181" y="1340"/>
                  <a:pt x="1083" y="1438"/>
                  <a:pt x="863" y="1481"/>
                </a:cubicBezTo>
                <a:cubicBezTo>
                  <a:pt x="774" y="1475"/>
                  <a:pt x="701" y="1484"/>
                  <a:pt x="625" y="1424"/>
                </a:cubicBezTo>
                <a:cubicBezTo>
                  <a:pt x="523" y="1343"/>
                  <a:pt x="466" y="1176"/>
                  <a:pt x="419" y="1062"/>
                </a:cubicBezTo>
                <a:cubicBezTo>
                  <a:pt x="406" y="953"/>
                  <a:pt x="383" y="823"/>
                  <a:pt x="411" y="717"/>
                </a:cubicBezTo>
                <a:cubicBezTo>
                  <a:pt x="431" y="640"/>
                  <a:pt x="609" y="605"/>
                  <a:pt x="641" y="594"/>
                </a:cubicBezTo>
                <a:cubicBezTo>
                  <a:pt x="666" y="586"/>
                  <a:pt x="715" y="569"/>
                  <a:pt x="715" y="569"/>
                </a:cubicBezTo>
                <a:cubicBezTo>
                  <a:pt x="776" y="519"/>
                  <a:pt x="803" y="488"/>
                  <a:pt x="830" y="413"/>
                </a:cubicBezTo>
                <a:cubicBezTo>
                  <a:pt x="837" y="362"/>
                  <a:pt x="851" y="323"/>
                  <a:pt x="814" y="273"/>
                </a:cubicBezTo>
                <a:cubicBezTo>
                  <a:pt x="804" y="259"/>
                  <a:pt x="781" y="262"/>
                  <a:pt x="765" y="257"/>
                </a:cubicBezTo>
                <a:cubicBezTo>
                  <a:pt x="533" y="276"/>
                  <a:pt x="311" y="331"/>
                  <a:pt x="82" y="356"/>
                </a:cubicBezTo>
                <a:cubicBezTo>
                  <a:pt x="78" y="362"/>
                  <a:pt x="0" y="484"/>
                  <a:pt x="0" y="446"/>
                </a:cubicBez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2438280"/>
            <a:ext cx="38862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y"/>
              </a:rPr>
              <a:t>DIN DON D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dy"/>
              </a:rPr>
              <a:t>DIN DON D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04920" y="1600200"/>
          <a:ext cx="2743200" cy="217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2743200" cy="21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5791320" y="4178160"/>
          <a:ext cx="3047760" cy="241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4178160"/>
                    <a:ext cx="3047760" cy="24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6" name=""/>
          <p:cNvGrpSpPr/>
          <p:nvPr/>
        </p:nvGrpSpPr>
        <p:grpSpPr>
          <a:xfrm>
            <a:off x="152280" y="152280"/>
            <a:ext cx="8839440" cy="1911600"/>
            <a:chOff x="152280" y="152280"/>
            <a:chExt cx="8839440" cy="1911600"/>
          </a:xfrm>
        </p:grpSpPr>
        <p:sp>
          <p:nvSpPr>
            <p:cNvPr id="207" name=""/>
            <p:cNvSpPr/>
            <p:nvPr/>
          </p:nvSpPr>
          <p:spPr>
            <a:xfrm>
              <a:off x="152280" y="152280"/>
              <a:ext cx="8839440" cy="91440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>
              <a:off x="380880" y="228600"/>
              <a:ext cx="58676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8440">
                    <a:solidFill>
                      <a:srgbClr val="ff3300"/>
                    </a:solidFill>
                    <a:miter/>
                  </a:ln>
                  <a:solidFill>
                    <a:srgbClr val="ffffff"/>
                  </a:solidFill>
                  <a:latin typeface="Broadway BT"/>
                </a:rPr>
                <a:t>FRA MARTINO</a:t>
              </a:r>
              <a:endParaRPr b="0" lang="en-US" sz="2400" spc="1" strike="noStrike">
                <a:ln w="28440">
                  <a:solidFill>
                    <a:srgbClr val="ff3300"/>
                  </a:solidFill>
                  <a:miter/>
                </a:ln>
                <a:solidFill>
                  <a:srgbClr val="ffffff"/>
                </a:solidFill>
                <a:latin typeface="Broadway BT"/>
                <a:ea typeface="Broadway BT"/>
              </a:endParaRPr>
            </a:p>
          </p:txBody>
        </p:sp>
        <p:graphicFrame>
          <p:nvGraphicFramePr>
            <p:cNvPr id="209" name=""/>
            <p:cNvGraphicFramePr/>
            <p:nvPr/>
          </p:nvGraphicFramePr>
          <p:xfrm>
            <a:off x="6781680" y="457200"/>
            <a:ext cx="1605240" cy="1606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781680" y="457200"/>
                      <a:ext cx="1605240" cy="160668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</p:grpSp>
    </p:spTree>
  </p:cSld>
  <p:transition advTm="3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01:25:30Z</dcterms:created>
  <dc:creator>Preferred Customer</dc:creator>
  <dc:description/>
  <dc:language>en-US</dc:language>
  <cp:lastModifiedBy>VALERIA PALLADINO</cp:lastModifiedBy>
  <cp:lastPrinted>2003-03-21T01:56:07Z</cp:lastPrinted>
  <dcterms:modified xsi:type="dcterms:W3CDTF">2003-04-02T22:47:07Z</dcterms:modified>
  <cp:revision>5</cp:revision>
  <dc:subject/>
  <dc:title>No Slide Title</dc:title>
</cp:coreProperties>
</file>